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55D-7730-4433-9CC6-AC6D92F1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9BC-87E8-4E07-8FD8-00966CC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188-2E9F-4AF1-8CE5-AA60D30B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983-A0E4-4438-81A1-81DDCD50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198-8000-4E3F-9E8B-A2727DC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DE3-91B6-4DD0-A5E5-B76F731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2DE-0177-49FB-AA30-7E1E899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EA5-52D2-47A7-9622-0D0A61C2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BE4-34CF-489B-A20B-AE30AC14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F31-CCA0-4B9D-ABEE-729F32FB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8DB-4301-4CBB-B65A-41A3E2C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FB8-0DE0-4D84-AA96-85AE1D70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4FF-8CDA-4593-B518-BF97F7E22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628640"/>
            <a:ext cx="6337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Finanční řízení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1532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428-A512-44D6-B758-E9C6F77A52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Hlavní zásady finančn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prostředky musí být vynakládány efektivně na projekty, které přispějí k realizaci cílů OP R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financování projektů se sdružují prostředky EU a státního rozpočtu v poměru 75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být financován jen z jednoho Strukturálního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í být dodržen zákon o rozpočtových pravidlech 218/2000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7FF-BDEB-44C4-8272-B820AF90B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latby Konečným uživatelům v OP RL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projekty budou předfinancovány maximálně do výše 25 % celkových plánovan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běžné plat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ěrečné vyúč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– každý projekt přesahující 3 mil. Kč musí mít proveden audit autorizovanou auditorskou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3FC-BB7C-4104-8FA9-1255916A6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estavování rozpočtu je nutné dodržet tyto základní podíly některých výdajů na celkových výdajích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na nákup nového či použitého HIM maximálně 2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 maximálně 49 %, 51 % výdajů projektu musí být    realizováno žadatelem a 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žijní náklady maximálně 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342-7F4F-44A4-8EEB-B8B05493B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měny při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ce je povinen o všech změnách informovat Konečné příje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prováděné bez souhlasu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vyžadující uzavření dodatku k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E20-3E47-4FF2-8A7B-93B633412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dministrace výběru doda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odavatelů musí být transparentní  a nediskrimin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nad 2 mil. se řídí zákonem 40 /2004 Sb. (Zákon o veřejných zakáz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500 000 až 2 m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le bodov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služby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realizačního týmu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a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100 000 až 5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do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D8A-01F7-45B3-B7EB-1A30F0F5E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řejná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patření 3.2 OP RLZ se veřejná podpora týká pouze Pp D – zvyšování kvalifikace vědeckých a výzkumných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účely veřejné podpory rozlišujeme obecné a specifické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jimka poskytnutá pro OP RLZ Úřadem pro ochranu hospodářské soutěže č.j. VP/81/04-160. Úplné znění www. 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P RLZ byly tímto rozhodnutím stanoveny 4 mechanizmy poskytování veřejné podpory, ale pro Opatření 3.2 je možné využít pouze tyto d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pro vzděláván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38A-3F08-4F69-909D-DAAC6C8DA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íra veřejné podpory pro vzdělávací proj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276640"/>
          <a:ext cx="7557840" cy="386208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2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k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cn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754-810F-471A-8F2F-F9769A0F38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FC0-3489-48B0-9E2F-6D452A1CCB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7:41Z</dcterms:modified>
  <cp:revision>14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06026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