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9352-964F-4EF5-B19C-01C3DE66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C45-2B60-484F-A4A7-8CF7D69C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F820-F327-456B-852D-88D370F0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464-D622-48CD-9153-EB0CA82C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F2F-CCF7-462F-BD2E-25F4DA2D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87BF-8626-4190-8ADA-4BF8D109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110C-2203-42E3-B84E-6D2F6D20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394-1A5D-4B74-B28C-656C9CFD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26D-C772-4AF1-BF4E-E8EAA414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022-4BF3-4379-A080-35EC0C81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F639-3E59-4F5C-9266-0198F9FB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C49-2564-4AB3-8B77-1AEDD2E8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A397-90B2-48A0-B611-57B8884DCB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628280"/>
            <a:ext cx="64087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Uznatelné, neuznatelné výdaje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15328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nář pro žadate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. Johana Burget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opad/prosinec 200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355-239D-43E0-B472-679D591F8E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Uznatelné výdaj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lady projektu musí být rozepsány na jednotlivé kalendářní roky tak, jak se předpokládá čerpání prostř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natelné náklady nemohou být stanoveny jako paušální částka. Musí být skutečně vynaložené, proto níže hovoříme o uznatelných výdaj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znatelné náklady jsou náklady, které nelze hradit z veřejných prostředků. Tyto náklady hradí žadatel respektive partner vždy ze svých prostř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může mít samozřejmě i výnosy, ale žadatel nesmí mít z realizace projektu zisk, proto dostane v rámci OP RLZ uhrazeny jen výdaje - příj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3ED-5483-430C-9CBC-6180661D5C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Základní kritéria uznatelných výdajů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 musí být vynaložen na činnosti uvedené v Opatření, respektive ve výzv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 musí vzniknout v době platnosti rozhodnutí o poskytnutí dotace počínaje dnem potvrzení podmínek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 musí skutečně vzniknout, být řádně uhrazen a zaznamenán na účtech příjemce finanční podpory nebo jeho partnerů. Výdaj musí být identifikovatelný a kontrolovatelný, doložitelný originály účetních do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56E-300B-47D6-AEE3-C1FBA258FB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daje jsou rozděleny do skupin, které bohužel přesně neodpovídají běžnému účetnímu členění nákladů (respektive výdajů), ale lépe splňují potřeby ESF. Především pro účely procentuelních limitů některých skupin náklad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ní výdaje – výdaje na zaměstnance žadatele a jeho projektových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ovní cesty – výdaje na ubytování, dopravu, stravn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áhrady vyplacené pracovníkům českých subjektů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y na základě zákona 119/1992 S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áhrady pro pracovníky zahraničních subjektů se stanovuj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le sazeb EU (Per di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C4B0-2B33-42DA-BF80-3A9DC75AAB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řízení a vybavení – z prostředků OP RLZ nelze hradit inve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ýdaje spojené s nákupem nového, resp. použitého vybaven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zařízení u projektů zaměřených na výzkum, vývoj, neb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ý výcv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M max. 40 0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HIM max. 60 00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ýdaje na nákup drobného hmotného majetku, který je pr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i nezbytn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nájem, ev. splátky operativního leasingu zařízení a bud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odpisy vlastního dlouhodobého hmotného a nehmotnéh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jetku, jehož využívání je nezbytné pro realizaci projektu a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mo souvisí s jeho cí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B333-573B-4F2C-B8A6-9E575E0153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ístní kancelář/náklady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potřební a provozní mater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elefon, fax, poštovné, voda, paliva,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ájem kanceláře  - musí být zřejmá skutečná roční výš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jemného a doba po kterou byla pro realizaci projekt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uží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up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ýdaje spojené s dodáním služeb (podmínky výběr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vatel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ýdaje vyplývající přímo z rozhodnutí o poskytnutí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jiné výdaje (notářské poplatky, znalecké posudky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0BEC-4D6A-49F1-9AD0-B33CB8F1347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Členění výdajů do sku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bné stavební ú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ň z přidané hodno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PH je uznatelným výdajem u neplát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látci DPH uvádí položky rozpočtu v cenách bez D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e veřejné sp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222-663B-48C6-ACE5-4E9B1378CBE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Neuznatelné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up zařízení, budov a mobilní infra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ční l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e vzniklé před oficiálním datem zaháj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dení běžného účtu, bankovní poplatky, uznatelné jsou jen výdaje spojené se zřízením a vedení běžného účtu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jemné, kdy je žadatel vlastníkem nemovitosti nebo ji užívá zda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daje na práce a školení, které jsou povinné ze zák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D67-4470-46FA-A7D3-CC284786356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2060280"/>
            <a:ext cx="66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Děkuji za pozornost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14580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4360" y="1484280"/>
            <a:ext cx="4173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sfprovs@msmt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A97-2772-44C0-AAE2-FC9DBDD235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Administrator</dc:creator>
  <dc:description/>
  <dc:language>en-US</dc:language>
  <cp:lastModifiedBy>prejzovaa</cp:lastModifiedBy>
  <dcterms:modified xsi:type="dcterms:W3CDTF">2005-12-19T13:48:09Z</dcterms:modified>
  <cp:revision>13</cp:revision>
  <dc:subject/>
  <dc:title>Prezentace pro Leničk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1688881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ReviewingToolsShownOnce">
    <vt:lpwstr/>
  </property>
</Properties>
</file>