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CE54-C879-41C7-AB06-8D02FAED29C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FA4-9876-4751-AEBA-92AA788B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CC8-2557-4D8A-A8E6-AF3D0A61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A888-D4E3-4115-B5B4-8A0B9D6E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A0A-4546-4FF7-B9E2-E7251436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64BD-9034-4DFA-9DA6-C92AA63D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6612-B22C-42FC-816B-903FE338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9F07-BA24-4644-A449-8F4726FD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6B4A-1136-4EEC-89D0-8454E777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9FC-72F4-43CB-A0D1-248AC916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E581-97A8-4BD3-8312-0F5BCD3B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E0E-5B49-46B0-87DD-9B2C4221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9D44-BA2B-4DE3-8381-7A0BF741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F0A8-40A4-4F66-878D-2CB1C6DAC3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smt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362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ODNOCENÍ PROJE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nář pro žadate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. Kamila Matuš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opad/prosinec 20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36D9-9398-4BA7-9DE9-ABBB6FC378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žadatel splňuje definici pro Konečného uživate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žadatel má sídlo na území Č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rávnické osoby) nebo je občanem ČR s trvalým pobytem na území České republiky (fyzické osob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partner je právnická nebo fyzická osoba se sídlem v Č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C41D-5C3A-475C-B032-E21D38DA9A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projekt bude mít dopad na cílové skupiny na území ČR, resp. na území příslušného regionu, pro který je regionální grantové schéma vyhlášené, </a:t>
            </a: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mimo území hlavního města Prah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podporované aktivity a cílové skupiny projektu jsou v souladu s danou výzvou 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(NOV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) doba trvání projektu není delší než </a:t>
            </a: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24 měsíc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) finanční podpora z OP RLZ požadovaná pro realizaci projektu není nižší než min. a vyšší než max.stanovené vyhlašovatele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CC06-67A0-4F52-8985-1B0B20DFF8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2204640"/>
            <a:ext cx="8915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) finanční podpora z OP RLZ není plánována pro jiné než uznatelné náklady ve stanovené struktuř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) v rozpočtu jsou uvedeny vlastní zdroje žadatele -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u Pp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) požadovaná veřejná podpora není vyšší než veřejná podpora povolena ÚO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5DFB-C74A-40EC-9F90-87DDF7CC77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itérium                                                                 Ano      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doba trvání projektu není delší než 24 měsíc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splnění některého z kritéri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žádost vyřaz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24382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05920" y="24382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373392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F9F1-9AEF-451A-A7A2-70B5FDA28D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Věcné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 hodnocení založen na souboru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šesti kritéri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) zdůvodnění projektu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2) cílová skupina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3) realizace projektu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4) výsledky a výstupy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5) horizontální témata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6) specifické požadavky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59436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D1C7-D77B-4B68-BCC5-AF49FB2DA5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105264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1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Zdůvodnění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1532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 zdůvodnění zámě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vazba na strategické dokumen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přínos pro cílovou skupi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6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B233-7826-442C-AA54-8E54509687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1052640"/>
            <a:ext cx="66438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1.2 vazba na strategické dokumenty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- max. 12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lad s vládní, státní nebo národní strategií, politikou a progra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Vylučující kritérium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kt musí získat alespoň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0 bod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945-9AF6-4339-B193-AE109511F7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2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ílová skup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072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 přiměřenost cílových skup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 zapojení cílových skup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A75-C498-45A5-B1BD-AB522E75C9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3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ealizac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072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1 klíčové aktivity a stádia realiza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5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2 monitorování projekt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3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3 předchozí zkušenosti žadatele s řízení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dobných projekt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2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4 publici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3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5 udržitelnost projekt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3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656-7799-45F5-874D-B3FA161A85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4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Výsledky a vý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072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1 kvantifikace výsledků a vý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2 zajištění výsledků a vý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4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BF34-7D65-4DE2-BBCF-109A8C3B84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9144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Administrace Opatření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ýzva k předkládání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říjem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dnocení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ýběr projektů k realiz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zhodnutí o poskytnutí do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CCE1-A173-4A69-8783-56235ABC5A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5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Horizontální té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072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 rovné příležitos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udržitelný rozvo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2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 informační společn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místní iniciativ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EEBF-F7E5-4A43-BCEF-3F54EC9E9C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1066320"/>
            <a:ext cx="6288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5.1 rovné příležitosti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- max. 4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8920" y="2209320"/>
            <a:ext cx="871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pad projektu na muže a ženy, etnické menšiny, osoby se zdravotním postižením, případně další skupiny ohrožené vyloučení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ÝMI aktivitami projekt podpoří a ovlivní rozvoj rovných příležitost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ovnost žen a mužů není „záležitostí ž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 projekt propaguje rovné příležitos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3D6E-5EB6-47F3-B47C-AD7B1DCDD3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6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Specifické požada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072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 partnerstv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 přiměřenost výše požadovaných finančních prostředků k cílům a obsahu projekt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5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7C6-686A-41F6-BB2B-1154FBD9B2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1066320"/>
            <a:ext cx="6288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6.1 partnerství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- max. 10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42472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pojení partnerů, kteří se zabývají problematikou řešenou v projektu a jejichž účast na projektu je významná z hlediska regionální, meziregionální, popř. celostátní spolupráce nebo z hlediska institucí různého typ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tnerství různých institu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partnerů přesně vymezen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-10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nejsou přesně vymezen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5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statní zdůvodněné příp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ní možné nebo účelné vytvářet pro realizaci daného projektu partnerství různých institucí, ale je odůvodněno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č nedošlo k vytvoření zmíněného partnerství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5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A967-2916-46C8-9F52-FD82C35BBE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Věcné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362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teré projekty postupují do výběr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in. 65 bod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v subkritériu vazba na strategiské dokumen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in. 10 bo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kt podle názorů hodnotitelů nemá negativní vl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některé z horizontálních té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A079-0D1E-49E7-9417-F499DE352C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Výběr projektů k real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ádí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ýběrová komi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která při svém rozhodování vychází z výsledků věcného hodnoc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K má pravomoc krátit rozpoče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K rozhoduje o výběru projektů do výše přidělených fin. prostředků na dané kolo výz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E96-9FEF-49FC-AB13-70C71C32AD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1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Rozhodnutí o poskytnutí d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686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veřejnění seznamu výsledků ze zasedání VK na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msmt.cz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esfcr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ísemné vyrozumění žadat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spěšní žadatelé vyzváni k dodání podkladů k rozhodnutí (např. smlouvy s partn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ydáno rozhodnutí o poskytnutí dot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5505-FCD4-4B8F-BFA6-9555ED363E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820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esfprovs@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8F2-40D6-4936-BF4B-0FD2A59916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Časový rá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2860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1532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7320" y="1675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dn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8920" y="1675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dn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6840" y="1675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dn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43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Výz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561040"/>
            <a:ext cx="1905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únor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do 12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414960"/>
            <a:ext cx="167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dnoc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dnoc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řijatel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2434320"/>
            <a:ext cx="1486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řeklád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žádos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2205720"/>
            <a:ext cx="1298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ěc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dnoc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6920" y="3494520"/>
            <a:ext cx="13298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vá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jek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ýběrov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omi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94BB-227D-43B3-9E42-2CF329DC60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žád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fáze: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Hodnocení formálních náležit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fáz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Hodnocení přijatel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fáz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Věcné hodnocení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01DC-E678-4E35-ABDF-8256282E4F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9144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žádost byla dodána v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ktronick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době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žádost byla dodána v tištěné podobě v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řech vyhotovení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x originál/úředně ověřená kopie a 2x kopie nebo 3x originá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verze elektronické a tištěné žádosti jsou (dle kontrolního znaku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hodn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v žádosti jsou vyplněn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šechny předepsané údaj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všechny povinné přílohy jsou dodány v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řech vyhotovení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x originál/úředně ověřená kopie a 2 kopi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) počet stránek jednotlivých příloh odpovídá počtu stran uvedenému na Seznamu přílo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F97-57AC-423C-A3AF-34925F451A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73360"/>
            <a:ext cx="89154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) jsou dodány všechny požadované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klady o právní subjektivitě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žadate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) je dodán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hlášení o bezdlužnost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) je dodán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hlášení o partnerstv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za každého partnera, pokud je v projektu zapoje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) je dodán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hlášení o velikosti podnik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kud je žadatel MS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) je dodá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řehled ekonomické a finanční situ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kud je žadatelem podnikatelský subjek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) jsou dodány všechny specifické přílo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) nechybí žádný z požadovanýc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dpis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rávněných os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A45-17E9-418B-9938-64D6DBB40C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7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žadované doklady o právní subjektivi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z. Průvodce pro žadate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pozornění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 případě, kdy je doložena výpi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 obchodního rejstří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lad nesmí být starší více než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ři měsí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podání žá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27640" y="429264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D4B-7E6F-4D8C-839E-7A56A1F294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13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dpis oprávněných o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tární zástup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CBD0-04A7-4C12-9B62-B1C558C7FE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itérium                                                             Ano       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žádost byla dodána v elektronické podob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plnění některého z kritéri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yhověla žádost kritériím přijatelnos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                                           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ýzva k doplnění                            vyřa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4382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01000" y="24382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335772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979640" y="4292640"/>
            <a:ext cx="1440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4292640"/>
            <a:ext cx="2881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BF53-3BBD-4103-B486-3CAD3EB8E8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Kamila Matušů</dc:creator>
  <dc:description/>
  <dc:language>en-US</dc:language>
  <cp:lastModifiedBy>prejzovaa</cp:lastModifiedBy>
  <dcterms:modified xsi:type="dcterms:W3CDTF">2005-12-19T13:46:40Z</dcterms:modified>
  <cp:revision>33</cp:revision>
  <dc:subject/>
  <dc:title>Hodnocen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25367238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PreviousAdHocReviewCycleID">
    <vt:r8>1519083974</vt:r8>
  </property>
  <property fmtid="{D5CDD505-2E9C-101B-9397-08002B2CF9AE}" pid="7" name="_ReviewingToolsShownOnce">
    <vt:lpwstr/>
  </property>
</Properties>
</file>