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723-590C-4970-80F8-7CC3825D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907-52A3-4994-A225-BCDCD269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E35-C66C-46D7-A0AA-719F80DB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517-7DC2-4A66-B68E-F398A800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53E-ABBB-4DAD-9D97-D7C43EBE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9FF-E76E-4E71-ABD9-95128DC1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881-036C-4EAD-AD5A-13C5BCCB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74F-3766-433A-832C-D46A7624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63D-A5A2-488F-A969-43E100D7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18A-73F3-40F8-AB02-3ADDA0D7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660-B55E-44D3-B80D-CB8C04E7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979-2564-4C48-8EA1-0F77D344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5F15-DA4B-40AE-BEFE-D74CF0FCDD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hyperlink" Target="http://www.msmt.cz/" TargetMode="External"/><Relationship Id="rId4" Type="http://schemas.openxmlformats.org/officeDocument/2006/relationships/hyperlink" Target="http://www.msmt.cz/" TargetMode="External"/><Relationship Id="rId5" Type="http://schemas.openxmlformats.org/officeDocument/2006/relationships/hyperlink" Target="http://www.msmt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hyperlink" Target="http://www.esfcr.cz/" TargetMode="External"/><Relationship Id="rId8" Type="http://schemas.openxmlformats.org/officeDocument/2006/relationships/hyperlink" Target="http://www.esfcr.cz/" TargetMode="External"/><Relationship Id="rId9" Type="http://schemas.openxmlformats.org/officeDocument/2006/relationships/hyperlink" Target="http://www.esfcr.cz/" TargetMode="External"/><Relationship Id="rId10" Type="http://schemas.openxmlformats.org/officeDocument/2006/relationships/hyperlink" Target="http://www.strukturalni-fondy.cz/" TargetMode="External"/><Relationship Id="rId11" Type="http://schemas.openxmlformats.org/officeDocument/2006/relationships/hyperlink" Target="http://www.strukturalni-fondy.cz/" TargetMode="External"/><Relationship Id="rId12" Type="http://schemas.openxmlformats.org/officeDocument/2006/relationships/hyperlink" Target="http://www.strukturalni-fondy.cz/" TargetMode="External"/><Relationship Id="rId13" Type="http://schemas.openxmlformats.org/officeDocument/2006/relationships/hyperlink" Target="http://www.strukturalni-fondy.cz/" TargetMode="External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fprovs@msmt.cz" TargetMode="External"/><Relationship Id="rId3" Type="http://schemas.openxmlformats.org/officeDocument/2006/relationships/hyperlink" Target="mailto:esfprovs@msmt.cz" TargetMode="External"/><Relationship Id="rId4" Type="http://schemas.openxmlformats.org/officeDocument/2006/relationships/hyperlink" Target="mailto:esfprovs@msmt.cz" TargetMode="External"/><Relationship Id="rId5" Type="http://schemas.openxmlformats.org/officeDocument/2006/relationships/hyperlink" Target="mailto:esfprovs@msmt.cz" TargetMode="External"/><Relationship Id="rId6" Type="http://schemas.openxmlformats.org/officeDocument/2006/relationships/hyperlink" Target="mailto:esfprovs@msmt.cz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240" y="1484280"/>
            <a:ext cx="87361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Priorita 3 OP RLZ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–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Rozvoj celoživotního učení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200"/>
            </a:br>
            <a:r>
              <a:rPr b="1" lang="cs-CZ" sz="3200" spc="-1" strike="noStrike">
                <a:solidFill>
                  <a:srgbClr val="003399"/>
                </a:solidFill>
                <a:latin typeface="Arial"/>
              </a:rPr>
              <a:t>Opatření 3.2 – Podpora terciárního vzdělávání, výzkumu a vývoje</a:t>
            </a: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Seminář pro žadatele 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PhDr. Kateřina Pösingerová, CSc. listopad/prosinec 2005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Oddělení pomoci z ES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3399"/>
                </a:solidFill>
                <a:latin typeface="Arial"/>
              </a:rPr>
              <a:t>MŠM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23D-8830-4250-BB8D-B159620C90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68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Žádost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dkládána je v 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ogramu Benefi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jemcem žádostí je Konečný příjemce, tj. oddělení pomoci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2574-BF36-40D4-94B4-BCA0C02F65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7280" y="907920"/>
            <a:ext cx="5688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mity pro předkládání žá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36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ba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ě 2 roky ode dne potvrzení přijetí rozhodnut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poskytnutí dotace Konečným uživate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anční limity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ální výše přidělených prostředků 10 mil.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ální výše přidělených prostředků 500 tis. K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F82-F6DC-4762-9F24-639361CAE3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136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ecn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důvodnění projektu (zdůvodnění záměru, vazba na strategické dokumenty, přínos pro cílovou skupin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ílová skupina (její přiměřenost a zapojení do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ace projektu (klíčové aktivity, stádia realizace, monitorování, zkušenosti s řízením projektů, publicita, udržitelnost projektu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sledky a výstupy (kvantifikace výsledků a výstupů a jejich zajištění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izontální témata (rovné příležitosti, udržitelný rozvoj, informační společnost, místní iniciativ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3AA-27C9-4D2D-A9CC-66D20D99A3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6553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ritéria pro hodnocení žádostí o finanční podporu z ESF v Opatření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532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ická kritér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nerství – zapojení partnerů, kteří se zabývají řešenou problematikou, do projektu, vymezení rolí jednotlivých partner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iměřenost výše požadovaných finančních prostředků k cílům a obsah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F47-A3BA-4218-A766-8CEE61E430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ozpočet GS Opatření 3.2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55640" y="1981080"/>
          <a:ext cx="7702200" cy="1016280"/>
        </p:xfrm>
        <a:graphic>
          <a:graphicData uri="http://schemas.openxmlformats.org/drawingml/2006/table">
            <a:tbl>
              <a:tblPr/>
              <a:tblGrid>
                <a:gridCol w="1395360"/>
                <a:gridCol w="1394280"/>
                <a:gridCol w="1395720"/>
                <a:gridCol w="1452960"/>
                <a:gridCol w="206388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istrace 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,7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99128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A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kvalitňování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B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učitelských studijních progra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C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dalšího vzdělávání na vysokých školá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pD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voj lidských zdrojů v oblasti výzkumu a vývo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40F-8CBA-475C-A8CC-048F24D1B5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nancování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orma předfinancování (ve výši 25 % celkových uznatelných výdajů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edná se o kapitálové investi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žadatel musí mít pro projekt zřízen zvláštní bankovní úč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tvrtletní vyúčtování plateb (současně s podáváním zpráv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 průběhu projekt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inancovány pouz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uznatelné výdaj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daje uznatelné EK z hlediska OP RLZ (nelze zaměňovat s daňově uznatelnými nákla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93E-0EE3-4613-9E46-0379A6A68F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vinnosti při tvorbě dokumentace a vedení účetnictví projekt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chovávat přesné a pravidelné záznamy o průběhu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ést účetnictv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e smyslu zákona o účetnictví a vést oddělené transparentní analytické účty souvisejí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realizac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chivovat dokument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jekt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dobu 10 l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 obdržení závěrečné plat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7F4E-9E56-4B55-B3FE-C65CCC0664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rch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nečný uživatel archivuje zejmé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luvní dokumenty vztahujících se k projek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ňové do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ýpisy z úč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žádosti o proplacení výdajů, včetně konkrétních přílo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y spojené s prováděním k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orespondenci se všemi subjekty zapojenými do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 Konečným příjemcem, partnery, dodavatel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ovací a hodnotící zprávy za proje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A91-7CA7-4E4E-9C27-00AAC47CEE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ubli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a propagační aktivity Konečného uživatele (v souladu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izuální identitou ESF v Č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- viz 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esfcr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ět finanční spoluúčast EU, resp. ESF na všech výstup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loga EU a ESF na informačních, studijních a dalších materiálech souvisejících s projek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vlastních webových stránkách odkazovat na webové stránky EU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na stránky informující o ESF v 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ísťovat vlajky EU a další informační materiály v místnostech, kde se konají informační akce o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klady spojené s publicitou projektu jsou uznatelnými výda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B24B-A796-4CEA-86D9-7BCCC3A915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7280" y="907560"/>
            <a:ext cx="5761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Užitečné od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msmt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7"/>
              </a:rPr>
              <a:t>esfcr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8"/>
              </a:rPr>
              <a:t>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9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0"/>
              </a:rPr>
              <a:t>www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1"/>
              </a:rPr>
              <a:t>strukturalni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2"/>
              </a:rPr>
              <a:t>-fondy.</a:t>
            </a:r>
            <a:r>
              <a:rPr b="0" lang="cs-CZ" sz="2200" spc="-1" strike="noStrike" u="sng">
                <a:solidFill>
                  <a:srgbClr val="3366ff"/>
                </a:solidFill>
                <a:uFillTx/>
                <a:latin typeface="Arial"/>
                <a:hlinkClick r:id="rId13"/>
              </a:rPr>
              <a:t>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CF5-522E-4D44-9EB8-2B98ECF6F1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Základní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147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ční orgán pro Opatření 3.2, tj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příjem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dělení pomoci z ESF (303) při odboru vysokých škol (30) skupiny vědy a vysokého školství MŠMT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onečný uživat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patření 3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sok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praxe zabývající se vzdělávání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ituce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ociace zaměstna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4933-AA45-4D5A-B409-FC273B9F31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aktní ad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dělení pomoci z E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 V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Š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h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sfprovs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msmt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Arial"/>
                <a:hlinkClick r:id="rId6"/>
              </a:rPr>
              <a:t>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208-3ED3-406E-9C74-A580326877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šeobecné zaměření pro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zaměstnatelnosti a sociálního začleňování znevýhodněných jednotliv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podpůrných opatření k rozvoji systémů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struktur a k posilování kapacit poskytovatelů služeb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 cílové skupi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76D-15B9-410A-B861-341B01F04E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rogramy podpory Opatření 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15328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kvalitňování vzdělávání na vysokých školách (Pp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učitelských studijních programů (Pp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dalšího vzdělávání na vysokých školách (P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voj lidských zdrojů v oblasti výzkumu a vývoje (Pp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617-54DD-4B4C-84A2-2ADE4069D7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360" y="981000"/>
            <a:ext cx="6840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A - Zkvalitňování vzdělávání na vysokých školách v rámci bakalářských, magisterských a doktor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81471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hloubení vnitřní diferenciace a zejména kvalitativního rozvoje bakalářských, magisterských a doktorských studijních programů, modulové uspořádání programů a realizace těchto studijních progra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lupráce škol s odbornými pracovišti a s organizacemi zaměstnavatelů (při přípravě a realizaci studijních program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2A6-26D0-4D2E-8FDA-862203FA1E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1052280"/>
            <a:ext cx="61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B - Rozvoj učitelských studij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učitelských studijních programů počátečního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dalšího vzdělávání a jejich realiz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programů pedagogické způsobilosti pro absolventy vysokoškolských programů nepedagogického zaměření a jejich realiz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zájemci o další studium na vysokých školá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B83-467F-4284-B8B9-9540359664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7280" y="980640"/>
            <a:ext cx="626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C - Rozvoj dalšího vzdělávání </a:t>
            </a:r>
            <a:br>
              <a:rPr sz="2400"/>
            </a:b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na vysokých školá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kvalitnění a realizace rozšířené nabídky dalšího vzdělávání na vysokých školách v souladu s prosazováním aktivní politiky trhu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zájemci o další studium na vysokých školách, akademičtí pracovníci vysokých šk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378-4843-4EE7-BC5E-4E023AD1DD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553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99"/>
                </a:solidFill>
                <a:latin typeface="Arial"/>
              </a:rPr>
              <a:t>PpD - Rozvoj lidských zdrojů v oblasti výzkumu a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vorba a realizace programů dalšího vzdělávání  zaměřeného na oblast věcného a finančního řízení, inovačního podnikání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odnikání ve výzkumu, šíření výsledků vědy a výzkumu do praxe, transfer technologií a osvojování si znalostí o ochraně duševního vlastnictví pracovníků z oblasti výzkumu a vývo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studenti vysokých škol, akademičtí pracovníci vysokých škol, zaměstnanci institucí výzkumu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ývoj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3C37-E6BB-49ED-8E9F-9320F83E2B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5832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Výzva k předkládání žádostí o finanční podporu z 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1532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čena je pro podávání žádostí o financování projektů Konečných uživate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sahem je upřesnění podmínek pro podávání žádo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veřejněna je elektronicky na webových stránkách MŠM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oficiálních stránkách ESF v ČR a dále ve dvou celostátních denící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F136-D470-4A9D-B28D-D8AAEA8845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15:48:03Z</dcterms:created>
  <dc:creator>K.Pösingerová</dc:creator>
  <dc:description/>
  <dc:language>en-US</dc:language>
  <cp:lastModifiedBy>prejzovaa</cp:lastModifiedBy>
  <dcterms:modified xsi:type="dcterms:W3CDTF">2005-12-19T13:46:10Z</dcterms:modified>
  <cp:revision>29</cp:revision>
  <dc:subject/>
  <dc:title>Úvod seminář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439103</vt:r8>
  </property>
  <property fmtid="{D5CDD505-2E9C-101B-9397-08002B2CF9AE}" pid="3" name="_AuthorEmail">
    <vt:lpwstr>Kamila.Matusu@msmt.cz</vt:lpwstr>
  </property>
  <property fmtid="{D5CDD505-2E9C-101B-9397-08002B2CF9AE}" pid="4" name="_AuthorEmailDisplayName">
    <vt:lpwstr>Matušů Kamila</vt:lpwstr>
  </property>
  <property fmtid="{D5CDD505-2E9C-101B-9397-08002B2CF9AE}" pid="5" name="_EmailSubject">
    <vt:lpwstr>prezentace k 30.11, 8. a 15.12</vt:lpwstr>
  </property>
  <property fmtid="{D5CDD505-2E9C-101B-9397-08002B2CF9AE}" pid="6" name="_PreviousAdHocReviewCycleID">
    <vt:r8>1514197294</vt:r8>
  </property>
  <property fmtid="{D5CDD505-2E9C-101B-9397-08002B2CF9AE}" pid="7" name="_ReviewingToolsShownOnce">
    <vt:lpwstr/>
  </property>
</Properties>
</file>