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DC3-B49A-4B04-8EA5-3F013A74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B46-1ABF-4E9A-913F-5B8E7EB1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EA0-B5D7-4438-A5C7-0A232397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B0E-E2BA-46C6-AE37-97A84431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D2D-98E3-4E14-97F3-6DE4F79E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095-F27B-4BC5-88BD-C6CE0D55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1EB-C08F-420C-A44B-273EDCB4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FF6-B929-4737-9283-9BA2AB28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D92-FB6C-4569-B10B-E0339EC5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9B3-00B6-43DF-B716-B1E1C411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491-00C3-4E07-B3C4-0EC1C2AC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29A-81D1-4E96-9422-89C9B2C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DAD2-B6D8-4833-A2DE-5300CA063B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Monitorování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a kontrola projekt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g. Jan F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stopad/prosinec 2005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6BE-EB59-4405-8F39-7A3C61CAED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ozdíl mezi kontrolami dle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l. 4 a čl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2438280"/>
          <a:ext cx="8763120" cy="3504960"/>
        </p:xfrm>
        <a:graphic>
          <a:graphicData uri="http://schemas.openxmlformats.org/drawingml/2006/table">
            <a:tbl>
              <a:tblPr/>
              <a:tblGrid>
                <a:gridCol w="4421160"/>
                <a:gridCol w="4341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28191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ěření účinnosti zavedených řídicích a kontrolních systémů, ověření výkazů výdajů na různých dotčených úrovních -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ádí  ŘO a jím pověřené subjek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před ukončením každé pomoci - min. 5% celkových způsobilých výdajů - z reprez. vzorku schválený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51920" y="28951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rola jednotlivých operací na místě  (metoda výběru vzork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ádí KP; případně Z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znamy o ověření jednotlivých operací na místě - provedené dílo, výsledky ověření a opatření přijatá v souvislosti s nedost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33A-F332-43A6-B96A-ADECF18655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realizace projektu na místě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3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U je předem o kontrole informov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lenové kontrolní skupiny mají písemné pověření pr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lasti kontrol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ěcn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durální (vedení dokumentace, dodržování podmínek smlouvy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ahová (plnění věcných výstupů projek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anční (čerpání gran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tivit projektu (průběh realizace konkrétní aktivit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ýsledkem je Protokol 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CC6-8623-45A8-999C-1C1602D6A4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B7E-ED0B-4A15-BC58-36CC268E1D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dním z principů politiky hospodářské a sociální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zjišťování pokroku v realizaci projektů, shromažďování informací o projek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ovnávání získaných informací s plánem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63A-1BDF-4577-9C4B-7742520BFF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tavná činnost probíhající během celého trvání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á se všech úrovní implementační struktury operačního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údaje zjištěné monitorováním se zaznamenávají do MSSF (sumarizace dat z nejnižší po nejvyšší úroveň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í se především prostřednictví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ch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videlných zpráv o průběhu realizace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 na míst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A17-7BE3-4311-9773-946577641D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583236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innosti KU v rámci procesu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žádosti o finanční podporu z OP RLZ zvol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ká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které budou naplňován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třednictvím pravidelnýc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ovacích zprá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formovat KP o průběhu realizace projektu a naplňování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vešker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ovou dokumentac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 kontrolách na místě poskytnout všechny podklady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ající se realizace projektu kontrolním pracovníků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A51-A7A2-43E5-BA7F-B52396E84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indiká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rozpočtu program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aktivitám a jejich přímým účastníkům (sledují se počty osob, instituc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ledk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přímým a okamžitým účinkům, které program přinesl (hledisko úspěšnost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dopad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následkům programu (udržitelnost; míra efektů pomoci z dlouhodobého hledisk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B96-0592-4826-BA13-B79F5B28A9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skytujících služby nebo podporujících poskytování služeb (1.01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- klientů služeb (1.05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čátečního vzdělávání (1.05.31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v dalším vzdělávání (1.05.32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vědeckých a výzkumných pracovní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.12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rganizací (1.04.00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557-214E-4A7C-A741-70B0FC0C31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836640"/>
            <a:ext cx="57610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l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počátečn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1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dalš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0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životního prostřed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49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informačních technologi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08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dukt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2.00 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F83-39E6-43EE-864F-57FC03AD1F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zprávy vypracovávané 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ují technické a finanční informace o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í umožňovat srovnání výsledků s pláne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sné termíny předkládání zpráv budou specifikovány v Rozhodnutí o poskytnutí dota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h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(k termínu podávání Žádosti o platb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věrečné (po ukončení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A23-EAC8-40F8-8886-9174BBB4C7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na mís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ěření projektu v místě jeho realiz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á se o veřejnosprávní kontrolu v souladu se zákonem č. 320/2001 Sb., o finanční kontrole a o kontroly dle čl. 4 a 10 Nařízení Komise (ES) č. 438/200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lší orgány implementační struktury OP RLZ, případně NKÚ, EK, Evropský dvůr auditor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9D2-29E3-4811-8BE9-3FDC04A2F4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Lenka Suchá</dc:creator>
  <dc:description/>
  <dc:language>en-US</dc:language>
  <cp:lastModifiedBy>prejzovaa</cp:lastModifiedBy>
  <dcterms:modified xsi:type="dcterms:W3CDTF">2005-12-19T13:47:07Z</dcterms:modified>
  <cp:revision>21</cp:revision>
  <dc:subject/>
  <dc:title>Monitorová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47907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