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ED28-9933-4E1F-AB20-673C5059A5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0EE-DE85-464C-BD0C-758DE5C6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EC5-2E53-49FC-A3E9-7103D7E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50B-D42D-4148-B818-590E9671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2E9-BD49-4EB4-87C2-ABCDBFA5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1C7-0638-4AE6-9340-48FAABED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6F7-946D-4095-9596-32FC08FC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231-0B51-4DD7-9D86-1C310710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9DD2-2D1E-4733-8834-FCDFA1E9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647-362D-4208-BF1C-5BBB3244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80E-3A7F-4A23-B446-5932903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B02-AC32-45D0-9AAE-3D103C3D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D1B8-E276-47D8-95E0-4B5D3D04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59A2-9587-467F-9A33-188AFCC10F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362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DNOCENÍ PROJE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nář pro žada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. Kamila Matuš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pad/prosinec 200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E61-2D63-4430-8B71-5CB71A4757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žadatel splňuje definici pro Konečného uživate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žadatel má sídlo na území Č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rávnické osoby) nebo je občanem ČR s trvalým pobytem na území České republiky (fyzické osob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partner je právnická nebo fyzická osoba se sídlem v Č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50D-FC89-4E94-A4FA-E8EC79A626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projekt bude mít dopad na cílové skupiny na území ČR, resp. na území příslušného regionu, pro který je regionální grantové schéma vyhlášené,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mimo území hlavního města Prah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podporované aktivity a cílové skupiny projektu jsou v souladu s danou výzvou 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NOV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doba trvání projektu není delší než </a:t>
            </a:r>
            <a:r>
              <a:rPr b="1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24 měsíc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finanční podpora z OP RLZ požadovaná pro realizaci projektu není nižší než min. a vyšší než max.stanovené vyhlašovatele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1E0-EE98-4986-8191-C9A5F15C79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2204640"/>
            <a:ext cx="8915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) finanční podpora z OP RLZ není plánována pro jiné než uznatelné náklady ve stanovené struktuř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) v rozpočtu jsou uvedeny vlastní zdroje žadatele -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u Pp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) požadovaná veřejná podpora není vyšší než veřejná podpora povolena ÚO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749-173A-4779-B626-FCC179A119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    Ano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) doba trvání projektu není delší než 24 měsíc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žádost vyřaz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24382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0592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7339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79F-925F-413E-83C6-D294D860E9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hodnocení založen na souboru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šesti kritéri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1) zdůvodnění projektu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) cílová skupina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3) realizace projektu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4) výsledky a výstupy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5) horizontální témata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6) specifické požadavky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bo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5943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AA5-56E1-46DB-877B-4BE6F9F271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105264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1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důvodněn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153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 zdůvodnění zámě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vazba na strategické dokume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přínos pro cílovou skupi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6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828-3A95-4E98-BC29-FC3DF861BB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9840" y="1052640"/>
            <a:ext cx="66438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1.2 vazba na strategické dokumenty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2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s vládní, státní nebo národní strategií, politikou a progra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ylučující kritérium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kt musí získat alespoň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10 bod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85A-EE64-4106-BF25-FA6B0A9FE8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2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ílová skup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přiměřenost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zapojení cílových sku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C80-5D8B-48E5-A03B-D0B682A798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3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Realizac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1 klíčové aktivity a stádia realiza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5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2 monitorování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3 předchozí zkušenosti žadatele s řízení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dobných projekt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4 publici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5 udržitelnost projektu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3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F16-1E25-49C3-9303-5C4F2ABF02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4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ýsledky a 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072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1 kvantifikace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2 zajištění výsledků a výstupů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65A6-E004-40FB-B5FB-B5D4AF2CE8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9144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Administrace Opatření 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předkládá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říjem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dnoce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běr projektů k realiz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zhodnutí o poskytnutí d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F770-4D6E-44D9-B478-FD4501513A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5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orizontální t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 rovné příležitos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4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2 udržitelný rozv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3 informační společ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4 místní iniciati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3ADA-40D4-4045-8B9A-E90DC5594E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5.1 rovné příležitosti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4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8920" y="220932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pad projektu na muže a ženy, etnické menšiny, osoby se zdravotním postižením, případně další skupiny ohrožené vyloučení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ÝMI aktivitami projekt podpoří a ovlivní rozvoj rovných příležitost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ovnost žen a mužů není „záležitostí že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 projekt propaguje rovné příležit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67F-1281-487C-8582-5CE8AF373D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76000" y="1125000"/>
            <a:ext cx="5759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Kritérium 6.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pecifické požada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0728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1 partnerstv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2 přiměřenost výše požadovaných finančních prostředků k cílům a obsahu projekt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5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DBD-89E2-482B-B669-B8C0145770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1066320"/>
            <a:ext cx="6288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6.1 partnerství</a:t>
            </a:r>
            <a:br>
              <a:rPr sz="28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- max. 10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4247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pojení partnerů, kteří se zabývají problematikou řešenou v projektu a jejichž účast na projektu je významná z hlediska regionální, meziregionální, popř. celostátní spolupráce nebo z hlediska institucí různého typ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rtnerství různých institu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partnerů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-10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e nejsou přesně vymezeny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statní zdůvodněné příp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ní možné nebo účelné vytvářet pro realizaci daného projektu partnerství různých institucí, ale je odůvodněno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č nedošlo k vytvoření zmíněného partnerství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9280" y="3429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781360"/>
            <a:ext cx="15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F83-9B0E-41FA-A975-9B238D812B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ěcné hodnoc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362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teré projekty postupují do výbě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65 bod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v subkritériu vazba na strategiské dokumen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min. 10 bo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 podle názorů hodnotitelů nemá negativní vl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některé z horizontálních té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BED-7874-4AB3-A92B-D728025E43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Výběr projektů k 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ádí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běrová kom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která při svém rozhodování vychází z výsledků věcného hodnoc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má pravomoc krátit rozpočet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K rozhoduje o výběru projektů do výše přidělených fin. prostředků na dané kolo výz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214-87F4-4535-9928-265230A7BF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1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Rozhodnutí o poskytnutí do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6868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veřejnění seznamu výsledků ze zasedání VK n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ísemné vyrozumění žad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spěšní žadatelé vyzváni k dodání podkladů k rozhodnutí (např. smlouvy s partne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dáno rozhodnutí o poskytnutí dot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E2C-55EF-4F2D-8D6B-DF6658F8D1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1844280"/>
            <a:ext cx="8820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sfprovs@msm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2F7-84BF-4A65-B717-EE7A7D438E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Časový rá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22860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532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73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892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6840" y="1675440"/>
            <a:ext cx="106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dn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37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Výz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561040"/>
            <a:ext cx="1905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únor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o 12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414960"/>
            <a:ext cx="167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ijatel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2434320"/>
            <a:ext cx="1486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řeklá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žádos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2205720"/>
            <a:ext cx="1298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ěc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dnoc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6920" y="3494520"/>
            <a:ext cx="1329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vá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k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ýběrov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mi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568-4C46-48D5-8149-6769461B12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fáze: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formálních náležit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odnocení přijatel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fáz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Věcné hodnocení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34F-CF8F-4448-AAFD-C1CBDB6831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žádost byla dodána v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ktron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době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žádost byla dodána v tištěné podobě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x kopie nebo 3x originá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verze elektronické a tištěné žádosti jsou (dle kontrolního znaku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hodn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v žádosti jsou vyplněn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šechny předepsané úda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 všechny povinné přílohy jsou dodány 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řech vyhotovení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x originál/úředně ověřená kopie a 2 kopi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 počet stránek jednotlivých příloh odpovídá počtu stran uvedenému na Seznamu přílo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2BB-1DE2-4705-AE7E-E35515932B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73360"/>
            <a:ext cx="89154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 jsou dodány všechny požadované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klady o právní subjektivitě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žadate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bezdlužnost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partnerstv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za každého partnera, pokud je v projektu zapoje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) je dodá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hlášení o velikosti podnik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 MS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) je dodá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řehled ekonomické a finanční situ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okud je žadatelem podnikatelský subjek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) jsou dodány všechny specifické přílo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) nechybí žádný z požadovaný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dpis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rávněných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F4D-B4CA-4212-A5DA-85E5097638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7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žadované doklady o právní subjektivi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z. Průvodce pro žadate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pozornění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 případě, kdy je doložena výpi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 obchodního rejstří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klad nesmí být starší více než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ři měsí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podání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29264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B86-E23C-4356-BA7D-DDA1CAE885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13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dpis oprávně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tární zástup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00A-17F3-4B5A-B419-B2FE4EBCBF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Hodnocení formálních náležit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érium                                                             Ano      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žádost byla dodána v elektronické podob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splnění některého z kritéri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yhověla žádost kritériím přijateln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O                                           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ýzva k doplnění                            vyřa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1000" y="2438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33577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979640" y="4292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4292640"/>
            <a:ext cx="2881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44B-8C5D-4313-A9B1-002D28850C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amila Matušů</dc:creator>
  <dc:description/>
  <dc:language>en-US</dc:language>
  <cp:lastModifiedBy>prejzovaa</cp:lastModifiedBy>
  <dcterms:modified xsi:type="dcterms:W3CDTF">2005-12-19T13:46:40Z</dcterms:modified>
  <cp:revision>33</cp:revision>
  <dc:subject/>
  <dc:title>Hodnocení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5367238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9083974</vt:r8>
  </property>
  <property fmtid="{D5CDD505-2E9C-101B-9397-08002B2CF9AE}" pid="7" name="_ReviewingToolsShownOnce">
    <vt:lpwstr/>
  </property>
</Properties>
</file>