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6E6-32E6-43DE-99EC-9AEDC546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61C-3857-4D6E-84DC-50CA39C8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66D-DF54-4001-9141-E6616455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A23-5C1F-4882-91CB-B19F8563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E2F7-FB3D-4011-BA63-0FBD200B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1A7-C4C6-4D37-81E4-E8BDDDF5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795-913F-4292-A010-8AFE9147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4B1-CDEF-4E7E-8CB7-FA0C1F8D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249-A91D-45F4-8766-0BA5A634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A58-10A5-415B-8C64-4700F349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B47-9EE2-439C-8623-40CDECE4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23C-4A46-4084-A41C-A052CB68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0DDA-11B3-47D5-854E-AE3A0DB160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Monitorování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a kontrola projekt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g. Jan F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stopad/prosinec 2005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74C-16FE-4E71-8237-01701D4465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114264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ozdíl mezi kontrolami dle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l. 4 a čl.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2438280"/>
          <a:ext cx="8763120" cy="3504960"/>
        </p:xfrm>
        <a:graphic>
          <a:graphicData uri="http://schemas.openxmlformats.org/drawingml/2006/table">
            <a:tbl>
              <a:tblPr/>
              <a:tblGrid>
                <a:gridCol w="4421160"/>
                <a:gridCol w="4341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Článek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cc"/>
                    </a:solidFill>
                  </a:tcPr>
                </a:tc>
              </a:tr>
              <a:tr h="30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2819160"/>
            <a:ext cx="4191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ěření účinnosti zavedených řídicích a kontrolních systémů, ověření výkazů výdajů na různých dotčených úrovních -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ádí  ŘO a jím pověřené subjek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před ukončením každé pomoci - min. 5% celkových způsobilých výdajů - z reprez. vzorku schválených oper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51920" y="289512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rola jednotlivých operací na místě  (metoda výběru vzorků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ádí KP; případně Z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znamy o ověření jednotlivých operací na místě - provedené dílo, výsledky ověření a opatření přijatá v souvislosti s nedosta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966-C96B-4D04-8A34-3872853583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realizace projektu na místě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3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U je předem o kontrole informov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členové kontrolní skupiny mají písemné pověření pr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lasti kontrol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ěcn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durální (vedení dokumentace, dodržování podmínek smlouvy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sahová (plnění věcných výstupů projek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anční (čerpání grantu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ktivit projektu (průběh realizace konkrétní aktivity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ýsledkem je Protokol o provedení kontro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43F-3784-472B-A897-C1FED22666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F104-E345-4A9D-871B-5DF3BAE966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dním z principů politiky hospodářské a sociální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zjišťování pokroku v realizaci projektů, shromažďování informací o projekt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ovnávání získaných informací s plánem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9298-C6DB-408C-9008-4F8A84D413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stavná činnost probíhající během celého trvání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á se všech úrovní implementační struktury operačního pr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údaje zjištěné monitorováním se zaznamenávají do MSSF (sumarizace dat z nejnižší po nejvyšší úroveň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ádí se především prostřednictví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ch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videlných zpráv o průběhu realizace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trol na míst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E95-88E7-4C00-A733-AA18778C8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052640"/>
            <a:ext cx="583236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Činnosti KU v rámci procesu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žádosti o finanční podporu z OP RLZ zvol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iká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které budou naplňován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střednictvím pravidelných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nitorovacích zprá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formovat KP o průběhu realizace projektu a naplňování indikátorů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veškero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ktovou dokumentac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 kontrolách na místě poskytnout všechny podklady,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ýkající se realizace projektu kontrolním pracovníků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547-9125-4D81-AB04-E248397FBA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indiká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rozpočtu program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aktivitám a jejich přímým účastníkům (sledují se počty osob, instituc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výsledk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přímým a okamžitým účinkům, které program přinesl (hledisko úspěšnosti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azatele dopad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vztahují se k následkům programu (udržitelnost; míra efektů pomoci z dlouhodobého hledisk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E101-19F6-4F36-8FBD-0BEE78431C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76108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skytujících služby nebo podporujících poskytování služeb (1.01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- klientů služeb (1.05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počátečního vzdělávání (1.05.31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sob v dalším vzdělávání (1.05.32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vědeckých a výzkumných pracovníků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.12.00 A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podpořených organizací (1.04.00 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19C6-AB8A-430F-AC2E-F068AC526C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836640"/>
            <a:ext cx="57610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kazatelé výsled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počátečn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1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gramů dalšího vzdělává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0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životního prostřed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49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vzdělávacích kurzů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komponentou informačních technologi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08.00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čet nově vytvořených/inovovaných produkt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.12.00 A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99A-7378-4337-8302-62DEBBB00B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nitorovací zprávy vypracovávané 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ují technické a finanční informace o projek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í umožňovat srovnání výsledků s plánem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sné termíny předkládání zpráv budou specifikovány v Rozhodnutí o poskytnutí dota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h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ůběžné (k termínu podávání Žádosti o platb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ávěrečné (po ukončení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EE04-F041-41AB-B335-E767BA8C44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767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ontrola na mís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3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ěření projektu v místě jeho realizac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á se o veřejnosprávní kontrolu v souladu se zákonem č. 320/2001 Sb., o finanční kontrole a o kontroly dle čl. 4 a 10 Nařízení Komise (ES) č. 438/2001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lší orgány implementační struktury OP RLZ, případně NKÚ, EK, Evropský dvůr auditor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B2A2-47FC-4F97-8D33-30CBE47609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Lenka Suchá</dc:creator>
  <dc:description/>
  <dc:language>en-US</dc:language>
  <cp:lastModifiedBy>prejzovaa</cp:lastModifiedBy>
  <dcterms:modified xsi:type="dcterms:W3CDTF">2005-12-19T13:47:07Z</dcterms:modified>
  <cp:revision>21</cp:revision>
  <dc:subject/>
  <dc:title>Monitorová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4790781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ReviewingToolsShownOnce">
    <vt:lpwstr/>
  </property>
</Properties>
</file>