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DDE-326C-4FC9-AB65-6ABA45F4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DE4-559C-43D3-B5F6-22C0A315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DFA-868F-45C0-A13A-53658ED6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69A-EBDD-4A86-8321-0856C839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99E-CDAA-467B-AB88-8E722247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795-54CA-4791-81AF-D8EEBBFF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57F-82FD-46CF-83EE-FA7C76DC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5B1-AF86-48FA-8FA1-D08EAD2B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809-17BE-4EB9-9C56-57319AC2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A92-6B63-42EF-A528-54C3A05F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492-F146-4C17-ADFE-7984124A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760-71C1-4F5D-8B30-FBAEE343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A05A-67BE-4531-9133-044AC8F252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hyperlink" Target="http://www.msmt.cz/" TargetMode="External"/><Relationship Id="rId5" Type="http://schemas.openxmlformats.org/officeDocument/2006/relationships/hyperlink" Target="http://www.msmt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hyperlink" Target="http://www.esfcr.cz/" TargetMode="External"/><Relationship Id="rId10" Type="http://schemas.openxmlformats.org/officeDocument/2006/relationships/hyperlink" Target="http://www.strukturalni-fondy.cz/" TargetMode="External"/><Relationship Id="rId11" Type="http://schemas.openxmlformats.org/officeDocument/2006/relationships/hyperlink" Target="http://www.strukturalni-fondy.cz/" TargetMode="External"/><Relationship Id="rId12" Type="http://schemas.openxmlformats.org/officeDocument/2006/relationships/hyperlink" Target="http://www.strukturalni-fondy.cz/" TargetMode="External"/><Relationship Id="rId13" Type="http://schemas.openxmlformats.org/officeDocument/2006/relationships/hyperlink" Target="http://www.strukturalni-fondy.cz/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fprovs@msmt.cz" TargetMode="External"/><Relationship Id="rId3" Type="http://schemas.openxmlformats.org/officeDocument/2006/relationships/hyperlink" Target="mailto:esfprovs@msmt.cz" TargetMode="External"/><Relationship Id="rId4" Type="http://schemas.openxmlformats.org/officeDocument/2006/relationships/hyperlink" Target="mailto:esfprovs@msmt.cz" TargetMode="External"/><Relationship Id="rId5" Type="http://schemas.openxmlformats.org/officeDocument/2006/relationships/hyperlink" Target="mailto:esfprovs@msmt.cz" TargetMode="External"/><Relationship Id="rId6" Type="http://schemas.openxmlformats.org/officeDocument/2006/relationships/hyperlink" Target="mailto:esfprovs@msmt.cz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1484280"/>
            <a:ext cx="87361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Priorita 3 OP RLZ 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–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Rozvoj celoživotního učení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Opatření 3.2 – Podpora terciárního vzdělávání, výzkumu a vývoje</a:t>
            </a: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Seminář pro žadatele 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PhDr. Kateřina Pösingerová, CSc. listopad/prosinec 2005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Oddělení pomoci z ES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MŠ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B72-FCC0-406C-91CA-EA3FF7A107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68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Žádost o finanční podporu z 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dkládána je v 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ogramu Benefi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jemcem žádostí je Konečný příjemce, tj. oddělení pomoci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FA4-1297-437C-93CB-1D5004DCFD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688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mity pro předkládání žá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136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ba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álně 2 roky ode dne potvrzení přijetí rozhodnut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poskytnutí dotace Konečným uživate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ční limity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ální výše přidělených prostředků 10 mil. Kč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ální výše přidělených prostředků 500 tis.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6E3-6DC8-4B49-8699-46B5E9F2C0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6553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ritéria pro hodnocení žádostí o finanční podporu z ESF v Opatření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136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ecná kritér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důvodnění projektu (zdůvodnění záměru, vazba na strategické dokumenty, přínos pro cílovou skupin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ílová skupina (její přiměřenost a zapojení do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e projektu (klíčové aktivity, stádia realizace, monitorování, zkušenosti s řízením projektů, publicita, udržitelnost projekt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y a výstupy (kvantifikace výsledků a výstupů a jejich zajištění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ální témata (rovné příležitosti, udržitelný rozvoj, informační společnost, místní iniciativ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75D-5C0C-4B32-8CFF-6CFA48AAA6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6553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ritéria pro hodnocení žádostí o finanční podporu z ESF v Opatření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532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ická kritér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nerství – zapojení partnerů, kteří se zabývají řešenou problematikou, do projektu, vymezení rolí jednotlivých partner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měřenost výše požadovaných finančních prostředků k cílům a obsah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952-5291-4DE2-A19D-8E60D1A2DA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ozpočet GS Opatření 3.2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55640" y="1981080"/>
          <a:ext cx="7702200" cy="1016280"/>
        </p:xfrm>
        <a:graphic>
          <a:graphicData uri="http://schemas.openxmlformats.org/drawingml/2006/table">
            <a:tbl>
              <a:tblPr/>
              <a:tblGrid>
                <a:gridCol w="1395360"/>
                <a:gridCol w="1394280"/>
                <a:gridCol w="1395720"/>
                <a:gridCol w="1452960"/>
                <a:gridCol w="206388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istrace 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9912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A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Zkvalitňování vzdělávání na vysokých školá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B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učitelských studijních program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C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dalšího vzdělávání na vysokých školá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D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lidských zdrojů v oblasti výzkumu a vývo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8A1-9914-492E-9400-33546D09C3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nancování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orma předfinancování (ve výši 25 % celkových uznatelných výdajů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jedná se o kapitálové investi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žadatel musí mít pro projekt zřízen zvláštní bankovní úč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tvrtletní vyúčtování plateb (současně s podáváním zpráv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 průběhu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inancovány pouz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znatelné výdaj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daje uznatelné EK z hlediska OP RLZ (nelze zaměňovat s daňově uznatelnými nákla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A79-AE8F-4F11-9FFF-A1C7B32FAC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innosti při tvorbě dokumentace a vedení účetnictví projekt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chovávat přesné a pravidelné záznamy o průběhu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ést účetnictv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 smyslu zákona o účetnictví a vést oddělené transparentní analytické účty souvisejí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realizac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chivovat dokument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jekt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dobu 10 l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 obdržení závěrečné plat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C0D-615C-4C35-9E40-1577CF0298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rch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ečný uživatel archivuje zejmé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luvní dokumenty vztahujících se k projek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ňové do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pisy z úč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žádosti o proplacení výdajů, včetně konkrétních přílo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y spojené s prováděním k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respondenci se všemi subjekty zapojenými do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 Konečným příjemcem, partnery, dodavatel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ovací a hodnotící zprávy za projek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ECF-C946-4C6E-A8C6-95B7D928DF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ubli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ční a propagační aktivity Konečného uživatele (v souladu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izuální identitou ESF v Č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- viz 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ět finanční spoluúčast EU, resp. ESF na všech výstup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ísťovat loga EU a ESF na informačních, studijních a dalších materiálech souvisejících s proje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vlastních webových stránkách odkazovat na webové stránky EU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j. na stránky informující o ESF v 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ísťovat vlajky EU a další informační materiály v místnostech, kde se konají informační akce o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klady spojené s publicitou projektu jsou uznatelnými výda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1B8-1842-4DD6-9F75-FDB7B8D7B3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žitečné od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msmt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7"/>
              </a:rPr>
              <a:t>esfcr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9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0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1"/>
              </a:rPr>
              <a:t>strukturalni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2"/>
              </a:rPr>
              <a:t>-fondy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3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98D-1F61-4D5E-8C5E-782AD635B1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Základ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147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ční orgán pro Opatření 3.2, tj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ečný příjem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ddělení pomoci z ESF (303) při odboru vysokých škol (30) skupiny vědy a vysokého školství MŠMT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ečný uživat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patření 3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sok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ce z praxe zabývající se vzděláváním na vysokých škol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ce z oblasti výzkumu a vývo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ociace zaměstna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C24-B18F-4557-B6BA-AC3E610F8E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esfprovs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msmt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6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188-4E4A-419C-A943-11491BB38C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šeobecné zaměření pro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zaměstnatelnosti a sociálního začleňování znevýhodněných jednotliv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podpůrných opatření k rozvoji systémů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struktur a k posilování kapacit poskytovatelů služeb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 cílové skup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D2B-C941-412C-8626-296D528301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rogramy podpory Opatření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1532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kvalitňování vzdělávání na vysokých školách (Pp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učitelských studijních programů (Pp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dalšího vzdělávání na vysokých školách (P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lidských zdrojů v oblasti výzkumu a vývoje (Pp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27B-7ADA-4F14-A062-A597ECC167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360" y="981000"/>
            <a:ext cx="68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A - Zkvalitňování vzdělávání na vysokých školách v rámci bakalářských, magisterských a doktorských studij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81471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hloubení vnitřní diferenciace a zejména kvalitativního rozvoje bakalářských, magisterských a doktorských studijních programů, modulové uspořádání programů a realizace těchto studijních progra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lupráce škol s odbornými pracovišti a s organizacemi zaměstnavatelů (při přípravě a realizaci studijních program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18C-3392-44FB-8EBF-675FA62BC1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105228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B - Rozvoj učitelských studij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učitelských studijních programů počátečníh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dalšího vzdělávání a jejich realiz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programů pedagogické způsobilosti pro absolventy vysokoškolských programů nepedagogického zaměření a jejich realiz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, zájemci o další studium na vysokých škol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CCF-67A5-4912-B0D4-4D1721BBCB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980640"/>
            <a:ext cx="626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C - Rozvoj dalšího vzdělávání </a:t>
            </a:r>
            <a:br>
              <a:rPr sz="2400"/>
            </a:b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na vysokých škol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a realizace rozšířené nabídky dalšího vzdělávání na vysokých školách v souladu s prosazováním aktivní politiky trhu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zájemci o další studium na vysokých školách, akademičtí pracovníci vysokých šk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9D7-4FF4-4E7A-82B8-2E44E188FF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5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D - Rozvoj lidských zdrojů v oblasti výzkumu a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vorba a realizace programů dalšího vzdělávání  zaměřeného na oblast věcného a finančního řízení, inovačního podnikání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odnikání ve výzkumu, šíření výsledků vědy a výzkumu do praxe, transfer technologií a osvojování si znalostí o ochraně duševního vlastnictví pracovníků z oblasti výzkumu a vývo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, akademičtí pracovníci vysokých škol, zaměstnanci institucí výzkumu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ývo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B87-BFC0-4B3E-A707-13506712D2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58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ýzva k předkládání žádostí o finanční podporu z 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čena je pro podávání žádostí o financování projektů Konečných uži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ahem je upřesnění podmínek pro podávání žádo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veřejněna je elektronicky na webových stránkách MŠ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oficiálních stránkách ESF v ČR a dále ve dvou celostátních denící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6DA-83D6-49C4-A2D9-C854C6EAA3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K.Pösingerová</dc:creator>
  <dc:description/>
  <dc:language>en-US</dc:language>
  <cp:lastModifiedBy>prejzovaa</cp:lastModifiedBy>
  <dcterms:modified xsi:type="dcterms:W3CDTF">2005-12-19T13:46:10Z</dcterms:modified>
  <cp:revision>29</cp:revision>
  <dc:subject/>
  <dc:title>Úvod seminář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2439103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PreviousAdHocReviewCycleID">
    <vt:r8>1514197294</vt:r8>
  </property>
  <property fmtid="{D5CDD505-2E9C-101B-9397-08002B2CF9AE}" pid="7" name="_ReviewingToolsShownOnce">
    <vt:lpwstr/>
  </property>
</Properties>
</file>