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4A1-0FF5-43D7-AC7C-D19F3D8D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437B-2C5A-4143-A660-5E39E630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523-5245-41AE-9F9E-FC9D9E44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60A-598B-4D3D-B688-08436D86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1C3-2CE8-4E96-B895-A97A5A50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C2E-692E-42F7-9DF0-DF5574C4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396-C27B-4C34-B216-373814CD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409-5C97-44DE-9555-37790E3F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54D-C3DA-44F2-9585-C09CFFE7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EAC-3341-41E0-8D33-5C9A0064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0B4-741D-4971-BB68-0B2E8066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FF6-8D3E-445E-BE94-C5143A52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389C-81B3-487A-B8C6-48B14C774B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fprovs@msmt.cz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Monitorování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a kontrola projekt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minář pro žadatele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g. Jan F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istopad/prosinec 2005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1AE-F243-4ADD-BFDD-0B427177C6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114264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ozdíl mezi kontrolami dle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čl. 4 a čl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2438280"/>
          <a:ext cx="8763120" cy="3504960"/>
        </p:xfrm>
        <a:graphic>
          <a:graphicData uri="http://schemas.openxmlformats.org/drawingml/2006/table">
            <a:tbl>
              <a:tblPr/>
              <a:tblGrid>
                <a:gridCol w="4421160"/>
                <a:gridCol w="43419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Článek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Článek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0" y="2819160"/>
            <a:ext cx="4191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věření účinnosti zavedených řídicích a kontrolních systémů, ověření výkazů výdajů na různých dotčených úrovních -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vádí  ŘO a jím pověřené subjek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rola před ukončením každé pomoci - min. 5% celkových způsobilých výdajů - z reprez. vzorku schválených oper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51920" y="289512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trola jednotlivých operací na místě  (metoda výběru vzork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ádí KP; případně Z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znamy o ověření jednotlivých operací na místě - provedené dílo, výsledky ověření a opatření přijatá v souvislosti s nedost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E12-04F1-4D06-82FC-DF6DEAF154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ontrola realizace projektu na místě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38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U je předem o kontrole informová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členové kontrolní skupiny mají písemné pověření pro provedení kontro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lasti kontrol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ěcn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cedurální (vedení dokumentace, dodržování podmínek smlouvy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sahová (plnění věcných výstupů projektu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anční (čerpání grantu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ktivit projektu (průběh realizace konkrétní aktivity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ýsledkem je Protokol o provedení kontro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BCBE-79ED-4652-B9A4-04045C9078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esfprovs@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1D5-9FBC-4B6F-8581-BC42BEB3C6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 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15328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dním z principů politiky hospodářské a sociální soudrž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ůběžné zjišťování pokroku v realizaci projektů, shromažďování informací o projekt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ovnávání získaných informací s plánem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16B-7A4E-432E-81C2-0048FE5B9B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 (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tavná činnost probíhající během celého trvání pr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ýká se všech úrovní implementační struktury operačního pr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údaje zjištěné monitorováním se zaznamenávají do MSSF (sumarizace dat z nejnižší po nejvyšší úroveň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ádí se především prostřednictví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ovacích indikátorů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videlných zpráv o průběhu realizace projekt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trol na míst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91E-6106-48C8-BCDC-F853541E0D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1052640"/>
            <a:ext cx="583236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Činnosti KU v rámci procesu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 žádosti o finanční podporu z OP RLZ zvoli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kát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které budou naplňován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třednictvím pravidelných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itorovacích zprá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formovat KP o průběhu realizace projektu a naplňování indikátorů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chovávat veškero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ovou dokumentac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 kontrolách na místě poskytnout všechny podklady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ýkající se realizace projektu kontrolním pracovníků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5F7-46D4-4B95-93B5-E1F900E24B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ací indiká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rozpočtu program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aktivitám a jejich přímým účastníkům (sledují se počty osob, institucí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ýsledk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přímým a okamžitým účinkům, které program přinesl (hledisko úspěšnosti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dopad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následkům programu (udržitelnost; míra efektů pomoci z dlouhodobého hledisk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958-ABD3-46E2-8567-0F227C2275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kazatelé vý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poskytujících služby nebo podporujících poskytování služeb (1.01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- klientů služeb (1.05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počátečního vzdělávání (1.05.31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v dalším vzdělávání (1.05.32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vědeckých a výzkumných pracovníků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.12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rganizací (1.04.00 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661-ED2D-4A52-9EA7-8BC319C613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836640"/>
            <a:ext cx="57610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kazatelé výsl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gramů počátečního vzdělává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1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gramů dalšího vzdělává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0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vzdělávacích kurzů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komponentou životního prostřed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49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vzdělávacích kurzů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komponentou informačních technologi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08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dukt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2.00 A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E44-2685-4DC5-B43D-349085B7A3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767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ací zprávy vypracovávané 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ahují technické a finanční informace o projekt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í umožňovat srovnání výsledků s pláne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sné termíny předkládání zpráv budou specifikovány v Rozhodnutí o poskytnutí dotac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uh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ůběžné (k termínu podávání Žádosti o platb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ávěrečné (po ukončení projekt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014-FE27-4B02-B4CF-DEB8C95F58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767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ontrola na mís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věření projektu v místě jeho realizac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dná se o veřejnosprávní kontrolu v souladu se zákonem č. 320/2001 Sb., o finanční kontrole a o kontroly dle čl. 4 a 10 Nařízení Komise (ES) č. 438/200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vádí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alší orgány implementační struktury OP RLZ, případně NKÚ, EK, Evropský dvůr auditor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74F-8282-49E0-84FE-D07ACFDA49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Lenka Suchá</dc:creator>
  <dc:description/>
  <dc:language>en-US</dc:language>
  <cp:lastModifiedBy>prejzovaa</cp:lastModifiedBy>
  <dcterms:modified xsi:type="dcterms:W3CDTF">2005-12-19T13:47:07Z</dcterms:modified>
  <cp:revision>21</cp:revision>
  <dc:subject/>
  <dc:title>Monitorován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4790781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