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FF2D-CC1D-4256-B253-3D3CB5C01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07E7-C916-4BAC-9494-495C68F9A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89BC-4002-429A-86B4-8D89DA90F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6ABB-FFCF-462B-B2BB-A57AC6F5B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E017-83E6-4437-9F67-05F40EE95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641C-94A4-4815-AF9E-D5AAFC173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8468-8404-40E4-BA93-B354EB3F5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EC74-AF1C-4EF6-9914-2BBB8155C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DE1D-6B8A-485D-BE52-3627C24DE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A21E-CDD8-447F-9945-537985585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AF95-54C7-46B3-AB1B-1FC3D52BA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9A86-5560-41D8-8264-1FF670137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43E6D-3E27-4BD4-8AFF-FE899CF7073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628280"/>
            <a:ext cx="640872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99"/>
                </a:solidFill>
                <a:latin typeface="Arial"/>
              </a:rPr>
              <a:t>Uznatelné, neuznatelné výdaje projek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997360"/>
            <a:ext cx="8153280" cy="33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inář pro žadate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g. Johana Burgetov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opad/prosinec 200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ddělení pomoci z ES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Š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1C15-5DFC-413C-9B80-4611042517D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Uznatelné výdaje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áklady projektu musí být rozepsány na jednotlivé kalendářní roky tak, jak se předpokládá čerpání prostřed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znatelné náklady nemohou být stanoveny jako paušální částka. Musí být skutečně vynaložené, proto níže hovoříme o uznatelných výdají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uznatelné náklady jsou náklady, které nelze hradit z veřejných prostředků. Tyto náklady hradí žadatel respektive partner vždy ze svých prostřed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kt může mít samozřejmě i výnosy, ale žadatel nesmí mít z realizace projektu zisk, proto dostane v rámci OP RLZ uhrazeny jen výdaje - příj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4952-A0D5-49B7-8526-A5BC9E838D6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Základní kritéria uznatelných výdajů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ýdaj musí být vynaložen na činnosti uvedené v Opatření, respektive ve výzv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ýdaj musí vzniknout v době platnosti rozhodnutí o poskytnutí dotace počínaje dnem potvrzení podmínek rozhodnu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ýdaj musí skutečně vzniknout, být řádně uhrazen a zaznamenán na účtech příjemce finanční podpory nebo jeho partnerů. Výdaj musí být identifikovatelný a kontrolovatelný, doložitelný originály účetních doklad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6ABB-2515-4D2B-942E-2F0A874EAB1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Členění výdajů do skup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daje jsou rozděleny do skupin, které bohužel přesně neodpovídají běžnému účetnímu členění nákladů (respektive výdajů), ale lépe splňují potřeby ESF. Především pro účely procentuelních limitů některých skupin náklad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sobní výdaje – výdaje na zaměstnance žadatele a jeho projektových partner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acovní cesty – výdaje na ubytování, dopravu, stravn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Náhrady vyplacené pracovníkům českých subjektů jsou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anoveny na základě zákona 119/1992 S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Náhrady pro pracovníky zahraničních subjektů se stanovuje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le sazeb EU (Per die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5E6A-4BD7-475E-B54E-AFD39F475BD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Členění výdajů do skup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řízení a vybavení – z prostředků OP RLZ nelze hradit inves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výdaje spojené s nákupem nového, resp. použitého vybavení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 zařízení u projektů zaměřených na výzkum, vývoj, nebo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borný výcv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IM max. 40 000,-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HIM max. 60 000,-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výdaje na nákup drobného hmotného majetku, který je pro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ealizaci nezbytn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nájem, ev. splátky operativního leasingu zařízení a bud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odpisy vlastního dlouhodobého hmotného a nehmotného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ajetku, jehož využívání je nezbytné pro realizaci projektu a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mo souvisí s jeho cí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7A6F-DF3B-4FBE-8DDF-22B7B93109D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Členění výdajů do skup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15328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ístní kancelář/náklady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spotřební a provozní materiá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telefon, fax, poštovné, voda, paliva, ener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nájem kanceláře  - musí být zřejmá skutečná roční výš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ájemného a doba po kterou byla pro realizaci projektu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yužívá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ákup služ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výdaje spojené s dodáním služeb (podmínky výběru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davatelů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výdaje vyplývající přímo z rozhodnutí o poskytnutí dot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jiné výdaje (notářské poplatky, znalecké posudky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9151-81D7-4566-8825-D106B82AB3C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Členění výdajů do skup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obné stavební úpr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ň z přidané hodno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DPH je uznatelným výdajem u neplátc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plátci DPH uvádí položky rozpočtu v cenách bez D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ýdaje veřejné sprá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3556-ADA3-495C-BDA0-8D251A604EB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Neuznatelné výda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ákup zařízení, budov a mobilní infrastruktu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nční lea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ýdaje vzniklé před oficiálním datem zaháj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dení běžného účtu, bankovní poplatky, uznatelné jsou jen výdaje spojené se zřízením a vedení běžného účtu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ájemné, kdy je žadatel vlastníkem nemovitosti nebo ji užívá zdar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ýdaje na práce a školení, které jsou povinné ze zák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F0A3-4F24-4335-B73A-168CB5AD3D4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86920" y="2060280"/>
            <a:ext cx="66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99"/>
                </a:solidFill>
                <a:latin typeface="Arial"/>
              </a:rPr>
              <a:t>Děkuji za pozornost</a:t>
            </a: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14580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284360" y="1484280"/>
            <a:ext cx="417348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Kontaktní adres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ddělení pomoci z ES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dbor V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MŠM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Karmelitská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raha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email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esfprovs@msmt.c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2640-7017-4BDD-9AD7-815F5AA653B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15:48:03Z</dcterms:created>
  <dc:creator>Administrator</dc:creator>
  <dc:description/>
  <dc:language>en-US</dc:language>
  <cp:lastModifiedBy>prejzovaa</cp:lastModifiedBy>
  <dcterms:modified xsi:type="dcterms:W3CDTF">2005-12-19T13:48:09Z</dcterms:modified>
  <cp:revision>13</cp:revision>
  <dc:subject/>
  <dc:title>Prezentace pro Leničku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751688881</vt:r8>
  </property>
  <property fmtid="{D5CDD505-2E9C-101B-9397-08002B2CF9AE}" pid="3" name="_AuthorEmail">
    <vt:lpwstr>Kamila.Matusu@msmt.cz</vt:lpwstr>
  </property>
  <property fmtid="{D5CDD505-2E9C-101B-9397-08002B2CF9AE}" pid="4" name="_AuthorEmailDisplayName">
    <vt:lpwstr>Matušů Kamila</vt:lpwstr>
  </property>
  <property fmtid="{D5CDD505-2E9C-101B-9397-08002B2CF9AE}" pid="5" name="_EmailSubject">
    <vt:lpwstr>prezentace k 30.11, 8. a 15.12</vt:lpwstr>
  </property>
  <property fmtid="{D5CDD505-2E9C-101B-9397-08002B2CF9AE}" pid="6" name="_ReviewingToolsShownOnce">
    <vt:lpwstr/>
  </property>
</Properties>
</file>