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C540-33FE-4A21-B273-79BB84FFD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BABB-0374-4285-9DDF-069986F47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833C-7376-4C62-960B-1EBB571DF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53EF-D4F8-4621-9F25-4FEA59131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6171-97E4-4407-B7B5-E50C7E66D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8F31-0B00-4409-8BCE-4283622CC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139C-D58B-416E-87CB-B9ADD7B1F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3DFF-ADB0-4D04-B0B9-A7093BE3E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1C75-1516-4145-AB5C-C00E3E101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7118-1A57-4ADC-93E0-9BC3B6130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CAEA-04D4-40F6-90B8-537AD9278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79B3-F414-4001-816E-9B1CCBCA9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D3E62-2528-4E01-9568-3C6BA7B7940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sfcr.cz/" TargetMode="External"/><Relationship Id="rId3" Type="http://schemas.openxmlformats.org/officeDocument/2006/relationships/hyperlink" Target="http://www.esfcr.cz/" TargetMode="External"/><Relationship Id="rId4" Type="http://schemas.openxmlformats.org/officeDocument/2006/relationships/hyperlink" Target="http://www.esfcr.cz/" TargetMode="External"/><Relationship Id="rId5" Type="http://schemas.openxmlformats.org/officeDocument/2006/relationships/hyperlink" Target="http://www.esfcr.cz/" TargetMode="External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smt.cz/" TargetMode="External"/><Relationship Id="rId3" Type="http://schemas.openxmlformats.org/officeDocument/2006/relationships/hyperlink" Target="http://www.msmt.cz/" TargetMode="External"/><Relationship Id="rId4" Type="http://schemas.openxmlformats.org/officeDocument/2006/relationships/hyperlink" Target="http://www.msmt.cz/" TargetMode="External"/><Relationship Id="rId5" Type="http://schemas.openxmlformats.org/officeDocument/2006/relationships/hyperlink" Target="http://www.msmt.cz/" TargetMode="External"/><Relationship Id="rId6" Type="http://schemas.openxmlformats.org/officeDocument/2006/relationships/hyperlink" Target="http://www.esfcr.cz/" TargetMode="External"/><Relationship Id="rId7" Type="http://schemas.openxmlformats.org/officeDocument/2006/relationships/hyperlink" Target="http://www.esfcr.cz/" TargetMode="External"/><Relationship Id="rId8" Type="http://schemas.openxmlformats.org/officeDocument/2006/relationships/hyperlink" Target="http://www.esfcr.cz/" TargetMode="External"/><Relationship Id="rId9" Type="http://schemas.openxmlformats.org/officeDocument/2006/relationships/hyperlink" Target="http://www.esfcr.cz/" TargetMode="External"/><Relationship Id="rId10" Type="http://schemas.openxmlformats.org/officeDocument/2006/relationships/hyperlink" Target="http://www.strukturalni-fondy.cz/" TargetMode="External"/><Relationship Id="rId11" Type="http://schemas.openxmlformats.org/officeDocument/2006/relationships/hyperlink" Target="http://www.strukturalni-fondy.cz/" TargetMode="External"/><Relationship Id="rId12" Type="http://schemas.openxmlformats.org/officeDocument/2006/relationships/hyperlink" Target="http://www.strukturalni-fondy.cz/" TargetMode="External"/><Relationship Id="rId13" Type="http://schemas.openxmlformats.org/officeDocument/2006/relationships/hyperlink" Target="http://www.strukturalni-fondy.cz/" TargetMode="External"/><Relationship Id="rId1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esfprovs@msmt.cz" TargetMode="External"/><Relationship Id="rId3" Type="http://schemas.openxmlformats.org/officeDocument/2006/relationships/hyperlink" Target="mailto:esfprovs@msmt.cz" TargetMode="External"/><Relationship Id="rId4" Type="http://schemas.openxmlformats.org/officeDocument/2006/relationships/hyperlink" Target="mailto:esfprovs@msmt.cz" TargetMode="External"/><Relationship Id="rId5" Type="http://schemas.openxmlformats.org/officeDocument/2006/relationships/hyperlink" Target="mailto:esfprovs@msmt.cz" TargetMode="External"/><Relationship Id="rId6" Type="http://schemas.openxmlformats.org/officeDocument/2006/relationships/hyperlink" Target="mailto:esfprovs@msmt.cz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228240" y="1484280"/>
            <a:ext cx="87361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"/>
            </a:br>
            <a:r>
              <a:rPr b="1" lang="cs-CZ" sz="3200" spc="-1" strike="noStrike">
                <a:solidFill>
                  <a:srgbClr val="003399"/>
                </a:solidFill>
                <a:latin typeface="Arial"/>
              </a:rPr>
              <a:t>Priorita 3 OP RLZ </a:t>
            </a:r>
            <a:br>
              <a:rPr sz="3200"/>
            </a:br>
            <a:r>
              <a:rPr b="1" lang="cs-CZ" sz="3200" spc="-1" strike="noStrike">
                <a:solidFill>
                  <a:srgbClr val="003399"/>
                </a:solidFill>
                <a:latin typeface="Arial"/>
              </a:rPr>
              <a:t>–</a:t>
            </a:r>
            <a:br>
              <a:rPr sz="3200"/>
            </a:br>
            <a:r>
              <a:rPr b="1" lang="cs-CZ" sz="3200" spc="-1" strike="noStrike">
                <a:solidFill>
                  <a:srgbClr val="003399"/>
                </a:solidFill>
                <a:latin typeface="Arial"/>
              </a:rPr>
              <a:t>Rozvoj celoživotního učení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399"/>
                </a:solidFill>
                <a:latin typeface="Arial"/>
              </a:rPr>
              <a:t> </a:t>
            </a:r>
            <a:br>
              <a:rPr sz="3200"/>
            </a:br>
            <a:r>
              <a:rPr b="1" lang="cs-CZ" sz="3200" spc="-1" strike="noStrike">
                <a:solidFill>
                  <a:srgbClr val="003399"/>
                </a:solidFill>
                <a:latin typeface="Arial"/>
              </a:rPr>
              <a:t>Opatření 3.2 – Podpora terciárního vzdělávání, výzkumu a vývoje</a:t>
            </a:r>
            <a:r>
              <a:rPr b="1" lang="cs-CZ" sz="2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3399"/>
                </a:solidFill>
                <a:latin typeface="Arial"/>
              </a:rPr>
              <a:t>      </a:t>
            </a:r>
            <a:r>
              <a:rPr b="1" lang="cs-CZ" sz="1700" spc="-1" strike="noStrike">
                <a:solidFill>
                  <a:srgbClr val="003399"/>
                </a:solidFill>
                <a:latin typeface="Arial"/>
              </a:rPr>
              <a:t>Seminář pro žadatele </a:t>
            </a:r>
            <a:r>
              <a:rPr b="1" lang="cs-CZ" sz="17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cs-CZ" sz="17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cs-CZ" sz="17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cs-CZ" sz="1700" spc="-1" strike="noStrike">
                <a:solidFill>
                  <a:srgbClr val="003399"/>
                </a:solidFill>
                <a:latin typeface="Arial"/>
              </a:rPr>
              <a:t>PhDr. Kateřina Pösingerová, CSc. listopad/prosinec 2005</a:t>
            </a:r>
            <a:r>
              <a:rPr b="1" lang="cs-CZ" sz="17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cs-CZ" sz="17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cs-CZ" sz="17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cs-CZ" sz="1700" spc="-1" strike="noStrike">
                <a:solidFill>
                  <a:srgbClr val="003399"/>
                </a:solidFill>
                <a:latin typeface="Arial"/>
              </a:rPr>
              <a:t>Oddělení pomoci z ESF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cs-CZ" sz="17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cs-CZ" sz="17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cs-CZ" sz="17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cs-CZ" sz="17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cs-CZ" sz="17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cs-CZ" sz="1700" spc="-1" strike="noStrike">
                <a:solidFill>
                  <a:srgbClr val="003399"/>
                </a:solidFill>
                <a:latin typeface="Arial"/>
              </a:rPr>
              <a:t>MŠM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44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8983-01F1-443D-9F57-88D0C6119D8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47280" y="907560"/>
            <a:ext cx="5688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Žádost o finanční podporu z ES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1360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ředkládána je v 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programu Benefit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říjemcem žádostí je Konečný příjemce, tj. oddělení pomoci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 ES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4C79-1AEB-4F3E-B90D-624F5ED438A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47280" y="907920"/>
            <a:ext cx="568836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Limity pro předkládání žádos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1360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ba realizace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–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imálně 2 roky ode dne potvrzení přijetí rozhodnutí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 poskytnutí dotace Konečným uživatel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nanční limity podp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imální výše přidělených prostředků 10 mil. Kč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nimální výše přidělených prostředků 500 tis. K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3287-EFA5-4886-80B4-9B3FF827EE8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47640" y="981000"/>
            <a:ext cx="655344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Kritéria pro hodnocení žádostí o finanční podporu z ESF v Opatření 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1360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becná kritéri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důvodnění projektu (zdůvodnění záměru, vazba na strategické dokumenty, přínos pro cílovou skupinu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ílová skupina (její přiměřenost a zapojení do projektu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lizace projektu (klíčové aktivity, stádia realizace, monitorování, zkušenosti s řízením projektů, publicita, udržitelnost projektu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ýsledky a výstupy (kvantifikace výsledků a výstupů a jejich zajištění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izontální témata (rovné příležitosti, udržitelný rozvoj, informační společnost, místní iniciativ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F6A5-2C22-43C6-BF34-AD939071998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47640" y="981000"/>
            <a:ext cx="655344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Kritéria pro hodnocení žádostí o finanční podporu z ESF v Opatření 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15328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ecifická kritéri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tnerství – zapojení partnerů, kteří se zabývají řešenou problematikou, do projektu, vymezení rolí jednotlivých partner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řiměřenost výše požadovaných finančních prostředků k cílům a obsahu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21E7-D410-435B-B2AA-812D9BA14D7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7280" y="907560"/>
            <a:ext cx="5761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ozpočet GS Opatření 3.2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755640" y="1981080"/>
          <a:ext cx="7702200" cy="1016280"/>
        </p:xfrm>
        <a:graphic>
          <a:graphicData uri="http://schemas.openxmlformats.org/drawingml/2006/table">
            <a:tbl>
              <a:tblPr/>
              <a:tblGrid>
                <a:gridCol w="1395360"/>
                <a:gridCol w="1394280"/>
                <a:gridCol w="1395720"/>
                <a:gridCol w="1452960"/>
                <a:gridCol w="2063880"/>
              </a:tblGrid>
              <a:tr h="54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p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p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p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ministrace 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,7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,7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,7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,7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1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360" y="3645000"/>
            <a:ext cx="799128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PpA</a:t>
            </a: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Zkvalitňování vzdělávání na vysokých školách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PpB</a:t>
            </a: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Rozvoj učitelských studijních programů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PpC</a:t>
            </a: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Rozvoj dalšího vzdělávání na vysokých školách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PpD</a:t>
            </a: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Rozvoj lidských zdrojů v oblasti výzkumu a vývoj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23EC-B36F-4D8C-9EC1-5F529F1A94A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47280" y="907560"/>
            <a:ext cx="5761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Financování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07280" cy="38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forma předfinancování (ve výši 25 % celkových uznatelných výdajů projektu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nejedná se o kapitálové investic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žadatel musí mít pro projekt zřízen zvláštní bankovní úč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čtvrtletní vyúčtování plateb (současně s podáváním zpráv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o průběhu projektu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financovány pouze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uznatelné výdaj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ýdaje uznatelné EK z hlediska OP RLZ (nelze zaměňovat s daňově uznatelnými náklad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5240-5EDB-46FD-A12E-021E2F424F9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47280" y="907560"/>
            <a:ext cx="5761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Dokumen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28036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vinnosti při tvorbě dokumentace a vedení účetnictví projektu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chovávat přesné a pravidelné záznamy o průběhu realizace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ést účetnictví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ve smyslu zákona o účetnictví a vést oddělené transparentní analytické účty souvisejíc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 realizací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chivovat dokumentac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projektu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 dobu 10 le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 obdržení závěrečné platb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A9DC-A305-40B0-BC2F-38879021743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47280" y="907560"/>
            <a:ext cx="5761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rchiv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072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onečný uživatel archivuje zejmén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5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mluvní dokumenty vztahujících se k projektu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jektovou dokumentac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ňové doklad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ýpisy z úč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žádosti o proplacení výdajů, včetně konkrétních přílo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kumenty spojené s prováděním kontr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orespondenci se všemi subjekty zapojenými do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s Konečným příjemcem, partnery, dodavateli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nitorovací a hodnotící zprávy za projek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C3EC-1B81-4D12-AB0E-707CB40B8FB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47280" y="907560"/>
            <a:ext cx="5761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Public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072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formační a propagační aktivity Konečného uživatele (v souladu 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Vizuální identitou ESF v ČR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- viz </a:t>
            </a:r>
            <a:r>
              <a:rPr b="0" lang="cs-CZ" sz="2000" spc="-1" strike="noStrike" u="sng">
                <a:solidFill>
                  <a:srgbClr val="3366ff"/>
                </a:solidFill>
                <a:uFillTx/>
                <a:latin typeface="Arial"/>
                <a:hlinkClick r:id="rId2"/>
              </a:rPr>
              <a:t>www.</a:t>
            </a:r>
            <a:r>
              <a:rPr b="0" lang="cs-CZ" sz="2000" spc="-1" strike="noStrike" u="sng">
                <a:solidFill>
                  <a:srgbClr val="3366ff"/>
                </a:solidFill>
                <a:uFillTx/>
                <a:latin typeface="Arial"/>
                <a:hlinkClick r:id="rId3"/>
              </a:rPr>
              <a:t>esfcr</a:t>
            </a:r>
            <a:r>
              <a:rPr b="0" lang="cs-CZ" sz="2000" spc="-1" strike="noStrike" u="sng">
                <a:solidFill>
                  <a:srgbClr val="3366ff"/>
                </a:solidFill>
                <a:uFillTx/>
                <a:latin typeface="Arial"/>
                <a:hlinkClick r:id="rId4"/>
              </a:rPr>
              <a:t>.</a:t>
            </a:r>
            <a:r>
              <a:rPr b="0" lang="cs-CZ" sz="2000" spc="-1" strike="noStrike" u="sng">
                <a:solidFill>
                  <a:srgbClr val="3366ff"/>
                </a:solidFill>
                <a:uFillTx/>
                <a:latin typeface="Arial"/>
                <a:hlinkClick r:id="rId5"/>
              </a:rPr>
              <a:t>cz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vádět finanční spoluúčast EU, resp. ESF na všech výstup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mísťovat loga EU a ESF na informačních, studijních a dalších materiálech souvisejících s projek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 vlastních webových stránkách odkazovat na webové stránky EU, 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j. na stránky informující o ESF v Č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mísťovat vlajky EU a další informační materiály v místnostech, kde se konají informační akce o ES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klady spojené s publicitou projektu jsou uznatelnými výdaj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CB31-2EFF-4EFC-8876-B42C0BA7E68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47280" y="907560"/>
            <a:ext cx="5761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Užitečné odka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072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 u="sng">
                <a:solidFill>
                  <a:srgbClr val="3366ff"/>
                </a:solidFill>
                <a:uFillTx/>
                <a:latin typeface="Arial"/>
                <a:hlinkClick r:id="rId2"/>
              </a:rPr>
              <a:t>www.</a:t>
            </a:r>
            <a:r>
              <a:rPr b="0" lang="cs-CZ" sz="2200" spc="-1" strike="noStrike" u="sng">
                <a:solidFill>
                  <a:srgbClr val="3366ff"/>
                </a:solidFill>
                <a:uFillTx/>
                <a:latin typeface="Arial"/>
                <a:hlinkClick r:id="rId3"/>
              </a:rPr>
              <a:t>msmt</a:t>
            </a:r>
            <a:r>
              <a:rPr b="0" lang="cs-CZ" sz="2200" spc="-1" strike="noStrike" u="sng">
                <a:solidFill>
                  <a:srgbClr val="3366ff"/>
                </a:solidFill>
                <a:uFillTx/>
                <a:latin typeface="Arial"/>
                <a:hlinkClick r:id="rId4"/>
              </a:rPr>
              <a:t>.</a:t>
            </a:r>
            <a:r>
              <a:rPr b="0" lang="cs-CZ" sz="2200" spc="-1" strike="noStrike" u="sng">
                <a:solidFill>
                  <a:srgbClr val="3366ff"/>
                </a:solidFill>
                <a:uFillTx/>
                <a:latin typeface="Arial"/>
                <a:hlinkClick r:id="rId5"/>
              </a:rPr>
              <a:t>c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 u="sng">
                <a:solidFill>
                  <a:srgbClr val="3366ff"/>
                </a:solidFill>
                <a:uFillTx/>
                <a:latin typeface="Arial"/>
                <a:hlinkClick r:id="rId6"/>
              </a:rPr>
              <a:t>www.</a:t>
            </a:r>
            <a:r>
              <a:rPr b="0" lang="cs-CZ" sz="2200" spc="-1" strike="noStrike" u="sng">
                <a:solidFill>
                  <a:srgbClr val="3366ff"/>
                </a:solidFill>
                <a:uFillTx/>
                <a:latin typeface="Arial"/>
                <a:hlinkClick r:id="rId7"/>
              </a:rPr>
              <a:t>esfcr</a:t>
            </a:r>
            <a:r>
              <a:rPr b="0" lang="cs-CZ" sz="2200" spc="-1" strike="noStrike" u="sng">
                <a:solidFill>
                  <a:srgbClr val="3366ff"/>
                </a:solidFill>
                <a:uFillTx/>
                <a:latin typeface="Arial"/>
                <a:hlinkClick r:id="rId8"/>
              </a:rPr>
              <a:t>.</a:t>
            </a:r>
            <a:r>
              <a:rPr b="0" lang="cs-CZ" sz="2200" spc="-1" strike="noStrike" u="sng">
                <a:solidFill>
                  <a:srgbClr val="3366ff"/>
                </a:solidFill>
                <a:uFillTx/>
                <a:latin typeface="Arial"/>
                <a:hlinkClick r:id="rId9"/>
              </a:rPr>
              <a:t>c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 u="sng">
                <a:solidFill>
                  <a:srgbClr val="3366ff"/>
                </a:solidFill>
                <a:uFillTx/>
                <a:latin typeface="Arial"/>
                <a:hlinkClick r:id="rId10"/>
              </a:rPr>
              <a:t>www.</a:t>
            </a:r>
            <a:r>
              <a:rPr b="0" lang="cs-CZ" sz="2200" spc="-1" strike="noStrike" u="sng">
                <a:solidFill>
                  <a:srgbClr val="3366ff"/>
                </a:solidFill>
                <a:uFillTx/>
                <a:latin typeface="Arial"/>
                <a:hlinkClick r:id="rId11"/>
              </a:rPr>
              <a:t>strukturalni</a:t>
            </a:r>
            <a:r>
              <a:rPr b="0" lang="cs-CZ" sz="2200" spc="-1" strike="noStrike" u="sng">
                <a:solidFill>
                  <a:srgbClr val="3366ff"/>
                </a:solidFill>
                <a:uFillTx/>
                <a:latin typeface="Arial"/>
                <a:hlinkClick r:id="rId12"/>
              </a:rPr>
              <a:t>-fondy.</a:t>
            </a:r>
            <a:r>
              <a:rPr b="0" lang="cs-CZ" sz="2200" spc="-1" strike="noStrike" u="sng">
                <a:solidFill>
                  <a:srgbClr val="3366ff"/>
                </a:solidFill>
                <a:uFillTx/>
                <a:latin typeface="Arial"/>
                <a:hlinkClick r:id="rId13"/>
              </a:rPr>
              <a:t>c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03FE-8990-4DDC-8885-2362CD4918F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Základní inform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916280"/>
            <a:ext cx="81471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lementační orgán pro Opatření 3.2, tj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onečný příjemc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ddělení pomoci z ESF (303) při odboru vysokých škol (30) skupiny vědy a vysokého školství MŠMT Č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onečný uživate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Opatření 3.2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ysoké ško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ituce z praxe zabývající se vzděláváním na vysokých školá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ituce z oblasti výzkumu a vývoj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ociace zaměstnavatel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0EA4-249C-4FA4-B95C-C71031B863E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755640" y="1628640"/>
            <a:ext cx="7632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000" spc="-1" strike="noStrike">
                <a:solidFill>
                  <a:srgbClr val="000000"/>
                </a:solidFill>
                <a:latin typeface="Arial"/>
              </a:rPr>
              <a:t>Děkuji za pozornos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ntaktní adres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dělení pomoci z ES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bor V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ŠM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armelitská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ah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mail:</a:t>
            </a:r>
            <a:r>
              <a:rPr b="0" lang="cs-CZ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cs-CZ" sz="2000" spc="-1" strike="noStrike" u="sng">
                <a:solidFill>
                  <a:srgbClr val="3366ff"/>
                </a:solidFill>
                <a:uFillTx/>
                <a:latin typeface="Arial"/>
                <a:hlinkClick r:id="rId2"/>
              </a:rPr>
              <a:t>esfprovs</a:t>
            </a:r>
            <a:r>
              <a:rPr b="0" lang="cs-CZ" sz="2000" spc="-1" strike="noStrike" u="sng">
                <a:solidFill>
                  <a:srgbClr val="3366ff"/>
                </a:solidFill>
                <a:uFillTx/>
                <a:latin typeface="Arial"/>
                <a:hlinkClick r:id="rId3"/>
              </a:rPr>
              <a:t>@</a:t>
            </a:r>
            <a:r>
              <a:rPr b="0" lang="cs-CZ" sz="2000" spc="-1" strike="noStrike" u="sng">
                <a:solidFill>
                  <a:srgbClr val="3366ff"/>
                </a:solidFill>
                <a:uFillTx/>
                <a:latin typeface="Arial"/>
                <a:hlinkClick r:id="rId4"/>
              </a:rPr>
              <a:t>msmt</a:t>
            </a:r>
            <a:r>
              <a:rPr b="0" lang="cs-CZ" sz="2000" spc="-1" strike="noStrike" u="sng">
                <a:solidFill>
                  <a:srgbClr val="3366ff"/>
                </a:solidFill>
                <a:uFillTx/>
                <a:latin typeface="Arial"/>
                <a:hlinkClick r:id="rId5"/>
              </a:rPr>
              <a:t>.</a:t>
            </a:r>
            <a:r>
              <a:rPr b="0" lang="cs-CZ" sz="2000" spc="-1" strike="noStrike" u="sng">
                <a:solidFill>
                  <a:srgbClr val="3366ff"/>
                </a:solidFill>
                <a:uFillTx/>
                <a:latin typeface="Arial"/>
                <a:hlinkClick r:id="rId6"/>
              </a:rPr>
              <a:t>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FD02-40D6-425F-BD19-4D5E5C76063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Všeobecné zaměření projekt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206028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odpora zaměstnatelnosti a sociálního začleňování znevýhodněných jednotlivc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odpora podpůrných opatření k rozvoji systémů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a struktur a k posilování kapacit poskytovatelů služeb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ro cílové skupin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8548-088D-4A72-830C-4456248256B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Programy podpory Opatření 3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153280" cy="42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kvalitňování vzdělávání na vysokých školách (Pp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Rozvoj učitelských studijních programů (PpB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Rozvoj dalšího vzdělávání na vysokých školách (Pp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Rozvoj lidských zdrojů v oblasti výzkumu a vývoje (Pp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83D3-B762-45C3-9E28-114788CD42F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76360" y="981000"/>
            <a:ext cx="6840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99"/>
                </a:solidFill>
                <a:latin typeface="Arial"/>
              </a:rPr>
              <a:t>PpA - Zkvalitňování vzdělávání na vysokých školách v rámci bakalářských, magisterských a doktorských studijních program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2421000"/>
            <a:ext cx="814716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hloubení vnitřní diferenciace a zejména kvalitativního rozvoje bakalářských, magisterských a doktorských studijních programů, modulové uspořádání programů a realizace těchto studijních program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olupráce škol s odbornými pracovišti a s organizacemi zaměstnavatelů (při přípravě a realizaci studijních programů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ílová skupin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studenti vysokých ško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38F4-9674-4761-A61F-6F50F663EF9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47280" y="1052280"/>
            <a:ext cx="6193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99"/>
                </a:solidFill>
                <a:latin typeface="Arial"/>
              </a:rPr>
              <a:t>PpB - Rozvoj učitelských studijních program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15328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kvalitnění učitelských studijních programů počátečního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 dalšího vzdělávání a jejich realiz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kvalitnění programů pedagogické způsobilosti pro absolventy vysokoškolských programů nepedagogického zaměření a jejich realizac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ílová skupin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studenti vysokých škol, zájemci o další studium na vysokých školá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700A-EB3D-4B1F-B273-AB1FCEF690E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47280" y="980640"/>
            <a:ext cx="6264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99"/>
                </a:solidFill>
                <a:latin typeface="Arial"/>
              </a:rPr>
              <a:t>PpC - Rozvoj dalšího vzdělávání </a:t>
            </a:r>
            <a:br>
              <a:rPr sz="2400"/>
            </a:br>
            <a:r>
              <a:rPr b="1" lang="cs-CZ" sz="2400" spc="-1" strike="noStrike">
                <a:solidFill>
                  <a:srgbClr val="003399"/>
                </a:solidFill>
                <a:latin typeface="Arial"/>
              </a:rPr>
              <a:t>na vysokých školá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15328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kvalitnění a realizace rozšířené nabídky dalšího vzdělávání na vysokých školách v souladu s prosazováním aktivní politiky trhu prá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ílová skupin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zájemci o další studium na vysokých školách, akademičtí pracovníci vysokých šk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DF58-515A-45C0-8A2F-D6DD866F811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47640" y="980640"/>
            <a:ext cx="6553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99"/>
                </a:solidFill>
                <a:latin typeface="Arial"/>
              </a:rPr>
              <a:t>PpD - Rozvoj lidských zdrojů v oblasti výzkumu a vývo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15328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vorba a realizace programů dalšího vzdělávání  zaměřeného na oblast věcného a finančního řízení, inovačního podnikání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odnikání ve výzkumu, šíření výsledků vědy a výzkumu do praxe, transfer technologií a osvojování si znalostí o ochraně duševního vlastnictví pracovníků z oblasti výzkumu a vývoj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ílová skupin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studenti vysokých škol, akademičtí pracovníci vysokých škol, zaměstnanci institucí výzkumu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vývoj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406A-9D50-4E99-A2F3-293A63352C2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47640" y="981000"/>
            <a:ext cx="58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Výzva k předkládání žádostí o finanční podporu z ES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15328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rčena je pro podávání žádostí o financování projektů Konečných uživatel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sahem je upřesnění podmínek pro podávání žádost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veřejněna je elektronicky na webových stránkách MŠMT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oficiálních stránkách ESF v ČR a dále ve dvou celostátních denící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D243-6032-4593-A952-74588806A8A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15:48:03Z</dcterms:created>
  <dc:creator>K.Pösingerová</dc:creator>
  <dc:description/>
  <dc:language>en-US</dc:language>
  <cp:lastModifiedBy>prejzovaa</cp:lastModifiedBy>
  <dcterms:modified xsi:type="dcterms:W3CDTF">2005-12-19T13:46:10Z</dcterms:modified>
  <cp:revision>29</cp:revision>
  <dc:subject/>
  <dc:title>Úvod seminář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2439103</vt:r8>
  </property>
  <property fmtid="{D5CDD505-2E9C-101B-9397-08002B2CF9AE}" pid="3" name="_AuthorEmail">
    <vt:lpwstr>Kamila.Matusu@msmt.cz</vt:lpwstr>
  </property>
  <property fmtid="{D5CDD505-2E9C-101B-9397-08002B2CF9AE}" pid="4" name="_AuthorEmailDisplayName">
    <vt:lpwstr>Matušů Kamila</vt:lpwstr>
  </property>
  <property fmtid="{D5CDD505-2E9C-101B-9397-08002B2CF9AE}" pid="5" name="_EmailSubject">
    <vt:lpwstr>prezentace k 30.11, 8. a 15.12</vt:lpwstr>
  </property>
  <property fmtid="{D5CDD505-2E9C-101B-9397-08002B2CF9AE}" pid="6" name="_PreviousAdHocReviewCycleID">
    <vt:r8>1514197294</vt:r8>
  </property>
  <property fmtid="{D5CDD505-2E9C-101B-9397-08002B2CF9AE}" pid="7" name="_ReviewingToolsShownOnce">
    <vt:lpwstr/>
  </property>
</Properties>
</file>