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32AF-88C5-46A3-8C04-E65A2017B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2F28-0931-4E03-BF2E-E93FD0F57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9740-C3B0-42E6-8B27-2ACFBC43E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8F0C-6B2E-4C6B-BC15-D6B1969B9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56CD-C528-4713-96E8-3FB32F1FA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FF7B-2CCB-4F12-974A-289EAE3E7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949D-6673-4B41-885A-4A44D84A7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EB7E-A126-465A-BCEE-D178AA8FE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673A-F74E-40B3-94F4-6188AA579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63B2-0012-4FD3-AFD5-DCE31A39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CC8A-97B8-4D47-A759-9B03936B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AED0-B290-4353-909C-B3CC2BB4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90286-ED19-4027-9E76-D6BC18B5CC0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sfcr.cz/" TargetMode="External"/><Relationship Id="rId3" Type="http://schemas.openxmlformats.org/officeDocument/2006/relationships/hyperlink" Target="http://www.esfcr.cz/" TargetMode="External"/><Relationship Id="rId4" Type="http://schemas.openxmlformats.org/officeDocument/2006/relationships/hyperlink" Target="http://www.esfcr.cz/" TargetMode="External"/><Relationship Id="rId5" Type="http://schemas.openxmlformats.org/officeDocument/2006/relationships/hyperlink" Target="http://www.esfcr.cz/" TargetMode="External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smt.cz/" TargetMode="External"/><Relationship Id="rId3" Type="http://schemas.openxmlformats.org/officeDocument/2006/relationships/hyperlink" Target="http://www.msmt.cz/" TargetMode="External"/><Relationship Id="rId4" Type="http://schemas.openxmlformats.org/officeDocument/2006/relationships/hyperlink" Target="http://www.msmt.cz/" TargetMode="External"/><Relationship Id="rId5" Type="http://schemas.openxmlformats.org/officeDocument/2006/relationships/hyperlink" Target="http://www.msmt.cz/" TargetMode="External"/><Relationship Id="rId6" Type="http://schemas.openxmlformats.org/officeDocument/2006/relationships/hyperlink" Target="http://www.esfcr.cz/" TargetMode="External"/><Relationship Id="rId7" Type="http://schemas.openxmlformats.org/officeDocument/2006/relationships/hyperlink" Target="http://www.esfcr.cz/" TargetMode="External"/><Relationship Id="rId8" Type="http://schemas.openxmlformats.org/officeDocument/2006/relationships/hyperlink" Target="http://www.esfcr.cz/" TargetMode="External"/><Relationship Id="rId9" Type="http://schemas.openxmlformats.org/officeDocument/2006/relationships/hyperlink" Target="http://www.esfcr.cz/" TargetMode="External"/><Relationship Id="rId10" Type="http://schemas.openxmlformats.org/officeDocument/2006/relationships/hyperlink" Target="http://www.strukturalni-fondy.cz/" TargetMode="External"/><Relationship Id="rId11" Type="http://schemas.openxmlformats.org/officeDocument/2006/relationships/hyperlink" Target="http://www.strukturalni-fondy.cz/" TargetMode="External"/><Relationship Id="rId12" Type="http://schemas.openxmlformats.org/officeDocument/2006/relationships/hyperlink" Target="http://www.strukturalni-fondy.cz/" TargetMode="External"/><Relationship Id="rId13" Type="http://schemas.openxmlformats.org/officeDocument/2006/relationships/hyperlink" Target="http://www.strukturalni-fondy.cz/" TargetMode="External"/><Relationship Id="rId1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esfprovs@msmt.cz" TargetMode="External"/><Relationship Id="rId3" Type="http://schemas.openxmlformats.org/officeDocument/2006/relationships/hyperlink" Target="mailto:esfprovs@msmt.cz" TargetMode="External"/><Relationship Id="rId4" Type="http://schemas.openxmlformats.org/officeDocument/2006/relationships/hyperlink" Target="mailto:esfprovs@msmt.cz" TargetMode="External"/><Relationship Id="rId5" Type="http://schemas.openxmlformats.org/officeDocument/2006/relationships/hyperlink" Target="mailto:esfprovs@msmt.cz" TargetMode="External"/><Relationship Id="rId6" Type="http://schemas.openxmlformats.org/officeDocument/2006/relationships/hyperlink" Target="mailto:esfprovs@msmt.cz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228240" y="1484280"/>
            <a:ext cx="87361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r>
              <a:rPr b="1" lang="cs-CZ" sz="3200" spc="-1" strike="noStrike">
                <a:solidFill>
                  <a:srgbClr val="003399"/>
                </a:solidFill>
                <a:latin typeface="Arial"/>
              </a:rPr>
              <a:t>Priorita 3 OP RLZ </a:t>
            </a:r>
            <a:br>
              <a:rPr sz="3200"/>
            </a:br>
            <a:r>
              <a:rPr b="1" lang="cs-CZ" sz="3200" spc="-1" strike="noStrike">
                <a:solidFill>
                  <a:srgbClr val="003399"/>
                </a:solidFill>
                <a:latin typeface="Arial"/>
              </a:rPr>
              <a:t>–</a:t>
            </a:r>
            <a:br>
              <a:rPr sz="3200"/>
            </a:br>
            <a:r>
              <a:rPr b="1" lang="cs-CZ" sz="3200" spc="-1" strike="noStrike">
                <a:solidFill>
                  <a:srgbClr val="003399"/>
                </a:solidFill>
                <a:latin typeface="Arial"/>
              </a:rPr>
              <a:t>Rozvoj celoživotního učení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399"/>
                </a:solidFill>
                <a:latin typeface="Arial"/>
              </a:rPr>
              <a:t> </a:t>
            </a:r>
            <a:br>
              <a:rPr sz="3200"/>
            </a:br>
            <a:r>
              <a:rPr b="1" lang="cs-CZ" sz="3200" spc="-1" strike="noStrike">
                <a:solidFill>
                  <a:srgbClr val="003399"/>
                </a:solidFill>
                <a:latin typeface="Arial"/>
              </a:rPr>
              <a:t>Opatření 3.2 – Podpora terciárního vzdělávání, výzkumu a vývoje</a:t>
            </a:r>
            <a:r>
              <a:rPr b="1" lang="cs-CZ" sz="2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3399"/>
                </a:solidFill>
                <a:latin typeface="Arial"/>
              </a:rPr>
              <a:t>      </a:t>
            </a:r>
            <a:r>
              <a:rPr b="1" lang="cs-CZ" sz="1700" spc="-1" strike="noStrike">
                <a:solidFill>
                  <a:srgbClr val="003399"/>
                </a:solidFill>
                <a:latin typeface="Arial"/>
              </a:rPr>
              <a:t>Seminář pro žadatele </a:t>
            </a:r>
            <a:r>
              <a:rPr b="1" lang="cs-CZ" sz="17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cs-CZ" sz="17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cs-CZ" sz="17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cs-CZ" sz="1700" spc="-1" strike="noStrike">
                <a:solidFill>
                  <a:srgbClr val="003399"/>
                </a:solidFill>
                <a:latin typeface="Arial"/>
              </a:rPr>
              <a:t>PhDr. Kateřina Pösingerová, CSc. listopad/prosinec 2005</a:t>
            </a:r>
            <a:r>
              <a:rPr b="1" lang="cs-CZ" sz="17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cs-CZ" sz="17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cs-CZ" sz="17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cs-CZ" sz="1700" spc="-1" strike="noStrike">
                <a:solidFill>
                  <a:srgbClr val="003399"/>
                </a:solidFill>
                <a:latin typeface="Arial"/>
              </a:rPr>
              <a:t>Oddělení pomoci z ESF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cs-CZ" sz="17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cs-CZ" sz="17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cs-CZ" sz="17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cs-CZ" sz="17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cs-CZ" sz="17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cs-CZ" sz="1700" spc="-1" strike="noStrike">
                <a:solidFill>
                  <a:srgbClr val="003399"/>
                </a:solidFill>
                <a:latin typeface="Arial"/>
              </a:rPr>
              <a:t>MŠM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44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8169-6136-4AE1-9CEB-B5906B8762D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47280" y="907560"/>
            <a:ext cx="5688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Žádost o finanční podporu z ES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1360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ředkládána je v 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rogramu Benefit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říjemcem žádostí je Konečný příjemce, tj. oddělení pomoci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 ES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C2E0-F933-48B1-8195-CF463B3A40B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47280" y="907920"/>
            <a:ext cx="568836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Limity pro předkládání žádos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1360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ba realizace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–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imálně 2 roky ode dne potvrzení přijetí rozhodnutí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 poskytnutí dotace Konečným uživatel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nanční limity podp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imální výše přidělených prostředků 10 mil. Kč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nimální výše přidělených prostředků 500 tis. K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884E-13D5-402E-9658-58C640F43DD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47640" y="981000"/>
            <a:ext cx="655344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Kritéria pro hodnocení žádostí o finanční podporu z ESF v Opatření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1360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becná kritéri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důvodnění projektu (zdůvodnění záměru, vazba na strategické dokumenty, přínos pro cílovou skupinu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ílová skupina (její přiměřenost a zapojení do projektu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lizace projektu (klíčové aktivity, stádia realizace, monitorování, zkušenosti s řízením projektů, publicita, udržitelnost projektu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ýsledky a výstupy (kvantifikace výsledků a výstupů a jejich zajištění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izontální témata (rovné příležitosti, udržitelný rozvoj, informační společnost, místní iniciativ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5AC1-5979-41F1-901D-1CECD223A82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47640" y="981000"/>
            <a:ext cx="655344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Kritéria pro hodnocení žádostí o finanční podporu z ESF v Opatření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15328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cifická kritéri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tnerství – zapojení partnerů, kteří se zabývají řešenou problematikou, do projektu, vymezení rolí jednotlivých partner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řiměřenost výše požadovaných finančních prostředků k cílům a obsahu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37B6-4F3B-4729-884A-639447CF1FC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7280" y="907560"/>
            <a:ext cx="5761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ozpočet GS Opatření 3.2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755640" y="1981080"/>
          <a:ext cx="7702200" cy="1016280"/>
        </p:xfrm>
        <a:graphic>
          <a:graphicData uri="http://schemas.openxmlformats.org/drawingml/2006/table">
            <a:tbl>
              <a:tblPr/>
              <a:tblGrid>
                <a:gridCol w="1395360"/>
                <a:gridCol w="1394280"/>
                <a:gridCol w="1395720"/>
                <a:gridCol w="1452960"/>
                <a:gridCol w="2063880"/>
              </a:tblGrid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p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ministrace 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,7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,7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,7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7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1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360" y="3645000"/>
            <a:ext cx="799128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PpA</a:t>
            </a: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Zkvalitňování vzdělávání na vysokých školác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PpB</a:t>
            </a: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Rozvoj učitelských studijních programů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PpC</a:t>
            </a: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Rozvoj dalšího vzdělávání na vysokých školác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PpD</a:t>
            </a: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Rozvoj lidských zdrojů v oblasti výzkumu a vývoj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7A14-1766-44DB-9EC1-E4F9342E44F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47280" y="907560"/>
            <a:ext cx="576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Financování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07280" cy="38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forma předfinancování (ve výši 25 % celkových uznatelných výdajů projektu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nejedná se o kapitálové investi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žadatel musí mít pro projekt zřízen zvláštní bankovní úč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čtvrtletní vyúčtování plateb (současně s podáváním zpráv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o průběhu projektu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financovány pouze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uznatelné výdaj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daje uznatelné EK z hlediska OP RLZ (nelze zaměňovat s daňově uznatelnými náklad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29BC-361F-48F2-B113-DC687C39101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47280" y="907560"/>
            <a:ext cx="576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Dokumen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28036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vinnosti při tvorbě dokumentace a vedení účetnictví projektu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chovávat přesné a pravidelné záznamy o průběhu realizace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ést účetnictv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ve smyslu zákona o účetnictví a vést oddělené transparentní analytické účty souvisejíc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 realizací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chivovat dokumentac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rojektu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 dobu 10 le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 obdržení závěrečné platb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E10E-956B-498D-B705-B52D02C203B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47280" y="907560"/>
            <a:ext cx="576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rchiv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072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onečný uživatel archivuje zejmén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5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mluvní dokumenty vztahujících se k projektu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jektovou dokumentac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ňové doklad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ýpisy z úč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žádosti o proplacení výdajů, včetně konkrétních přílo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kumenty spojené s prováděním kontr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orespondenci se všemi subjekty zapojenými do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s Konečným příjemcem, partnery, dodavateli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nitorovací a hodnotící zprávy za projek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2EFB-F614-4536-BD41-87F45BDC538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47280" y="907560"/>
            <a:ext cx="576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ublic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072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formační a propagační aktivity Konečného uživatele (v souladu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Vizuální identitou ESF v ČR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- viz </a:t>
            </a:r>
            <a:r>
              <a:rPr b="0" lang="cs-CZ" sz="2000" spc="-1" strike="noStrike" u="sng">
                <a:solidFill>
                  <a:srgbClr val="3366ff"/>
                </a:solidFill>
                <a:uFillTx/>
                <a:latin typeface="Arial"/>
                <a:hlinkClick r:id="rId2"/>
              </a:rPr>
              <a:t>www.</a:t>
            </a:r>
            <a:r>
              <a:rPr b="0" lang="cs-CZ" sz="2000" spc="-1" strike="noStrike" u="sng">
                <a:solidFill>
                  <a:srgbClr val="3366ff"/>
                </a:solidFill>
                <a:uFillTx/>
                <a:latin typeface="Arial"/>
                <a:hlinkClick r:id="rId3"/>
              </a:rPr>
              <a:t>esfcr</a:t>
            </a:r>
            <a:r>
              <a:rPr b="0" lang="cs-CZ" sz="2000" spc="-1" strike="noStrike" u="sng">
                <a:solidFill>
                  <a:srgbClr val="3366ff"/>
                </a:solidFill>
                <a:uFillTx/>
                <a:latin typeface="Arial"/>
                <a:hlinkClick r:id="rId4"/>
              </a:rPr>
              <a:t>.</a:t>
            </a:r>
            <a:r>
              <a:rPr b="0" lang="cs-CZ" sz="2000" spc="-1" strike="noStrike" u="sng">
                <a:solidFill>
                  <a:srgbClr val="3366ff"/>
                </a:solidFill>
                <a:uFillTx/>
                <a:latin typeface="Arial"/>
                <a:hlinkClick r:id="rId5"/>
              </a:rPr>
              <a:t>cz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vádět finanční spoluúčast EU, resp. ESF na všech výstup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mísťovat loga EU a ESF na informačních, studijních a dalších materiálech souvisejících s projek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 vlastních webových stránkách odkazovat na webové stránky EU,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j. na stránky informující o ESF v Č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mísťovat vlajky EU a další informační materiály v místnostech, kde se konají informační akce o ES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klady spojené s publicitou projektu jsou uznatelnými výdaj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CD2A-068D-4378-AC86-A7F8950B99E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47280" y="907560"/>
            <a:ext cx="576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Užitečné odka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072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 u="sng">
                <a:solidFill>
                  <a:srgbClr val="3366ff"/>
                </a:solidFill>
                <a:uFillTx/>
                <a:latin typeface="Arial"/>
                <a:hlinkClick r:id="rId2"/>
              </a:rPr>
              <a:t>www.</a:t>
            </a:r>
            <a:r>
              <a:rPr b="0" lang="cs-CZ" sz="2200" spc="-1" strike="noStrike" u="sng">
                <a:solidFill>
                  <a:srgbClr val="3366ff"/>
                </a:solidFill>
                <a:uFillTx/>
                <a:latin typeface="Arial"/>
                <a:hlinkClick r:id="rId3"/>
              </a:rPr>
              <a:t>msmt</a:t>
            </a:r>
            <a:r>
              <a:rPr b="0" lang="cs-CZ" sz="2200" spc="-1" strike="noStrike" u="sng">
                <a:solidFill>
                  <a:srgbClr val="3366ff"/>
                </a:solidFill>
                <a:uFillTx/>
                <a:latin typeface="Arial"/>
                <a:hlinkClick r:id="rId4"/>
              </a:rPr>
              <a:t>.</a:t>
            </a:r>
            <a:r>
              <a:rPr b="0" lang="cs-CZ" sz="2200" spc="-1" strike="noStrike" u="sng">
                <a:solidFill>
                  <a:srgbClr val="3366ff"/>
                </a:solidFill>
                <a:uFillTx/>
                <a:latin typeface="Arial"/>
                <a:hlinkClick r:id="rId5"/>
              </a:rPr>
              <a:t>c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 u="sng">
                <a:solidFill>
                  <a:srgbClr val="3366ff"/>
                </a:solidFill>
                <a:uFillTx/>
                <a:latin typeface="Arial"/>
                <a:hlinkClick r:id="rId6"/>
              </a:rPr>
              <a:t>www.</a:t>
            </a:r>
            <a:r>
              <a:rPr b="0" lang="cs-CZ" sz="2200" spc="-1" strike="noStrike" u="sng">
                <a:solidFill>
                  <a:srgbClr val="3366ff"/>
                </a:solidFill>
                <a:uFillTx/>
                <a:latin typeface="Arial"/>
                <a:hlinkClick r:id="rId7"/>
              </a:rPr>
              <a:t>esfcr</a:t>
            </a:r>
            <a:r>
              <a:rPr b="0" lang="cs-CZ" sz="2200" spc="-1" strike="noStrike" u="sng">
                <a:solidFill>
                  <a:srgbClr val="3366ff"/>
                </a:solidFill>
                <a:uFillTx/>
                <a:latin typeface="Arial"/>
                <a:hlinkClick r:id="rId8"/>
              </a:rPr>
              <a:t>.</a:t>
            </a:r>
            <a:r>
              <a:rPr b="0" lang="cs-CZ" sz="2200" spc="-1" strike="noStrike" u="sng">
                <a:solidFill>
                  <a:srgbClr val="3366ff"/>
                </a:solidFill>
                <a:uFillTx/>
                <a:latin typeface="Arial"/>
                <a:hlinkClick r:id="rId9"/>
              </a:rPr>
              <a:t>c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 u="sng">
                <a:solidFill>
                  <a:srgbClr val="3366ff"/>
                </a:solidFill>
                <a:uFillTx/>
                <a:latin typeface="Arial"/>
                <a:hlinkClick r:id="rId10"/>
              </a:rPr>
              <a:t>www.</a:t>
            </a:r>
            <a:r>
              <a:rPr b="0" lang="cs-CZ" sz="2200" spc="-1" strike="noStrike" u="sng">
                <a:solidFill>
                  <a:srgbClr val="3366ff"/>
                </a:solidFill>
                <a:uFillTx/>
                <a:latin typeface="Arial"/>
                <a:hlinkClick r:id="rId11"/>
              </a:rPr>
              <a:t>strukturalni</a:t>
            </a:r>
            <a:r>
              <a:rPr b="0" lang="cs-CZ" sz="2200" spc="-1" strike="noStrike" u="sng">
                <a:solidFill>
                  <a:srgbClr val="3366ff"/>
                </a:solidFill>
                <a:uFillTx/>
                <a:latin typeface="Arial"/>
                <a:hlinkClick r:id="rId12"/>
              </a:rPr>
              <a:t>-fondy.</a:t>
            </a:r>
            <a:r>
              <a:rPr b="0" lang="cs-CZ" sz="2200" spc="-1" strike="noStrike" u="sng">
                <a:solidFill>
                  <a:srgbClr val="3366ff"/>
                </a:solidFill>
                <a:uFillTx/>
                <a:latin typeface="Arial"/>
                <a:hlinkClick r:id="rId13"/>
              </a:rPr>
              <a:t>c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7155-9AC7-4EDE-A23C-018B8BD17B0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Základní inform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916280"/>
            <a:ext cx="81471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lementační orgán pro Opatření 3.2, tj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onečný příjemc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ddělení pomoci z ESF (303) při odboru vysokých škol (30) skupiny vědy a vysokého školství MŠMT Č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onečný uživate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Opatření 3.2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ysoké ško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ituce z praxe zabývající se vzděláváním na vysokých školá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ituce z oblasti výzkumu a vývo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ociace zaměstnavatel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A394-C436-483A-8BE8-6651275569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755640" y="1628640"/>
            <a:ext cx="7632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0" spc="-1" strike="noStrike">
                <a:solidFill>
                  <a:srgbClr val="000000"/>
                </a:solidFill>
                <a:latin typeface="Arial"/>
              </a:rPr>
              <a:t>Děkuji za pozornos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taktní adres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dělení pomoci z ES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bor V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ŠM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armelitská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ah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mail:</a:t>
            </a:r>
            <a:r>
              <a:rPr b="0" lang="cs-CZ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cs-CZ" sz="2000" spc="-1" strike="noStrike" u="sng">
                <a:solidFill>
                  <a:srgbClr val="3366ff"/>
                </a:solidFill>
                <a:uFillTx/>
                <a:latin typeface="Arial"/>
                <a:hlinkClick r:id="rId2"/>
              </a:rPr>
              <a:t>esfprovs</a:t>
            </a:r>
            <a:r>
              <a:rPr b="0" lang="cs-CZ" sz="2000" spc="-1" strike="noStrike" u="sng">
                <a:solidFill>
                  <a:srgbClr val="3366ff"/>
                </a:solidFill>
                <a:uFillTx/>
                <a:latin typeface="Arial"/>
                <a:hlinkClick r:id="rId3"/>
              </a:rPr>
              <a:t>@</a:t>
            </a:r>
            <a:r>
              <a:rPr b="0" lang="cs-CZ" sz="2000" spc="-1" strike="noStrike" u="sng">
                <a:solidFill>
                  <a:srgbClr val="3366ff"/>
                </a:solidFill>
                <a:uFillTx/>
                <a:latin typeface="Arial"/>
                <a:hlinkClick r:id="rId4"/>
              </a:rPr>
              <a:t>msmt</a:t>
            </a:r>
            <a:r>
              <a:rPr b="0" lang="cs-CZ" sz="2000" spc="-1" strike="noStrike" u="sng">
                <a:solidFill>
                  <a:srgbClr val="3366ff"/>
                </a:solidFill>
                <a:uFillTx/>
                <a:latin typeface="Arial"/>
                <a:hlinkClick r:id="rId5"/>
              </a:rPr>
              <a:t>.</a:t>
            </a:r>
            <a:r>
              <a:rPr b="0" lang="cs-CZ" sz="2000" spc="-1" strike="noStrike" u="sng">
                <a:solidFill>
                  <a:srgbClr val="3366ff"/>
                </a:solidFill>
                <a:uFillTx/>
                <a:latin typeface="Arial"/>
                <a:hlinkClick r:id="rId6"/>
              </a:rPr>
              <a:t>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C127-977A-4EF6-A511-63C8F535A40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Všeobecné zaměření projekt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206028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odpora zaměstnatelnosti a sociálního začleňování znevýhodněných jednotlivc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odpora podpůrných opatření k rozvoji systémů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a struktur a k posilování kapacit poskytovatelů služeb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ro cílové skupi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04B3-CD3C-4674-A607-ACC1986287C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Programy podpory Opatření 3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153280" cy="42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kvalitňování vzdělávání na vysokých školách (Pp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Rozvoj učitelských studijních programů (PpB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Rozvoj dalšího vzdělávání na vysokých školách (Pp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Rozvoj lidských zdrojů v oblasti výzkumu a vývoje (Pp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F2D1-63B4-491F-9697-1FDF7174ED2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76360" y="981000"/>
            <a:ext cx="6840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99"/>
                </a:solidFill>
                <a:latin typeface="Arial"/>
              </a:rPr>
              <a:t>PpA - Zkvalitňování vzdělávání na vysokých školách v rámci bakalářských, magisterských a doktorských studijních program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2421000"/>
            <a:ext cx="814716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hloubení vnitřní diferenciace a zejména kvalitativního rozvoje bakalářských, magisterských a doktorských studijních programů, modulové uspořádání programů a realizace těchto studijních program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olupráce škol s odbornými pracovišti a s organizacemi zaměstnavatelů (při přípravě a realizaci studijních program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ílová skupin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studenti vysokých ško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93CB-AD9C-4B76-949E-AEAA2460276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47280" y="1052280"/>
            <a:ext cx="6193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99"/>
                </a:solidFill>
                <a:latin typeface="Arial"/>
              </a:rPr>
              <a:t>PpB - Rozvoj učitelských studijních program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15328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kvalitnění učitelských studijních programů počátečního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 dalšího vzdělávání a jejich realiz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kvalitnění programů pedagogické způsobilosti pro absolventy vysokoškolských programů nepedagogického zaměření a jejich realiza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ílová skupin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studenti vysokých škol, zájemci o další studium na vysokých školá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3636-D532-45DE-9B5C-CE77BD7C81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47280" y="980640"/>
            <a:ext cx="6264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99"/>
                </a:solidFill>
                <a:latin typeface="Arial"/>
              </a:rPr>
              <a:t>PpC - Rozvoj dalšího vzdělávání </a:t>
            </a:r>
            <a:br>
              <a:rPr sz="2400"/>
            </a:br>
            <a:r>
              <a:rPr b="1" lang="cs-CZ" sz="2400" spc="-1" strike="noStrike">
                <a:solidFill>
                  <a:srgbClr val="003399"/>
                </a:solidFill>
                <a:latin typeface="Arial"/>
              </a:rPr>
              <a:t>na vysokých školá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15328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kvalitnění a realizace rozšířené nabídky dalšího vzdělávání na vysokých školách v souladu s prosazováním aktivní politiky trhu prá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ílová skupin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zájemci o další studium na vysokých školách, akademičtí pracovníci vysokých šk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ED59-3E0D-4CD3-9C81-07321530158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47640" y="980640"/>
            <a:ext cx="6553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99"/>
                </a:solidFill>
                <a:latin typeface="Arial"/>
              </a:rPr>
              <a:t>PpD - Rozvoj lidských zdrojů v oblasti výzkumu a vývo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15328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vorba a realizace programů dalšího vzdělávání  zaměřeného na oblast věcného a finančního řízení, inovačního podnikání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odnikání ve výzkumu, šíření výsledků vědy a výzkumu do praxe, transfer technologií a osvojování si znalostí o ochraně duševního vlastnictví pracovníků z oblasti výzkumu a vývo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ílová skupin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studenti vysokých škol, akademičtí pracovníci vysokých škol, zaměstnanci institucí výzkumu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vývoj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732E-4148-42DB-AE99-C0699994F21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47640" y="981000"/>
            <a:ext cx="58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ýzva k předkládání žádostí o finanční podporu z ES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15328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rčena je pro podávání žádostí o financování projektů Konečných uživatel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sahem je upřesnění podmínek pro podávání žádost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veřejněna je elektronicky na webových stránkách MŠM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oficiálních stránkách ESF v ČR a dále ve dvou celostátních denící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F590-853D-4B94-9D07-765EF27E63D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15:48:03Z</dcterms:created>
  <dc:creator>K.Pösingerová</dc:creator>
  <dc:description/>
  <dc:language>en-US</dc:language>
  <cp:lastModifiedBy>prejzovaa</cp:lastModifiedBy>
  <dcterms:modified xsi:type="dcterms:W3CDTF">2005-12-19T13:46:10Z</dcterms:modified>
  <cp:revision>29</cp:revision>
  <dc:subject/>
  <dc:title>Úvod seminář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2439103</vt:r8>
  </property>
  <property fmtid="{D5CDD505-2E9C-101B-9397-08002B2CF9AE}" pid="3" name="_AuthorEmail">
    <vt:lpwstr>Kamila.Matusu@msmt.cz</vt:lpwstr>
  </property>
  <property fmtid="{D5CDD505-2E9C-101B-9397-08002B2CF9AE}" pid="4" name="_AuthorEmailDisplayName">
    <vt:lpwstr>Matušů Kamila</vt:lpwstr>
  </property>
  <property fmtid="{D5CDD505-2E9C-101B-9397-08002B2CF9AE}" pid="5" name="_EmailSubject">
    <vt:lpwstr>prezentace k 30.11, 8. a 15.12</vt:lpwstr>
  </property>
  <property fmtid="{D5CDD505-2E9C-101B-9397-08002B2CF9AE}" pid="6" name="_PreviousAdHocReviewCycleID">
    <vt:r8>1514197294</vt:r8>
  </property>
  <property fmtid="{D5CDD505-2E9C-101B-9397-08002B2CF9AE}" pid="7" name="_ReviewingToolsShownOnce">
    <vt:lpwstr/>
  </property>
</Properties>
</file>