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9D21-D9F7-45C2-B5E5-18F7D57DCA9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15D-2A94-421C-9693-29A38AD2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829-315E-44BF-8C9A-1C78E9B6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CDD-9C68-4A84-AC31-2F6B46ED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BEA-D121-410B-9E08-BEB23ED3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416-88AA-4AC9-B7BE-DF2CAAFB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509-71C6-4B48-B415-2026B64B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72C-51C5-4CB9-9CDA-F958D9A8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8FF-DB9E-4F8F-8B60-14F4B6A5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FD7-A01D-4ADF-89B2-CE14138A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A2E-E7B3-44F8-95C3-3C47E0EC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6F0-F75D-4D1E-9642-4139508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5BB-AE9C-48FF-B2FE-BF10F7BE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6141-B5FF-4487-8F49-759F64A2C8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DNOCENÍ PROJE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Kamila Matuš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DD4-B4FC-43DB-8DCC-12C883EA2C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žadatel splňuje definici pro Konečného uživate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žadatel má sídlo na území Č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rávnické osoby) nebo je občanem ČR s trvalým pobytem na území České republiky (fyzické osob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partner je právnická nebo fyzická osoba se sídlem v Č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FC2-DED2-47DA-AB14-ECEFC3D210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projekt bude mít dopad na cílové skupiny na území ČR, resp. na území příslušného regionu, pro který je regionální grantové schéma vyhlášené,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mimo území hlavního města Prah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podporované aktivity a cílové skupiny projektu jsou v souladu s danou výzvou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NOV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doba trvání projektu není delší než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24 měsíc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finanční podpora z OP RLZ požadovaná pro realizaci projektu není nižší než min. a vyšší než max.stanovené vyhlašovatele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D5F-A2B6-4C5A-953F-2B9DE45802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204640"/>
            <a:ext cx="8915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) finanční podpora z OP RLZ není plánována pro jiné než uznatelné náklady ve stanovené struktuř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) v rozpočtu jsou uvedeny vlastní zdroje žadatele -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u Pp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) požadovaná veřejná podpora není vyšší než veřejná podpora povolena ÚO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EC9-7874-4484-AE9A-43527D6A1A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    Ano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oba trvání projektu není delší než 24 měsíc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žádost vyřaz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4382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7339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F70-59BC-4395-A630-8DA84D84BF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hodnocení založen na soubor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šesti kritéri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) zdůvodnění projektu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) cílová skupina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) realizace projektu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) výsledky a výstupy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) horizontální témata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6) specifické požadavky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5943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DAD-4E2F-443A-807D-DED8568218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1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důvodněn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153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 zdůvodnění zámě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vazba na strategické dokume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přínos pro cílovou skupi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6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16D-D224-4480-9FFB-6D62FEA239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1052640"/>
            <a:ext cx="66438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.2 vazba na strategické dokumenty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2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s vládní, státní nebo národní strategií, politikou a progra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ylučující kritérium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kt musí získat alespoň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0 bod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51D-8DB6-41AE-8072-6A2E72A499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2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ílová sku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přiměřenost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zapojení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291-78E4-4EDB-8FF0-1F2A396C49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3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1 klíčové aktivity a stádia realiz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2 monitorování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3 předchozí zkušenosti žadatele s řízení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dobných projekt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4 publici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5 udržitelnost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975-3AE9-49D8-90B3-96C7B0D176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4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ýsledky a 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1 kvantifikace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2 zajištění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F0F-F6A5-432D-9EC2-F6507B2E37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9144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Administrace Opatření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předkládá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jem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dnoce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běr projektů k realiz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hodnutí o poskytnutí d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5A6-8A99-4D94-BF97-90ECFF0BB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5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 rovné příležit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udržitelný rozv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 informační společ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místní iniciati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01E-F43E-4A81-BA70-97ACA4EA2C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.1 rovné příležitosti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4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220932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pad projektu na muže a ženy, etnické menšiny, osoby se zdravotním postižením, případně další skupiny ohrožené vyloučen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ÝMI aktivitami projekt podpoří a ovlivní rozvoj rovných příležitost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ovnost žen a mužů není „záležitostí ž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projekt propaguje rovné příležit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D8B-9C5C-451D-86EC-1F9239748A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6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pecifické požad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 partnerstv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 přiměřenost výše požadovaných finančních prostředků k cílům a obsahu projek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74D-831C-4C5D-A5D7-490599AC2D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6.1 partnerství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0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47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pojení partnerů, kteří se zabývají problematikou řešenou v projektu a jejichž účast na projektu je významná z hlediska regionální, meziregionální, popř. celostátní spolupráce nebo z hlediska institucí různého typ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nerství různých instit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artnerů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10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nejsou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tatní zdůvodněné příp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ní možné nebo účelné vytvářet pro realizaci daného projektu partnerství různých institucí, ale je odůvodněno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č nedošlo k vytvoření zmíněného partnerství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F2F-2C22-4B81-B816-DEFF4D8A9A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362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teré projekty postupují do výbě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65 bod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 subkritériu vazba na strategiské dokume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10 bo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 podle názorů hodnotitelů nemá negativní vl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některé z horizontálních té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639-C055-4B43-830F-D5ED49160C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ýběr projektů k 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ádí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běrová kom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která při svém rozhodování vychází z výsledků věcného hodnoc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má pravomoc krátit rozpoče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rozhoduje o výběru projektů do výše přidělených fin. prostředků na dané kolo výz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5E3-55F5-4DAF-A322-F2DA7C074A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Rozhodnutí o poskytnutí d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686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veřejnění seznamu výsledků ze zasedání VK n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ísemné vyrozumění žad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spěšní žadatelé vyzváni k dodání podkladů k rozhodnutí (např. smlouvy s partn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dáno rozhodnutí o poskytnutí dot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70C-3FA4-4E97-95A8-AE36BC9C93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FAA-7D94-4203-887B-EF8FA9ECD6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Časov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286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532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73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89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684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3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ýz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561040"/>
            <a:ext cx="1905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úno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 12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414960"/>
            <a:ext cx="167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ijatel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434320"/>
            <a:ext cx="1486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eklá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žádos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205720"/>
            <a:ext cx="1298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ěc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6920" y="3494520"/>
            <a:ext cx="1329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vá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k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ýběrov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mi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C78-4DB0-42CA-AB93-FC774CE8E0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fáze: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formálních nálež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přijatel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ěcné hodnocení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0BB-B433-404F-AA83-5C3247E042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žádost byla dodána v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ktron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době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žádost byla dodána v tištěné podobě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x kopie nebo 3x originá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verze elektronické a tištěné žádosti jsou (dle kontrolního znaku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hodn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v žádosti jsou vyplněn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šechny předepsané úda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všechny povinné přílohy jsou dodány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 kopi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počet stránek jednotlivých příloh odpovídá počtu stran uvedenému na Seznamu přílo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D2E-086E-425F-817E-5A4AFB318C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89154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jsou dodány všechny požadované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klady o právní subjektivit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žadate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bezdlužnos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partnerstv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za každého partnera, pokud je v projektu zapoje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velikosti podni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 MS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) je dodá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řehled ekonomické a finanční situ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em podnikatelský subjek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) jsou dodány všechny specifické přílo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) nechybí žádný z požadovaný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dpis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rávněných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246-948D-45FA-8AD4-0778CEA598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7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žadované doklady o právní subjektivi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z. Průvodce pro žadate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ozornění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 případě, kdy je doložena výpi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obchodního rejstří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lad nesmí být starší více než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ři měsí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odání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29264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DE1-36BA-49A1-8739-BD5D3A64B5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13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dpis oprávně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tární zást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8EE-9BF6-4A98-8343-5BFCC20150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Ano 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žádost byla dodána v elektronické podob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hověla žádost kritériím přijatel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                                           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doplnění                            vyř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1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33577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79640" y="4292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4292640"/>
            <a:ext cx="28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CB2-90C2-4B7C-BE93-ACDA2BC3F4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amila Matušů</dc:creator>
  <dc:description/>
  <dc:language>en-US</dc:language>
  <cp:lastModifiedBy>prejzovaa</cp:lastModifiedBy>
  <dcterms:modified xsi:type="dcterms:W3CDTF">2005-12-19T13:46:40Z</dcterms:modified>
  <cp:revision>33</cp:revision>
  <dc:subject/>
  <dc:title>Hodnoce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5367238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9083974</vt:r8>
  </property>
  <property fmtid="{D5CDD505-2E9C-101B-9397-08002B2CF9AE}" pid="7" name="_ReviewingToolsShownOnce">
    <vt:lpwstr/>
  </property>
</Properties>
</file>