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FA1-4FEC-4B29-B2F5-7A514006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E8A-87B5-4D8A-8319-F374B9E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BD0-9995-41DA-BE3E-405AAC1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240-154A-4108-80EE-0212497B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DC0-ED17-47B6-A4E2-D8907B3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B3D-C8CD-4BA3-A83C-B3A072E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A8F-36B4-48D1-AA72-BCF1551E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857-5A09-482E-9E5B-56B2342F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109-4F3F-4E2C-B525-EA3EDAE8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76A-FF9A-46C0-BBDF-3C21F657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961-B51B-429A-ABF6-5C1AE3B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24A-D2E0-43C0-89D0-627B160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D38-16C0-4900-8E01-0FB9A65D0A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Monitorování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a kontrola projekt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g. Jan F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stopad/prosinec 2005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FC2-CD43-499A-B972-C6735D7340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ozdíl mezi kontrolami dle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l. 4 a čl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438280"/>
          <a:ext cx="8763120" cy="3504960"/>
        </p:xfrm>
        <a:graphic>
          <a:graphicData uri="http://schemas.openxmlformats.org/drawingml/2006/table">
            <a:tbl>
              <a:tblPr/>
              <a:tblGrid>
                <a:gridCol w="4421160"/>
                <a:gridCol w="4341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ení účinnosti zavedených řídicích a kontrolních systémů, ověření výkazů výdajů na různých dotčených úrovních -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ádí  ŘO a jím pověřené subjek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před ukončením každé pomoci - min. 5% celkových způsobilých výdajů - z reprez. vzorku schválený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51920" y="28951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ola jednotlivých operací na místě  (metoda výběru vzork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ádí KP; případně Z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znamy o ověření jednotlivých operací na místě - provedené dílo, výsledky ověření a opatření přijatá v souvislosti s nedost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CC7-7DBB-40C8-B956-7C7AA94394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realizace projektu na místě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3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 je předem o kontrole inform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lenové kontrolní skupiny mají písemné pověření pr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asti kontro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c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durální (vedení dokumentace, dodržování podmínek smlouvy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ahová (plnění věcných výstupů projek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nční (čerpání gran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tivit projektu (průběh realizace konkrétní aktiv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ýsledkem je Protokol 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258-1801-44BD-8601-6A71ACB6D1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C96-1357-41FA-8083-393454259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ím z principů politiky hospodářské a sociální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zjišťování pokroku v realizaci projektů, shromažďování informací o projek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ovnávání získaných informací s plánem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0AF-8A77-4D02-B51C-EC4EB7D8C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tavná činnost probíhající během celého trvání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á se všech úrovní implementační struktury operačního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daje zjištěné monitorováním se zaznamenávají do MSSF (sumarizace dat z nejnižší po nejvyšší úroveň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í se především prostřednictví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ch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videlných zpráv o průběhu realizace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 na míst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249-B3B5-4771-8787-52F200BE6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583236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innosti KU v rámci procesu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žádosti o finanční podporu z OP RLZ zvol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ká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které budou naplňov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třednictvím pravidelný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ovacích zprá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ormovat KP o průběhu realizace projektu a naplňování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vešker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ovou dokumentac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kontrolách na místě poskytnout všechny podklady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ající se realizace projektu kontrolním pracovní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483-67D0-4F5E-84EB-5267ECDCFF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indik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rozpočtu program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aktivitám a jejich přímým účastníkům (sledují se počty osob, instituc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ledk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přímým a okamžitým účinkům, které program přinesl (hledisko úspěšnost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dopad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následkům programu (udržitelnost; míra efektů pomoci z dlouhodobého hledisk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11F-7662-4E0C-949C-282FB7F65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skytujících služby nebo podporujících poskytování služeb (1.01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- klientů služeb (1.05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čátečního vzdělávání (1.05.31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v dalším vzdělávání (1.05.32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vědeckých a výzkumných pracovní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.12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rganizací (1.04.00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1B4-579A-4492-9DC5-FF4EBFD1E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5761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l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počátečn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1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dalš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0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životního prostřed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9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informačních technologi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08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duk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2.00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79E-3AC7-4A1C-BC0A-57DED9F42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zprávy vypracovávané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ují technické a finanční informace o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í umožňovat srovnání výsledků s plán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sné termíny předkládání zpráv budou specifikovány v Rozhodnutí o poskytnutí dot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(k termínu podávání Žádosti o platb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věrečné (po ukončení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C74-1993-4E8E-949C-81761CDFE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na mís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ěření projektu v místě jeho realiz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 se o veřejnosprávní kontrolu v souladu se zákonem č. 320/2001 Sb., o finanční kontrole a o kontroly dle čl. 4 a 10 Nařízení Komise (ES) č. 438/200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lší orgány implementační struktury OP RLZ, případně NKÚ, EK, Evropský dvůr auditor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AA0-138B-4BF1-84FD-1CC7D35A0F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Lenka Suchá</dc:creator>
  <dc:description/>
  <dc:language>en-US</dc:language>
  <cp:lastModifiedBy>prejzovaa</cp:lastModifiedBy>
  <dcterms:modified xsi:type="dcterms:W3CDTF">2005-12-19T13:47:07Z</dcterms:modified>
  <cp:revision>21</cp:revision>
  <dc:subject/>
  <dc:title>Monitorová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7907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