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C24-F5C4-4F2D-B01B-68BE774F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419-AF62-4E60-85CD-F281A3FB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8D4-AF14-40CA-9509-5ECBED06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C5C-3083-46EC-9AA1-B1B6F542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635-7956-4294-85FD-2BD6050F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A65-DBEF-41D2-ABAF-28EF8941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EAC-30B0-4D7E-818F-30CF6FD3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625-1DA4-4A8E-877C-C03BF1E7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71B-2294-4120-9A32-DC8399D2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61F-4C91-422A-8722-C9F8B487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0D5-D5B1-44C3-892F-406012FC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3CD-F01A-44C1-BFC8-F9DF972E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C669-9784-4AAA-8059-E4227EF99F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6408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Uznatelné, neuznatelné výdaje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1532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. Johana Burget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pad/prosinec 20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AD6-803B-473F-82C5-56D1C36003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Uznatelné výdaj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y projektu musí být rozepsány na jednotlivé kalendářní roky tak, jak se předpokládá čerpání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natelné náklady nemohou být stanoveny jako paušální částka. Musí být skutečně vynaložené, proto níže hovoříme o uznatelných výdaj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znatelné náklady jsou náklady, které nelze hradit z veřejných prostředků. Tyto náklady hradí žadatel respektive partner vždy ze svých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může mít samozřejmě i výnosy, ale žadatel nesmí mít z realizace projektu zisk, proto dostane v rámci OP RLZ uhrazeny jen výdaje - příj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DCA-2E39-4B72-BFC4-E5958BA17B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Základní kritéria uznatelných výdajů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být vynaložen na činnosti uvedené v Opatření, respektive ve výz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vzniknout v době platnosti rozhodnutí o poskytnutí dotace počínaje dnem potvrzení podmínek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skutečně vzniknout, být řádně uhrazen a zaznamenán na účtech příjemce finanční podpory nebo jeho partnerů. Výdaj musí být identifikovatelný a kontrolovatelný, doložitelný originály účetních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488-CCE1-45DD-91CC-F1AA33821B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daje jsou rozděleny do skupin, které bohužel přesně neodpovídají běžnému účetnímu členění nákladů (respektive výdajů), ale lépe splňují potřeby ESF. Především pro účely procentuelních limitů některých skupin nákla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ýdaje – výdaje na zaměstnance žadatele a jeho projektov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ovní cesty – výdaje na ubytování, dopravu, strav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hrady vyplacené pracovníkům českých subjektů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y na základě zákona 119/1992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hrady pro pracovníky zahraničních subjektů se stanovuj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le sazeb EU (Per di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075-2497-4AA0-90F4-156DDB4331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řízení a vybavení – z prostředků OP RLZ nelze hradit inve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daje spojené s nákupem nového, resp. použitého vybaven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zařízení u projektů zaměřených na výzkum, vývoj, neb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ý výcv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M max. 40 0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HIM max. 60 0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daje na nákup drobného hmotného majetku, který je pr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i nezbytn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jem, ev. splátky operativního leasingu zařízení a bu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odpisy vlastního dlouhodobého hmotného a nehmot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jetku, jehož využívání je nezbytné pro realizaci projektu 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o souvisí s jeho c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DB3-E529-4CCB-B782-7A7A6D7EAB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ístní kancelář/náklady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otřební a provozní mater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efon, fax, poštovné, voda, paliva,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ájem kanceláře  - musí být zřejmá skutečná roční výš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jemného a doba po kterou byla pro realizaci projekt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uží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ýdaje spojené s dodáním služeb (podmínky výběr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vatel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ýdaje vyplývající přímo z rozhodnutí o poskytnu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iné výdaje (notářské poplatky, znalecké posudky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A64-1F20-475C-8DDC-E836DF1127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bné stavební ú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ň z přidané hodn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PH je uznatelným výdajem u neplát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átci DPH uvádí položky rozpočtu v cenách bez D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veřejné s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E1C-5091-474B-9AA6-68A93F9C6D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Neuznatel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zařízení, budov a mobilní infra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ční l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vzniklé před oficiálním datem zaháj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dení běžného účtu, bankovní poplatky, uznatelné jsou jen výdaje spojené se zřízením a vedení běžného účtu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jemné, kdy je žadatel vlastníkem nemovitosti nebo ji užívá zda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na práce a školení, které jsou povinné ze zá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2E7-0DA0-4FF9-B6DD-0947819074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Děkuji za pozornost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4360" y="1484280"/>
            <a:ext cx="4173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sfprovs@msmt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E24-56BF-4629-993F-EC10A33EE3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Administrator</dc:creator>
  <dc:description/>
  <dc:language>en-US</dc:language>
  <cp:lastModifiedBy>prejzovaa</cp:lastModifiedBy>
  <dcterms:modified xsi:type="dcterms:W3CDTF">2005-12-19T13:48:09Z</dcterms:modified>
  <cp:revision>13</cp:revision>
  <dc:subject/>
  <dc:title>Prezentace pro Lenič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1688881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