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9BC-414B-49E4-BFAC-6C633D12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31F-0AD9-49E6-ABA2-AD34A2BE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67B-8767-4AEA-835F-2CC663EB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A34-8578-4ABA-9AE0-1AC2D7BA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8DD-1113-41B0-A561-D008950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E6F-53F3-47FD-A3B2-E3D7A2ED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4FD-C18F-4265-A2E6-1F14C0A0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5D9-C663-47A4-A68B-AAE04EC3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813-86B5-4534-82C4-F968A8B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747-1C5F-4D06-B545-7885E83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1B2-9695-478C-BE7A-A36F5E84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BDC-53A3-4B15-ADA0-7EACD782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42B9-B5DC-456A-8471-0F74652E61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8920" y="1628640"/>
            <a:ext cx="6337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Finanční řízení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15328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. Johana Burget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opad/prosinec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7BD-C728-4CDD-BC67-5A080D4073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Hlavní zásady finančního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ční prostředky musí být vynakládány efektivně na projekty, které přispějí k realizaci cílů OP RL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financování projektů se sdružují prostředky EU a státního rozpočtu v poměru 75 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může být financován jen z jednoho Strukturálního fon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í být dodržen zákon o rozpočtových pravidlech 218/2000 S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60BB-794B-45C7-B7EA-D08ECE41FB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Platby Konečným uživatelům v OP RL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šechny projekty budou předfinancovány maximálně do výše 25 % celkových plánovan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ůběžné plat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ěrečné vyúčt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 – každý projekt přesahující 3 mil. Kč musí mít proveden audit autorizovanou auditorskou společ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A501-781D-4572-BE72-D7DA0348F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Roz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i sestavování rozpočtu je nutné dodržet tyto základní podíly některých výdajů na celkových výdajích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lady na nákup nového či použitého HIM maximálně 25 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kup služeb maximálně 49 %, 51 % výdajů projektu musí být    realizováno žadatelem a 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žijní náklady maximálně 7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065-F5E3-4B85-9746-4C4423E85C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Změny při realiz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íjemce je povinen o všech změnách informovat Konečné příjem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prováděné bez souhlasu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úpravy vyžadující uzavření dodatku k rozhodnutí o poskytnutí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E99-50AC-47CF-BC55-F7A413FC3D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Administrace výběru doda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odavatelů musí být transparentní  a nediskriminač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nad 2 mil. se řídí zákonem 40 /2004 Sb. (Zákon o veřejných zakáz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500 000 až 2 m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běr dle bodov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služby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valita realizačního týmu 4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ena 20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100 000 až 500 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ázky do 100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B28-A6EE-4B95-B3BD-43DAF9AA3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Veřejná podp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Opatření 3.2 OP RLZ se veřejná podpora týká pouze Pp D – zvyšování kvalifikace vědeckých a výzkumných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účely veřejné podpory rozlišujeme obecné a specifické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jimka poskytnutá pro OP RLZ Úřadem pro ochranu hospodářské soutěže č.j. VP/81/04-160. Úplné znění www. 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OP RLZ byly tímto rozhodnutím stanoveny 4 mechanizmy poskytování veřejné podpory, ale pro Opatření 3.2 je možné využít pouze tyto dv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pro vzdělávání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odpor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F2E-B919-4589-A6FA-96A8D43BAE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Míra veřejné podpory pro vzdělávací projek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2276640"/>
          <a:ext cx="7557840" cy="3862080"/>
        </p:xfrm>
        <a:graphic>
          <a:graphicData uri="http://schemas.openxmlformats.org/drawingml/2006/table">
            <a:tbl>
              <a:tblPr/>
              <a:tblGrid>
                <a:gridCol w="3240000"/>
                <a:gridCol w="2089080"/>
                <a:gridCol w="22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k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k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cné vzdělá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ké podniky v ČR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é a střední podniky – vzdělávání pro znevýhodněné pracovní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256-48E5-45BA-93F1-71120B075C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6920" y="2060280"/>
            <a:ext cx="66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99"/>
                </a:solidFill>
                <a:latin typeface="Arial"/>
              </a:rPr>
              <a:t>Děkuji za pozornost</a:t>
            </a: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14580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360" y="1484280"/>
            <a:ext cx="4173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sfprovs@msmt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ED70-A7A0-4E11-8971-67A44FD77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Administrator</dc:creator>
  <dc:description/>
  <dc:language>en-US</dc:language>
  <cp:lastModifiedBy>prejzovaa</cp:lastModifiedBy>
  <dcterms:modified xsi:type="dcterms:W3CDTF">2005-12-19T13:47:41Z</dcterms:modified>
  <cp:revision>14</cp:revision>
  <dc:subject/>
  <dc:title>Prezentace pro Lenič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06026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