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9.jpeg" ContentType="image/jpeg"/>
  <Override PartName="/ppt/media/image8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10.wmf" ContentType="image/x-wmf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3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3E70-A1FC-492D-A1FF-FACCB0386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BF37-F023-40CE-9F81-1C7BCE1C3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99B7-054C-4673-A9BB-3E39865AB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944C-25A3-4BA5-8D61-CD880D1C3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A33A-8D6E-431B-8A1F-EC5BF7E18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E83C-BBD8-4E03-915F-880AF8825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0601-DAD0-4D21-B274-1957B6C0D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D69E-D16A-4CB9-A6A6-3AB7F58C0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727A-5B0E-4DBD-A1D2-A77A0FAFB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3F29-0D22-4A23-BFC9-DC11D1B8C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B0D8-0656-444B-B770-9B7CC1BB6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6095-5530-4F92-9364-8E805114B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7A88-7D35-47DA-8DDE-01C809AC3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>
            <a:off x="212760" y="204840"/>
            <a:ext cx="8702640" cy="838080"/>
          </a:xfrm>
          <a:prstGeom prst="rect">
            <a:avLst/>
          </a:prstGeom>
          <a:solidFill>
            <a:srgbClr val="013a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571356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" name="Picture 13" descr="eu"/>
          <p:cNvPicPr/>
          <p:nvPr/>
        </p:nvPicPr>
        <p:blipFill>
          <a:blip r:embed="rId2"/>
          <a:stretch/>
        </p:blipFill>
        <p:spPr>
          <a:xfrm>
            <a:off x="8601120" y="6470640"/>
            <a:ext cx="466560" cy="314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4" descr="EUREKA"/>
          <p:cNvPicPr/>
          <p:nvPr/>
        </p:nvPicPr>
        <p:blipFill>
          <a:blip r:embed="rId3"/>
          <a:stretch/>
        </p:blipFill>
        <p:spPr>
          <a:xfrm>
            <a:off x="8228160" y="6477120"/>
            <a:ext cx="30312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8"/>
          <p:cNvSpPr/>
          <p:nvPr/>
        </p:nvSpPr>
        <p:spPr>
          <a:xfrm>
            <a:off x="7985160" y="439560"/>
            <a:ext cx="838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&gt; </a:t>
            </a:r>
            <a:fld id="{16F69B21-AE79-43EA-ABFF-A2AE5097201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" name="Picture 16" descr="Eurostars_Colour_Neg"/>
          <p:cNvPicPr/>
          <p:nvPr/>
        </p:nvPicPr>
        <p:blipFill>
          <a:blip r:embed="rId4"/>
          <a:stretch/>
        </p:blipFill>
        <p:spPr>
          <a:xfrm>
            <a:off x="304920" y="306360"/>
            <a:ext cx="761760" cy="660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80520" y="21337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1" marL="482760" indent="-18576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2" marL="74268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3" marL="1040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4" marL="1337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5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6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</p:txBody>
      </p:sp>
      <p:pic>
        <p:nvPicPr>
          <p:cNvPr id="45" name="Picture 9" descr="Eurostars_Colour_Pos"/>
          <p:cNvPicPr/>
          <p:nvPr/>
        </p:nvPicPr>
        <p:blipFill>
          <a:blip r:embed="rId2"/>
          <a:stretch/>
        </p:blipFill>
        <p:spPr>
          <a:xfrm>
            <a:off x="8153280" y="6095880"/>
            <a:ext cx="762120" cy="621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212760" y="228600"/>
            <a:ext cx="870264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7985160" y="463680"/>
            <a:ext cx="838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&gt; </a:t>
            </a:r>
            <a:fld id="{3A5D9D3B-0FEC-4BA5-ADA8-3B5CF79D94B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4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13a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" name="Picture 5" descr="Eurostars_Colour_Pos"/>
          <p:cNvPicPr/>
          <p:nvPr/>
        </p:nvPicPr>
        <p:blipFill>
          <a:blip r:embed="rId2"/>
          <a:stretch/>
        </p:blipFill>
        <p:spPr>
          <a:xfrm>
            <a:off x="4191120" y="5867280"/>
            <a:ext cx="1066680" cy="868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5"/>
          <p:cNvSpPr/>
          <p:nvPr/>
        </p:nvSpPr>
        <p:spPr>
          <a:xfrm>
            <a:off x="571500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8" name="Picture 20" descr="EUREKA"/>
          <p:cNvPicPr/>
          <p:nvPr/>
        </p:nvPicPr>
        <p:blipFill>
          <a:blip r:embed="rId3"/>
          <a:stretch/>
        </p:blipFill>
        <p:spPr>
          <a:xfrm>
            <a:off x="8229600" y="6477120"/>
            <a:ext cx="30312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eu"/>
          <p:cNvPicPr/>
          <p:nvPr/>
        </p:nvPicPr>
        <p:blipFill>
          <a:blip r:embed="rId4"/>
          <a:stretch/>
        </p:blipFill>
        <p:spPr>
          <a:xfrm>
            <a:off x="8601120" y="6470640"/>
            <a:ext cx="466560" cy="31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9"/>
          <p:cNvSpPr/>
          <p:nvPr/>
        </p:nvSpPr>
        <p:spPr>
          <a:xfrm>
            <a:off x="103320" y="6095880"/>
            <a:ext cx="8937360" cy="66672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304920" y="6248520"/>
            <a:ext cx="41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oing business through technology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6629400" y="62485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ww.eurekanetwork.org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Text Box 45"/>
          <p:cNvSpPr/>
          <p:nvPr/>
        </p:nvSpPr>
        <p:spPr>
          <a:xfrm>
            <a:off x="304920" y="1981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2" name="Picture 49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6029280" cy="2790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d24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2" name="Picture 5" descr="Eurostars_Colour_Pos"/>
          <p:cNvPicPr/>
          <p:nvPr/>
        </p:nvPicPr>
        <p:blipFill>
          <a:blip r:embed="rId2"/>
          <a:stretch/>
        </p:blipFill>
        <p:spPr>
          <a:xfrm>
            <a:off x="4191120" y="5867280"/>
            <a:ext cx="1066680" cy="8683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228600" y="4114800"/>
            <a:ext cx="8458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d2456"/>
                </a:solidFill>
                <a:latin typeface="Arial"/>
              </a:rPr>
              <a:t>Body co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571500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5" name="Picture 16" descr="eu"/>
          <p:cNvPicPr/>
          <p:nvPr/>
        </p:nvPicPr>
        <p:blipFill>
          <a:blip r:embed="rId3"/>
          <a:stretch/>
        </p:blipFill>
        <p:spPr>
          <a:xfrm>
            <a:off x="8610480" y="6477120"/>
            <a:ext cx="447840" cy="301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EUREKA"/>
          <p:cNvPicPr/>
          <p:nvPr/>
        </p:nvPicPr>
        <p:blipFill>
          <a:blip r:embed="rId4"/>
          <a:stretch/>
        </p:blipFill>
        <p:spPr>
          <a:xfrm>
            <a:off x="8229600" y="6477120"/>
            <a:ext cx="303120" cy="3045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380520" y="21337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1" marL="482760" indent="-18576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2" marL="74268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3" marL="1040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4" marL="1337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5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6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0" y="228600"/>
            <a:ext cx="365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cc00"/>
                </a:solidFill>
                <a:latin typeface="Trebuchet MS"/>
              </a:rPr>
              <a:t>Michel Vanavermaete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427640" y="228600"/>
            <a:ext cx="45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Trebuchet MS"/>
              </a:rPr>
              <a:t>Paris – EARTO annual conference 2009 &gt; 5 May 2009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0" y="184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EUROSTAR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2781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EUREKA funding programme for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&amp;D-performing SM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04920" y="1981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4859280" y="5664240"/>
            <a:ext cx="2952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www.</a:t>
            </a: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eurekanetwork.org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www.eurostars-eureka.eu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87280" y="1557000"/>
            <a:ext cx="6156360" cy="324972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ter-Governmental network supporting R&amp;D-performing businesse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Projekty EUREKA a Eurostar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250920" y="260280"/>
            <a:ext cx="419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Svatopluk Halada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CZ EUREKA Deputy HLR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1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7399440" y="566424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32" name="Obrázek 13" descr=""/>
          <p:cNvPicPr/>
          <p:nvPr/>
        </p:nvPicPr>
        <p:blipFill>
          <a:blip r:embed="rId2"/>
          <a:stretch/>
        </p:blipFill>
        <p:spPr>
          <a:xfrm>
            <a:off x="8258040" y="566424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80520" y="2133720"/>
            <a:ext cx="8001000" cy="2133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Obrázek 4" descr=""/>
          <p:cNvPicPr/>
          <p:nvPr/>
        </p:nvPicPr>
        <p:blipFill>
          <a:blip r:embed="rId3"/>
          <a:stretch/>
        </p:blipFill>
        <p:spPr>
          <a:xfrm>
            <a:off x="8244000" y="281160"/>
            <a:ext cx="628560" cy="62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Eurostars projekty s účastí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7956720" y="5877000"/>
            <a:ext cx="1187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2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93" name="Obdélník 1"/>
          <p:cNvSpPr/>
          <p:nvPr/>
        </p:nvSpPr>
        <p:spPr>
          <a:xfrm>
            <a:off x="755640" y="1341360"/>
            <a:ext cx="77770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ýsledky českých organizací v programu Eurostars-2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(období 2014-2020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4" name="Obrázek 2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5" name=""/>
          <p:cNvGraphicFramePr/>
          <p:nvPr/>
        </p:nvGraphicFramePr>
        <p:xfrm>
          <a:off x="279360" y="2583000"/>
          <a:ext cx="8586720" cy="2501640"/>
        </p:xfrm>
        <a:graphic>
          <a:graphicData uri="http://schemas.openxmlformats.org/drawingml/2006/table">
            <a:tbl>
              <a:tblPr/>
              <a:tblGrid>
                <a:gridCol w="2289240"/>
                <a:gridCol w="933480"/>
                <a:gridCol w="998640"/>
                <a:gridCol w="934920"/>
                <a:gridCol w="936720"/>
                <a:gridCol w="936360"/>
                <a:gridCol w="792360"/>
                <a:gridCol w="765000"/>
              </a:tblGrid>
              <a:tr h="637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čet projekt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eřejná podpor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vé projek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v tis. Kč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 812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7 479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 279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 6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3 8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Rectangle 1"/>
          <p:cNvSpPr/>
          <p:nvPr/>
        </p:nvSpPr>
        <p:spPr>
          <a:xfrm>
            <a:off x="378000" y="2131920"/>
            <a:ext cx="8586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4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v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0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301" name="Obdélník 1"/>
          <p:cNvSpPr/>
          <p:nvPr/>
        </p:nvSpPr>
        <p:spPr>
          <a:xfrm>
            <a:off x="378000" y="1751040"/>
            <a:ext cx="846288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Velmi aktivní v přípravě a počtu schválených network projektů EUREK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důsledek prováděného účelového financování od roku 1994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dlouhodobé a motivující zkušenosti v řešení network projektů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převažující zájem být hlavním řešitelem mezinárodního projektu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nší účast v klastrových projektech EUREK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kolísavý zájem firem i výzkumných organizací  (mateřské podniky velkých firem většinou v zahraničí včetně tam prováděného výzkumu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v případě účasti a zapojení dosahovány vynikající a oceňované výsledk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Kolísavé výsledky v programu Eurosta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většinou průměrná obsahová invence a náměty předkládaných projektů včetně rozsahu komerčního uplatnění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někdy nepříliš vhodná volba zahraničního strategického partner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Obdélník 2"/>
          <p:cNvSpPr/>
          <p:nvPr/>
        </p:nvSpPr>
        <p:spPr>
          <a:xfrm>
            <a:off x="378000" y="1160640"/>
            <a:ext cx="801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ledky České republiky – obecné shrnutí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3" name="Obrázek 3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7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308" name="Obdélník 2"/>
          <p:cNvSpPr/>
          <p:nvPr/>
        </p:nvSpPr>
        <p:spPr>
          <a:xfrm>
            <a:off x="826920" y="3397320"/>
            <a:ext cx="7921800" cy="30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S přípravou návrhu projektu a dotační žádosti je potřeba začít vždy co nejdřív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Kontaktujte národního koordinátora, rádi vám pomůžem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Procento úspěšnosti v rámci INTER-EUREKA i Eurostars  je oproti  Rámcovému programu vysoké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9" name="Obrázek 3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  <p:pic>
        <p:nvPicPr>
          <p:cNvPr id="310" name="obrázek 2" descr="https://www.tallyfox.com/sites/default/files/3.png"/>
          <p:cNvPicPr/>
          <p:nvPr/>
        </p:nvPicPr>
        <p:blipFill>
          <a:blip r:embed="rId3"/>
          <a:stretch/>
        </p:blipFill>
        <p:spPr>
          <a:xfrm>
            <a:off x="692280" y="1160640"/>
            <a:ext cx="228744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/>
          <p:cNvSpPr/>
          <p:nvPr/>
        </p:nvSpPr>
        <p:spPr>
          <a:xfrm>
            <a:off x="928800" y="1285920"/>
            <a:ext cx="78120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ctr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979640" y="2571840"/>
            <a:ext cx="716436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Tahoma"/>
                <a:ea typeface="Tahoma"/>
              </a:rPr>
              <a:t>	</a:t>
            </a:r>
            <a:r>
              <a:rPr b="0" lang="cs-CZ" sz="2400" spc="-1" strike="noStrike">
                <a:solidFill>
                  <a:srgbClr val="002060"/>
                </a:solidFill>
                <a:latin typeface="Tahoma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eurekanetwork.or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eurostars-eureka.eu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msmt.cz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rebuchet MS"/>
                <a:ea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rebuchet MS"/>
                <a:ea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 a Eurostar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6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37" name="Obdélník 1"/>
          <p:cNvSpPr/>
          <p:nvPr/>
        </p:nvSpPr>
        <p:spPr>
          <a:xfrm>
            <a:off x="611280" y="191448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ce flexibilní podmínky pro přípravu a podávání mezinárodních projektů VaVa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sahové zaměření projektů napříč technologickými oblastm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y jsou vždy definovány jejich účastníky (systémový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360360" indent="-360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stup zdola nahoru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“bottom-up“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dnoduchá projektová pravidla a průběžné nebo často      opakované výzvy pro podávání projekt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administrativní a byrokratická zátěž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stup k dotačnímu systému národního spolufinancování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 pro zahájení obchodní spolupráce napříč evropskými geografickými hranicem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Obdélník 2"/>
          <p:cNvSpPr/>
          <p:nvPr/>
        </p:nvSpPr>
        <p:spPr>
          <a:xfrm>
            <a:off x="611280" y="1268280"/>
            <a:ext cx="81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Programy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ahoma"/>
              </a:rPr>
              <a:t>EUREKA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a Eurostars umožňují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9" name="Obrázek 3" descr=""/>
          <p:cNvPicPr/>
          <p:nvPr/>
        </p:nvPicPr>
        <p:blipFill>
          <a:blip r:embed="rId2"/>
          <a:stretch/>
        </p:blipFill>
        <p:spPr>
          <a:xfrm>
            <a:off x="8153280" y="30636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v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3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44" name="Obdélník 1"/>
          <p:cNvSpPr/>
          <p:nvPr/>
        </p:nvSpPr>
        <p:spPr>
          <a:xfrm>
            <a:off x="611280" y="1892160"/>
            <a:ext cx="842472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zinárodní projektovou spolupráci ve výzkumu a inovac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Spolufinancování z národních účelových prostředk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  <a:ea typeface="Tahoma"/>
              </a:rPr>
              <a:t>EUREKA network projekty, EUREKA subklastrové projekty, Eurostars projek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todickou a konzultační podporu při přípravě projekt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Kontakt s národními koordinátory a experty v členských zem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Pomoc při vyhledávání zahraničních partner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Propagaci výsledků řešení projektů na odborných akcích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a veletrz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Obdélník 2"/>
          <p:cNvSpPr/>
          <p:nvPr/>
        </p:nvSpPr>
        <p:spPr>
          <a:xfrm>
            <a:off x="611280" y="1220760"/>
            <a:ext cx="8353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Programy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ahoma"/>
              </a:rPr>
              <a:t>EUREKA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 a Eurostars nabízejí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6" name="Obrázek 3" descr=""/>
          <p:cNvPicPr/>
          <p:nvPr/>
        </p:nvPicPr>
        <p:blipFill>
          <a:blip r:embed="rId2"/>
          <a:stretch/>
        </p:blipFill>
        <p:spPr>
          <a:xfrm>
            <a:off x="8153280" y="30636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3520" y="1170000"/>
            <a:ext cx="843120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ákladní předpoklady pro úspěšné hodnocení a schválení návrhu projektu v EUREKA programu</a:t>
            </a:r>
            <a:endParaRPr b="0" lang="en-US" sz="2800" spc="-1" strike="noStrike">
              <a:solidFill>
                <a:srgbClr val="99cc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403280" y="2421000"/>
            <a:ext cx="7239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projek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2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53" name="Obdélník 2"/>
          <p:cNvSpPr/>
          <p:nvPr/>
        </p:nvSpPr>
        <p:spPr>
          <a:xfrm>
            <a:off x="501480" y="2133720"/>
            <a:ext cx="864252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obrá inovativní myšlenka z kategorie aplikovaného/ průmyslového výzkumu s výstupem pro komerční využití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lastní spolufinancování projektu ve výši 50%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věřený zahraniční partner ze zemí zapojených do programu EUREKA (41 členských zemí + 4 asociované státy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hodný okruh konečných uživatelů výstupů řešení projektu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akt /konzultace s národním koordinátorem programu EUREKA /MŠMT/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ůslednost při přípravě projektu a jednání se zahraničním partnerem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třebný kontakt zahraničního partnera se svým národním koordinátorem programu EUREKA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oporučení řešitelů projektů EUREKA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7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kt 7"/>
          <p:cNvGraphicFramePr/>
          <p:nvPr/>
        </p:nvGraphicFramePr>
        <p:xfrm>
          <a:off x="179280" y="2060640"/>
          <a:ext cx="8595000" cy="397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k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060640"/>
                    <a:ext cx="859500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Obdélník 5"/>
          <p:cNvSpPr/>
          <p:nvPr/>
        </p:nvSpPr>
        <p:spPr>
          <a:xfrm>
            <a:off x="378000" y="1025640"/>
            <a:ext cx="82263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sledky INTER-EUREKA 1. – 4. výzv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období 2017-2018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006560" y="1628640"/>
            <a:ext cx="7635960" cy="28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en-GB" sz="1600" spc="-1" strike="noStrike">
                <a:solidFill>
                  <a:srgbClr val="013a81"/>
                </a:solidFill>
                <a:latin typeface="Trebuchet MS"/>
              </a:rPr>
              <a:t>EUREKA is :</a:t>
            </a: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Intergovernmental initiative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39 Members – EU 26, European Commission + 11 other European countries)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Financed using national public and private funding</a:t>
            </a:r>
            <a:br>
              <a:rPr sz="1600"/>
            </a:b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Market-oriented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Projects must result in a marketable product, process or service)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Bottom-up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The consortium decides on the project aim. No thematic restriction)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5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66" name="Obrázek 3" descr=""/>
          <p:cNvPicPr/>
          <p:nvPr/>
        </p:nvPicPr>
        <p:blipFill>
          <a:blip r:embed="rId2"/>
          <a:stretch/>
        </p:blipFill>
        <p:spPr>
          <a:xfrm>
            <a:off x="506520" y="1362240"/>
            <a:ext cx="8327880" cy="50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0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Graf 7"/>
          <p:cNvGraphicFramePr/>
          <p:nvPr/>
        </p:nvGraphicFramePr>
        <p:xfrm>
          <a:off x="539640" y="1170000"/>
          <a:ext cx="8209080" cy="5381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2" name="Graf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170000"/>
                    <a:ext cx="820908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6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77" name="Obrázek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8137440" cy="52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Eurostars projek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1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82" name="Obdélník 1"/>
          <p:cNvSpPr/>
          <p:nvPr/>
        </p:nvSpPr>
        <p:spPr>
          <a:xfrm>
            <a:off x="179280" y="2303640"/>
            <a:ext cx="869328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Vhodná volba technologického oboru a strategického     partner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Jasné zaměření řešení projektu a jeho výstupů na nový produkt, službu, technologi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Řádně popsat všechny aspekty projektu (management projektu, metodika řešení, technologický pokrok, velikost trhu a schopnost se zde uplatnit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Originální tematické nápady mají vždy větší šanc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i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Doporučení M. Janečka,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bývalý předseda Eurostars mezinárodního hodnotícího panelu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Obdélník 2"/>
          <p:cNvSpPr/>
          <p:nvPr/>
        </p:nvSpPr>
        <p:spPr>
          <a:xfrm>
            <a:off x="684360" y="1170000"/>
            <a:ext cx="828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Základní předpoklady pro úspěšné hodnocení a schválení návrhu projektu v Eurostars  programu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4" name="Obrázek 8" descr=""/>
          <p:cNvPicPr/>
          <p:nvPr/>
        </p:nvPicPr>
        <p:blipFill>
          <a:blip r:embed="rId2"/>
          <a:stretch/>
        </p:blipFill>
        <p:spPr>
          <a:xfrm>
            <a:off x="8244000" y="281160"/>
            <a:ext cx="628560" cy="62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4:42:32Z</dcterms:created>
  <dc:creator>Dorothee De Keyzer</dc:creator>
  <dc:description/>
  <dc:language>en-US</dc:language>
  <cp:lastModifiedBy>HALADA</cp:lastModifiedBy>
  <dcterms:modified xsi:type="dcterms:W3CDTF">2019-02-27T14:40:34Z</dcterms:modified>
  <cp:revision>203</cp:revision>
  <dc:subject/>
  <dc:title>PowerPoint Presentation</dc:title>
</cp:coreProperties>
</file>