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3FA4-A6AF-4A4B-B4DA-B9D7DEAC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682E-FB8E-4350-9CC5-954DB79B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0260-6BE2-4431-8E62-AF4970B5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F8D-A9D3-43D4-B865-1A840C386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444-2A40-46D2-B133-955EDA34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ECF2-A481-4E73-8E0E-D835C115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801-379A-4AA4-A3EE-0614F665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C11-5214-4701-8CA8-25F56A7DC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056-4C34-424F-8EAC-042361B9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900D-6E1A-482A-B59B-236A2D41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5AF0-05AC-4E4B-AAE6-8B2BCA5C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74EA-C9ED-4DF3-A909-ADE34CF4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77D-0CA7-4D42-A477-4ECB2FD8A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2048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859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791320" y="106632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5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0859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791320" y="2618640"/>
            <a:ext cx="25761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0200" y="261864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0200" y="1066320"/>
            <a:ext cx="39042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2618640"/>
            <a:ext cx="80010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212760" y="204840"/>
            <a:ext cx="8702640" cy="838080"/>
          </a:xfrm>
          <a:prstGeom prst="rect">
            <a:avLst/>
          </a:prstGeom>
          <a:solidFill>
            <a:srgbClr val="013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571356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" name="Picture 13" descr="eu"/>
          <p:cNvPicPr/>
          <p:nvPr/>
        </p:nvPicPr>
        <p:blipFill>
          <a:blip r:embed="rId2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4" descr="EUREKA"/>
          <p:cNvPicPr/>
          <p:nvPr/>
        </p:nvPicPr>
        <p:blipFill>
          <a:blip r:embed="rId3"/>
          <a:stretch/>
        </p:blipFill>
        <p:spPr>
          <a:xfrm>
            <a:off x="822816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985160" y="43956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EB2C73C4-DC3A-4C51-918F-062BEAC9CE4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" name="Picture 16" descr="Eurostars_Colour_Neg"/>
          <p:cNvPicPr/>
          <p:nvPr/>
        </p:nvPicPr>
        <p:blipFill>
          <a:blip r:embed="rId4"/>
          <a:stretch/>
        </p:blipFill>
        <p:spPr>
          <a:xfrm>
            <a:off x="304920" y="306360"/>
            <a:ext cx="761760" cy="660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pic>
        <p:nvPicPr>
          <p:cNvPr id="45" name="Picture 9" descr="Eurostars_Colour_Pos"/>
          <p:cNvPicPr/>
          <p:nvPr/>
        </p:nvPicPr>
        <p:blipFill>
          <a:blip r:embed="rId2"/>
          <a:stretch/>
        </p:blipFill>
        <p:spPr>
          <a:xfrm>
            <a:off x="8153280" y="6095880"/>
            <a:ext cx="762120" cy="621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212760" y="228600"/>
            <a:ext cx="870264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985160" y="463680"/>
            <a:ext cx="838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&gt; </a:t>
            </a:r>
            <a:fld id="{A61E60FC-58BF-4BCC-9EAC-88FD262808E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13a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8" name="Picture 20" descr="EUREKA"/>
          <p:cNvPicPr/>
          <p:nvPr/>
        </p:nvPicPr>
        <p:blipFill>
          <a:blip r:embed="rId3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eu"/>
          <p:cNvPicPr/>
          <p:nvPr/>
        </p:nvPicPr>
        <p:blipFill>
          <a:blip r:embed="rId4"/>
          <a:stretch/>
        </p:blipFill>
        <p:spPr>
          <a:xfrm>
            <a:off x="8601120" y="6470640"/>
            <a:ext cx="466560" cy="3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9"/>
          <p:cNvSpPr/>
          <p:nvPr/>
        </p:nvSpPr>
        <p:spPr>
          <a:xfrm>
            <a:off x="103320" y="6095880"/>
            <a:ext cx="8937360" cy="66672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04920" y="624852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Doing business through technology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6629400" y="62485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ww.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49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6029280" cy="279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80520" y="10663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51"/>
              </a:spcBef>
              <a:buClr>
                <a:srgbClr val="99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1" marL="564480" indent="-21708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2" marL="8686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3" marL="1216080" indent="-173520">
              <a:spcBef>
                <a:spcPts val="751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4" marL="1563480" indent="-173520">
              <a:spcBef>
                <a:spcPts val="751"/>
              </a:spcBef>
              <a:buClr>
                <a:srgbClr val="0d245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5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  <a:p>
            <a:pPr lvl="6" marL="1563480" indent="-173520">
              <a:spcBef>
                <a:spcPts val="7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0" y="0"/>
            <a:ext cx="9144000" cy="5715000"/>
          </a:xfrm>
          <a:prstGeom prst="rect">
            <a:avLst/>
          </a:prstGeom>
          <a:solidFill>
            <a:srgbClr val="0d24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2" name="Picture 5" descr="Eurostars_Colour_Pos"/>
          <p:cNvPicPr/>
          <p:nvPr/>
        </p:nvPicPr>
        <p:blipFill>
          <a:blip r:embed="rId2"/>
          <a:stretch/>
        </p:blipFill>
        <p:spPr>
          <a:xfrm>
            <a:off x="4191120" y="5867280"/>
            <a:ext cx="106668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28600" y="4114800"/>
            <a:ext cx="8458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d2456"/>
                </a:solidFill>
                <a:latin typeface="Arial"/>
              </a:rPr>
              <a:t>Body co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57150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e Eurostars Programme is powered by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UREKA and the European Community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5" name="Picture 16" descr="eu"/>
          <p:cNvPicPr/>
          <p:nvPr/>
        </p:nvPicPr>
        <p:blipFill>
          <a:blip r:embed="rId3"/>
          <a:stretch/>
        </p:blipFill>
        <p:spPr>
          <a:xfrm>
            <a:off x="8610480" y="6477120"/>
            <a:ext cx="447840" cy="301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EUREKA"/>
          <p:cNvPicPr/>
          <p:nvPr/>
        </p:nvPicPr>
        <p:blipFill>
          <a:blip r:embed="rId4"/>
          <a:stretch/>
        </p:blipFill>
        <p:spPr>
          <a:xfrm>
            <a:off x="8229600" y="6477120"/>
            <a:ext cx="303120" cy="3045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80520" y="21337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1" marL="482760" indent="-18576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2" marL="74268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3" marL="1040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4" marL="1337040" indent="-148320">
              <a:spcBef>
                <a:spcPts val="624"/>
              </a:spcBef>
              <a:buClr>
                <a:srgbClr val="0d2456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5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  <a:p>
            <a:pPr lvl="6" marL="1337040" indent="-148320">
              <a:spcBef>
                <a:spcPts val="624"/>
              </a:spcBef>
              <a:buClr>
                <a:srgbClr val="000000"/>
              </a:buClr>
              <a:buFont typeface="Trebuchet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2456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d2456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0" y="2286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cc00"/>
                </a:solidFill>
                <a:latin typeface="Trebuchet MS"/>
              </a:rPr>
              <a:t>Michel Vanavermaet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427640" y="228600"/>
            <a:ext cx="45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rebuchet MS"/>
              </a:rPr>
              <a:t>Paris – EARTO annual conference 2009 &gt; 5 May 200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EUROSTAR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278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UREKA funding programme fo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&amp;D-performing S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049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859280" y="5664240"/>
            <a:ext cx="295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www.</a:t>
            </a: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eurekanetwork.org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rebuchet MS"/>
              </a:rPr>
              <a:t>www.eurostars-eureka.eu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87280" y="1557000"/>
            <a:ext cx="6156360" cy="324972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-Governmental network supporting R&amp;D-performing businesse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cs-CZ" sz="3200" spc="-1" strike="noStrike">
                <a:solidFill>
                  <a:srgbClr val="ffffff"/>
                </a:solidFill>
                <a:latin typeface="Trebuchet MS"/>
              </a:rPr>
              <a:t>Projekty EUREKA a Eurostar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50920" y="260280"/>
            <a:ext cx="41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vatopluk Halada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Z EUREKA Deputy HLR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7399440" y="566424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13" descr=""/>
          <p:cNvPicPr/>
          <p:nvPr/>
        </p:nvPicPr>
        <p:blipFill>
          <a:blip r:embed="rId2"/>
          <a:stretch/>
        </p:blipFill>
        <p:spPr>
          <a:xfrm>
            <a:off x="8258040" y="566424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924680" cy="838080"/>
          </a:xfrm>
          <a:prstGeom prst="rect">
            <a:avLst/>
          </a:prstGeom>
          <a:solidFill>
            <a:srgbClr val="0d2456"/>
          </a:solidFill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520" y="2133720"/>
            <a:ext cx="8001000" cy="213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Obrázek 4" descr=""/>
          <p:cNvPicPr/>
          <p:nvPr/>
        </p:nvPicPr>
        <p:blipFill>
          <a:blip r:embed="rId3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y s účastí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7956720" y="5877000"/>
            <a:ext cx="118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93" name="Obdélník 1"/>
          <p:cNvSpPr/>
          <p:nvPr/>
        </p:nvSpPr>
        <p:spPr>
          <a:xfrm>
            <a:off x="755640" y="1341360"/>
            <a:ext cx="7777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sledky českých organizací v programu Eurostars-2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(období 2014-2020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4" name="Obrázek 2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79360" y="2583000"/>
          <a:ext cx="8586720" cy="2501640"/>
        </p:xfrm>
        <a:graphic>
          <a:graphicData uri="http://schemas.openxmlformats.org/drawingml/2006/table">
            <a:tbl>
              <a:tblPr/>
              <a:tblGrid>
                <a:gridCol w="2289240"/>
                <a:gridCol w="933480"/>
                <a:gridCol w="998640"/>
                <a:gridCol w="934920"/>
                <a:gridCol w="936720"/>
                <a:gridCol w="936360"/>
                <a:gridCol w="792360"/>
                <a:gridCol w="765000"/>
              </a:tblGrid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čet projekt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á podpor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é projek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 tis. K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 812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 4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 279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 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3 8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?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Rectangle 1"/>
          <p:cNvSpPr/>
          <p:nvPr/>
        </p:nvSpPr>
        <p:spPr>
          <a:xfrm>
            <a:off x="378000" y="2131920"/>
            <a:ext cx="858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4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1" name="Obdélník 1"/>
          <p:cNvSpPr/>
          <p:nvPr/>
        </p:nvSpPr>
        <p:spPr>
          <a:xfrm>
            <a:off x="378000" y="1751040"/>
            <a:ext cx="84628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Velmi aktivní v přípravě a počtu schválených network projektů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ůsledek prováděného účelového financování od roku 1994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dlouhodobé a motivující zkušenosti v řešení network projektů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řevažující zájem být hlavním řešitelem mezinárodního projektu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nší účast v klastrových projektech EUREK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kolísavý zájem firem i výzkumných organizací  (mateřské podniky velkých firem většinou v zahraničí včetně tam prováděného výzkumu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 případě účasti a zapojení dosahovány vynikající a oceňované výsledk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lísavé výsledky v programu Eurosta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ětšinou průměrná obsahová invence a náměty předkládaných projektů včetně rozsahu komerčního uplatnění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0208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někdy nepříliš vhodná volba zahraničního strategického partner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Obdélník 2"/>
          <p:cNvSpPr/>
          <p:nvPr/>
        </p:nvSpPr>
        <p:spPr>
          <a:xfrm>
            <a:off x="378000" y="1160640"/>
            <a:ext cx="801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ledky České republiky – obecné shrnutí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3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308" name="Obdélník 2"/>
          <p:cNvSpPr/>
          <p:nvPr/>
        </p:nvSpPr>
        <p:spPr>
          <a:xfrm>
            <a:off x="826920" y="3397320"/>
            <a:ext cx="79218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S přípravou návrhu projektu a dotační žádosti je potřeba začít vždy co nejdřív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Kontaktujte národního koordinátora, rádi vám pomůžem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7000"/>
              </a:lnSpc>
              <a:spcBef>
                <a:spcPts val="64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Calibri"/>
              </a:rPr>
              <a:t>Procento úspěšnosti v rámci INTER-EUREKA i Eurostars  je oproti  Rámcovému programu vysoké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09" name="Obrázek 3" descr=""/>
          <p:cNvPicPr/>
          <p:nvPr/>
        </p:nvPicPr>
        <p:blipFill>
          <a:blip r:embed="rId2"/>
          <a:stretch/>
        </p:blipFill>
        <p:spPr>
          <a:xfrm>
            <a:off x="8213760" y="306360"/>
            <a:ext cx="627120" cy="628560"/>
          </a:xfrm>
          <a:prstGeom prst="rect">
            <a:avLst/>
          </a:prstGeom>
          <a:ln w="0">
            <a:noFill/>
          </a:ln>
        </p:spPr>
      </p:pic>
      <p:pic>
        <p:nvPicPr>
          <p:cNvPr id="310" name="obrázek 2" descr="https://www.tallyfox.com/sites/default/files/3.png"/>
          <p:cNvPicPr/>
          <p:nvPr/>
        </p:nvPicPr>
        <p:blipFill>
          <a:blip r:embed="rId3"/>
          <a:stretch/>
        </p:blipFill>
        <p:spPr>
          <a:xfrm>
            <a:off x="692280" y="1160640"/>
            <a:ext cx="2287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928800" y="1285920"/>
            <a:ext cx="7812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979640" y="2571840"/>
            <a:ext cx="71643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400" spc="-1" strike="noStrike">
                <a:solidFill>
                  <a:srgbClr val="002060"/>
                </a:solidFill>
                <a:latin typeface="Tahoma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ekanetwork.or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eurostars-eureka.eu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ahoma"/>
              </a:rPr>
              <a:t>www.msmt.cz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rebuchet MS"/>
                <a:ea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cs-CZ" sz="35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 a Eurosta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1"/>
          <p:cNvSpPr/>
          <p:nvPr/>
        </p:nvSpPr>
        <p:spPr>
          <a:xfrm>
            <a:off x="611280" y="191448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ce flexibilní podmínky pro přípravu a podávání mezinárodních projektů VaVa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sahové zaměření projektů napříč technologickými oblast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y jsou vždy definovány jejich účastníky (systémový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360360" indent="-360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zdola nahor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“bottom-up“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duchá projektová pravidla a průběžné nebo často      opakované výzvy pro podávání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administrativní a byrokratická zátě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stup k dotačnímu systému národního spolufinancován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pro zahájení obchodní spolupráce napříč evropskými geografickými hranicemi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Obdélník 2"/>
          <p:cNvSpPr/>
          <p:nvPr/>
        </p:nvSpPr>
        <p:spPr>
          <a:xfrm>
            <a:off x="611280" y="1268280"/>
            <a:ext cx="81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 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a Eurostars umožňu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9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a Eurostars v Č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611280" y="1892160"/>
            <a:ext cx="8424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zinárodní projektovou spolupráci ve výzkumu a inovac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Spolufinancování z národních účelových prostředk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UREKA network projekty, EUREKA subklastrové projekty, Eurostars projek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Metodickou a konzultační podporu při přípravě projekt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Kontakt s národními koordinátory a experty v členských zem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omoc při vyhledávání zahraničních partnerů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Propagaci výsledků řešení projektů na odborných akcích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a veletrzích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Obdélník 2"/>
          <p:cNvSpPr/>
          <p:nvPr/>
        </p:nvSpPr>
        <p:spPr>
          <a:xfrm>
            <a:off x="611280" y="122076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266760"/>
                <a:tab algn="l" pos="2602080"/>
                <a:tab algn="l" pos="2703600"/>
                <a:tab algn="l" pos="2911320"/>
                <a:tab algn="l" pos="3119400"/>
                <a:tab algn="l" pos="3327480"/>
                <a:tab algn="l" pos="3535200"/>
                <a:tab algn="l" pos="3743280"/>
                <a:tab algn="l" pos="3951360"/>
                <a:tab algn="l" pos="4159080"/>
                <a:tab algn="l" pos="4367160"/>
                <a:tab algn="l" pos="4575240"/>
                <a:tab algn="l" pos="4782960"/>
                <a:tab algn="l" pos="4991040"/>
                <a:tab algn="l" pos="5199120"/>
                <a:tab algn="l" pos="5407200"/>
                <a:tab algn="l" pos="5614920"/>
                <a:tab algn="l" pos="5823000"/>
                <a:tab algn="l" pos="6031080"/>
                <a:tab algn="l" pos="6238800"/>
                <a:tab algn="l" pos="6446880"/>
                <a:tab algn="l" pos="66549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Programy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ahoma"/>
              </a:rPr>
              <a:t>EUREKA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ahoma"/>
              </a:rPr>
              <a:t> a Eurostars nabízejí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6" name="Obrázek 3" descr=""/>
          <p:cNvPicPr/>
          <p:nvPr/>
        </p:nvPicPr>
        <p:blipFill>
          <a:blip r:embed="rId2"/>
          <a:stretch/>
        </p:blipFill>
        <p:spPr>
          <a:xfrm>
            <a:off x="8153280" y="306360"/>
            <a:ext cx="62892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170000"/>
            <a:ext cx="8431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EKA programu</a:t>
            </a: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cc00"/>
              </a:solidFill>
              <a:latin typeface="Trebuchet MS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403280" y="2421000"/>
            <a:ext cx="7239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2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53" name="Obdélník 2"/>
          <p:cNvSpPr/>
          <p:nvPr/>
        </p:nvSpPr>
        <p:spPr>
          <a:xfrm>
            <a:off x="501480" y="2133720"/>
            <a:ext cx="86425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obrá inovativní myšlenka z kategorie aplikovaného/ průmyslového výzkumu s výstupem pro komerční využití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lastní spolufinancování projektu ve výši 50%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ěřený zahraniční partner ze zemí zapojených do programu EUREKA (41 členských zemí + 4 asociované státy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hodný okruh konečných uživatelů výstupů řešení projekt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akt /konzultace s národním koordinátorem programu EUREKA /MŠMT/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ůslednost při přípravě projektu a jednání se zahraničním partner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třebný kontakt zahraničního partnera se svým národním koordinátorem programu EUREKA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oporučení řešitelů projektů EUREKA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7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kt 7"/>
          <p:cNvGraphicFramePr/>
          <p:nvPr/>
        </p:nvGraphicFramePr>
        <p:xfrm>
          <a:off x="179280" y="2060640"/>
          <a:ext cx="859500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k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859500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Obdélník 5"/>
          <p:cNvSpPr/>
          <p:nvPr/>
        </p:nvSpPr>
        <p:spPr>
          <a:xfrm>
            <a:off x="378000" y="1025640"/>
            <a:ext cx="82263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INTER-EUREKA 1. – 4. výzv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období 2017-2018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006560" y="1628640"/>
            <a:ext cx="7635960" cy="28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en-GB" sz="1600" spc="-1" strike="noStrike">
                <a:solidFill>
                  <a:srgbClr val="013a81"/>
                </a:solidFill>
                <a:latin typeface="Trebuchet MS"/>
              </a:rPr>
              <a:t>EUREKA is :</a:t>
            </a: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Intergovernmental initiative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39 Members – EU 26, European Commission + 11 other European countries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Financed using national public and private funding</a:t>
            </a:r>
            <a:br>
              <a:rPr sz="1600"/>
            </a:b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Market-oriented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Projects must result in a marketable product, process or servic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buClr>
                <a:srgbClr val="013a81"/>
              </a:buClr>
              <a:buFont typeface="Trebuchet MS"/>
              <a:buChar char="•"/>
              <a:tabLst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en-GB" sz="1600" spc="-1" strike="noStrike">
                <a:solidFill>
                  <a:srgbClr val="013a81"/>
                </a:solidFill>
                <a:latin typeface="Trebuchet MS"/>
              </a:rPr>
              <a:t>Bottom-up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70000" indent="-270000">
              <a:tabLst>
                <a:tab algn="l" pos="0"/>
                <a:tab algn="l" pos="35388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	</a:t>
            </a:r>
            <a:r>
              <a:rPr b="0" i="1" lang="en-GB" sz="1400" spc="-1" strike="noStrike">
                <a:solidFill>
                  <a:srgbClr val="013a81"/>
                </a:solidFill>
                <a:latin typeface="Trebuchet MS"/>
              </a:rPr>
              <a:t>(The consortium decides on the project aim. No thematic restriction)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5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Obrázek 3" descr=""/>
          <p:cNvPicPr/>
          <p:nvPr/>
        </p:nvPicPr>
        <p:blipFill>
          <a:blip r:embed="rId2"/>
          <a:stretch/>
        </p:blipFill>
        <p:spPr>
          <a:xfrm>
            <a:off x="506520" y="1362240"/>
            <a:ext cx="8327880" cy="50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0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Graf 7"/>
          <p:cNvGraphicFramePr/>
          <p:nvPr/>
        </p:nvGraphicFramePr>
        <p:xfrm>
          <a:off x="539640" y="1170000"/>
          <a:ext cx="8209080" cy="5381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2" name="Graf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170000"/>
                    <a:ext cx="820908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INTER-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UREK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277" name="Obrázek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8137440" cy="52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79280" y="189000"/>
            <a:ext cx="8785440" cy="863640"/>
          </a:xfrm>
          <a:prstGeom prst="rect">
            <a:avLst/>
          </a:prstGeom>
          <a:solidFill>
            <a:srgbClr val="7fc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0484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rebuchet MS"/>
              </a:rPr>
              <a:t>Eurostars projek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7020000" y="5877000"/>
            <a:ext cx="212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4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obrázek 1" descr="http://www.eurekanetwork.org/sites/default/files/styles/eureka_thumbnail_standard_logo/public/EUREKA_symbol.jpg?itok=52F_fFoC"/>
          <p:cNvPicPr/>
          <p:nvPr/>
        </p:nvPicPr>
        <p:blipFill>
          <a:blip r:embed="rId1"/>
          <a:stretch/>
        </p:blipFill>
        <p:spPr>
          <a:xfrm>
            <a:off x="378000" y="30636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282" name="Obdélník 1"/>
          <p:cNvSpPr/>
          <p:nvPr/>
        </p:nvSpPr>
        <p:spPr>
          <a:xfrm>
            <a:off x="179280" y="2303640"/>
            <a:ext cx="869328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Vhodná volba technologického oboru a strategického     partner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Jasné zaměření řešení projektu a jeho výstupů na nový produkt, službu, technologi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Řádně popsat všechny aspekty projektu (management projektu, metodika řešení, technologický pokrok, velikost trhu a schopnost se zde uplatnit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Originální tematické nápady mají vždy větší šanci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Doporučení M. Janečka,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04880" indent="-2556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bývalý předseda Eurostars mezinárodního hodnotícího panelu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Obdélník 2"/>
          <p:cNvSpPr/>
          <p:nvPr/>
        </p:nvSpPr>
        <p:spPr>
          <a:xfrm>
            <a:off x="684360" y="1170000"/>
            <a:ext cx="828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Základní předpoklady pro úspěšné hodnocení a schválení návrhu projektu v Eurostars  programu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4" name="Obrázek 8" descr=""/>
          <p:cNvPicPr/>
          <p:nvPr/>
        </p:nvPicPr>
        <p:blipFill>
          <a:blip r:embed="rId2"/>
          <a:stretch/>
        </p:blipFill>
        <p:spPr>
          <a:xfrm>
            <a:off x="8244000" y="281160"/>
            <a:ext cx="628560" cy="62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42:32Z</dcterms:created>
  <dc:creator>Dorothee De Keyzer</dc:creator>
  <dc:description/>
  <dc:language>en-US</dc:language>
  <cp:lastModifiedBy>HALADA</cp:lastModifiedBy>
  <dcterms:modified xsi:type="dcterms:W3CDTF">2019-02-27T14:40:34Z</dcterms:modified>
  <cp:revision>203</cp:revision>
  <dc:subject/>
  <dc:title>PowerPoint Presentation</dc:title>
</cp:coreProperties>
</file>