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8353-142C-4F91-9721-1859AB104B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9C1-AE69-482A-92FA-F907598C31F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968-5560-4FF7-B0A8-F4ADD1CEF15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2575-FC4B-475E-A2B0-51ABF9848BA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A329-BBC1-4437-9CB5-698BEFC3E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4AF8-4F1E-4074-8FAF-7FFFB428C01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2C96-DBFC-40FF-8721-8FD437DA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FFB3-707D-4217-A3D9-0025A97C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D390-DCD9-4864-92A0-090303E4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4262-39F8-4992-9E46-B2E1DA7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92EA-BB65-45C8-8910-8E70AECA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2984-EA59-4760-AD2D-D9592C81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0E23-2CB0-46EC-9AB3-92A8A1BA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0BD4-6035-4F2C-94D8-7B6E6622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F4C7-644A-4E97-A56D-9F4DC5E0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76F2-70D8-4FE0-AA07-0C3CD1F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97B0-AF65-4A71-9D22-2864FC8A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5012-EC16-4AA2-B4E6-DD03D547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522D7-4060-4620-ABFC-8075030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372C-BC96-4CB1-AF15-412F0A47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7741A-DCA0-41D4-A19E-107018A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E9A4B-2B04-4D30-80AE-F6276A3A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F674-7AA8-44B0-AB8D-3E573C7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0CA4-03DC-4E4C-80B7-816E5B9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3CEB-8AAD-4B9C-9888-37050CE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F2FD-482A-4651-A708-309AE873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0ABC-28BD-432F-B45D-49998E65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AF25-25D7-4819-A1D2-A063C8D4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82C90-3D95-4122-8A87-C079AE7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A2B9B-48E7-4516-B52B-9E2011CC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5097-C50C-4542-AA51-A425E1F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D3BEB-0975-443F-97B5-BF90356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467C-D416-4E4B-9362-2F3B6181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F7A30-2D94-4DA3-AE94-0A93A63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6FBA-D637-4211-8B8F-5773D3E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B83D-4DEA-451B-A918-000FDE2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6E47F-566B-403C-AD3D-93CF8A8B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BA866-11EC-4BAC-AE63-D51B7695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0842-B243-451E-B792-88B77CE4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93816-C9A3-4372-9C10-264E192C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15E2-C3E2-498A-89B0-49C1DAC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25FD9-3B45-4AFC-9FEB-21522C3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56F9D-2D6F-4F3D-B5B5-1811F58B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906FE-16A3-45DD-98A0-EDC10EC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4E0C1-89FB-4834-ADD5-1DBDC9E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39FB6-F678-4ECF-9EA1-76FF096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0BED-F8DB-48FE-9EBE-27572D8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CC32B-79EC-40F8-BF03-73E05EA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8591A-C589-44AB-BC4B-8F1C070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03FBA-63E1-47E6-AB05-5A77B6CA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A341B-A385-40DA-882D-E0B1F7E9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03D-23B7-47B7-B5F9-2CD1CBCE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70E-5800-4A7D-8E9D-0A76EAF8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29F-486C-45EA-8F39-8FAB943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CB5-369B-4E24-B17D-E8B2398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098-AA2E-4A16-9278-3F2CB1F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3CF-A758-488F-9C85-BA69560D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DF8-01A2-424C-B89C-FF05E0F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598-DC33-433B-8CB7-EC98222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7EE-9921-4F65-8415-ED6BFE2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2CC-879A-4EF5-B021-A7775EF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D96-CE67-4E91-81E3-AAAAFED1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B5A-1D4D-4919-9CBA-57803DBA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6FA-C233-4859-B7AD-EE0FFF59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9AB9-B38E-4EF1-9CD6-7CFA17B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A16-B92F-476D-A277-05E937D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886-BCDA-466E-885E-1C1BE3E3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CFA-2CFA-4552-BD93-AA41D39D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ADB-F0E0-4DE2-A0B8-F9CB8D66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42A-EA35-476B-9782-6BFFB7C4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CA0F-403C-4674-A55A-393653B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3CE1-72BC-4335-BAF0-D49E4EC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EFB1-7371-431B-997A-300BE221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2542-8A34-4BB9-ADFC-A42AD461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7E7F-F826-45E9-875A-534328D4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FE1F-6E0F-4DE8-9936-956A0178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FA20-75C5-4D8F-ACAB-0C8FE760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895C-F889-4FB1-A874-F6550188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CF8B-C4E8-4A4C-A05F-CA744820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515A-24DA-4D51-99C3-29C4F85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CDC6-8069-48FE-B5D2-447E1B00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7FF5-FE33-4FD0-A20F-7C23DBC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6055-F824-4221-B06B-3FF4DF8A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7B5A-5197-45C2-9DAD-CDB54C9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EA0B-7502-4AD2-AF60-A7B9833A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44DE-F54B-4CA9-B5BF-8178155B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669F-A767-4240-8A7E-2F6781F2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FB917-9FFE-43DA-A1A1-9B29DFB5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09BB-2B58-4C51-B18A-A43681C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5BEB-183B-4954-B262-3212D36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5CCE-B1C6-43B8-9119-09E756EF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F42D-BEA8-4765-AA53-C2E859DE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8A715-8173-49A1-85A8-1666FED1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63BC-4C01-415D-9DAE-2B8097C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DB8E-B737-48E4-8E52-4D5F528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1CD61-77F6-4CF3-8F85-D67C8D0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7CF0-E1A1-48F5-A868-21B3CA58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B17C-49B5-472D-8F42-58EDC9EF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5A31-D884-483F-91BB-D5327616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B81D-9A84-494F-8DA9-29369616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BD42-6B8E-4FC9-B106-A573FE07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C46A0-B556-45EC-8313-20E89097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A205-1A57-4E7B-B21A-876B24E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8F62-C0A5-41E5-8CD9-3A1503F1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67B75-38EE-41D2-AEAF-E4935C8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7774-4684-4E30-B55C-49764C5D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6DEC-F7B2-4DA2-9951-69C69AC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BEE82-81BC-4DE1-A62E-8566C18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074A-5E27-465B-8F3B-903740CA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5DAB-29B1-4E4A-AB52-99AC005F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2C75-7B8F-46C0-91EE-B49C5CFB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0E6D-3047-415B-A4A6-AC9E785F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BD87-E1D9-45A7-BB9E-5E1702FB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3169-D725-4FC7-B851-6EB94C22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686C-CA55-4BF6-BB37-8CF36C72AFA9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E13-4A44-4B02-B91D-BB1C052C79D2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29D-2BFD-4D55-B6E7-0B5ED84BDA3A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0D4-FFD8-4894-9AD1-EC65CD8FE71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A3C4-A46D-4038-AFD8-4FF5C269992E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C037-BA6D-4C3D-AA17-4EBCBDDC6742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536-5B23-444C-AC62-122F15AEFC8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D63E-6200-4BC5-8525-84A3A4EA1283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25B9-C35F-4C4B-91A1-AB7C2EF0A0E5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DB5-0707-4960-BFC7-B3F48ACD1F1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597B-8ED0-4FAF-BCD1-1D1242F9CD38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TextovéPole 3"/>
          <p:cNvSpPr/>
          <p:nvPr/>
        </p:nvSpPr>
        <p:spPr>
          <a:xfrm>
            <a:off x="324000" y="6093000"/>
            <a:ext cx="18716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693-2FB8-4273-98AC-9DD2A740C6A1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12E4-FFB4-4D15-B08F-08AD58DF25F2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A0F1-90E7-41A3-8C65-A510EFE83711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A2A-C56C-42A0-AAC6-E61E75932E6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93BC-40B7-49C9-A43E-CBD2CB6849BB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D75-AD7A-4A7B-A286-75B6CA02958C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6DE-397F-40A8-B019-3F8E1AFA367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1CD-F01E-4B14-9845-FC370D2D6FDC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DE0E-7135-4D6E-B2B6-9A509458E6AD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A690-1913-4B76-BC18-E6E9C24645A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7623-DA22-4D6D-BAF1-86C6DD3B41BE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585-73DF-4C20-92AF-335C983C0EF9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6CE9-CA32-4A0A-A5BC-4D0C4650A8A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C38B-1997-4CF8-89D4-4BAED83D3123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61A6-CF5D-4425-B813-B593AB70DB13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031E-5F4F-4A59-B955-A45F961AA37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DABA-38B1-4DED-9AF8-36BBB818200D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74B-D096-4454-8B4C-C5FD4D7723D3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932-58A9-4580-9767-881FBFE153E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-EcWwSw-Jc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msmt.cz/vzdelavani/skolstvi-v-cr/spolecny-evropsky-referencni-ramec-pro-jazyky?highlightWords=spole&#269;n&#253;+evropsk&#253;+referen&#269;n&#237;+r&#225;mec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987640" y="3357360"/>
            <a:ext cx="54705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Úroveň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turitní </a:t>
            </a: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zkoušky dle SERR</a:t>
            </a: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a pracovní listy</a:t>
            </a:r>
            <a:br>
              <a:rPr sz="4000"/>
            </a:b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pro střední odborné školy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59280" y="6021360"/>
            <a:ext cx="47844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arie Černíková, MŠ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Obrázek 3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000160" cy="105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Návrh na zpracování tématu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Hobbies and   free time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za použití listů CZVV  č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.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v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děláte rád ve volném čas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hl byste žít bez televize?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pis obráz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rovnání, místo, lidé, aktivity, počasí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iktivní rozhov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pravit program na volný den pro přítele z Ang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dborné té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te kutil, popište Vaši dílnu a nářadí, které máte v díln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Obrázek 9" descr=""/>
          <p:cNvPicPr/>
          <p:nvPr/>
        </p:nvPicPr>
        <p:blipFill>
          <a:blip r:embed="rId1"/>
          <a:stretch/>
        </p:blipFill>
        <p:spPr>
          <a:xfrm>
            <a:off x="6875640" y="1123920"/>
            <a:ext cx="1811160" cy="333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Další možné zapojení odborného cizího jaz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rovnání a využití ná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rovnání firem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SERR není možné, aby bylo vypsáno pouze téma zaměřené na odbornost, neboť by zpracování takového tématu vyžadovalo bezpochyby vyšší úroveň než B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1116000" y="155700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gr. Martina Dočekal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čující anglického jazyka na SUP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Uherském Hradišt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Q-EcWwSw-J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Obrázek 2" descr=""/>
          <p:cNvPicPr/>
          <p:nvPr/>
        </p:nvPicPr>
        <p:blipFill>
          <a:blip r:embed="rId2"/>
          <a:stretch/>
        </p:blipFill>
        <p:spPr>
          <a:xfrm>
            <a:off x="2610000" y="115920"/>
            <a:ext cx="3678120" cy="1388880"/>
          </a:xfrm>
          <a:prstGeom prst="rect">
            <a:avLst/>
          </a:prstGeom>
          <a:ln w="0">
            <a:noFill/>
          </a:ln>
        </p:spPr>
      </p:pic>
      <p:pic>
        <p:nvPicPr>
          <p:cNvPr id="533" name="Obrázek 3" descr=""/>
          <p:cNvPicPr/>
          <p:nvPr/>
        </p:nvPicPr>
        <p:blipFill>
          <a:blip r:embed="rId3"/>
          <a:stretch/>
        </p:blipFill>
        <p:spPr>
          <a:xfrm>
            <a:off x="6516720" y="115920"/>
            <a:ext cx="2481120" cy="4181400"/>
          </a:xfrm>
          <a:prstGeom prst="rect">
            <a:avLst/>
          </a:prstGeom>
          <a:ln w="0">
            <a:noFill/>
          </a:ln>
        </p:spPr>
      </p:pic>
      <p:pic>
        <p:nvPicPr>
          <p:cNvPr id="534" name="Obrázek 4" descr=""/>
          <p:cNvPicPr/>
          <p:nvPr/>
        </p:nvPicPr>
        <p:blipFill>
          <a:blip r:embed="rId4"/>
          <a:stretch/>
        </p:blipFill>
        <p:spPr>
          <a:xfrm>
            <a:off x="1116000" y="3949560"/>
            <a:ext cx="522144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TextShape 1" descr=""/>
          <p:cNvPicPr/>
          <p:nvPr/>
        </p:nvPicPr>
        <p:blipFill>
          <a:blip r:embed="rId1"/>
          <a:stretch/>
        </p:blipFill>
        <p:spPr>
          <a:xfrm>
            <a:off x="2200320" y="1152360"/>
            <a:ext cx="7572240" cy="5040360"/>
          </a:xfrm>
          <a:prstGeom prst="rect">
            <a:avLst/>
          </a:prstGeom>
          <a:ln w="0">
            <a:noFill/>
          </a:ln>
        </p:spPr>
      </p:pic>
      <p:sp>
        <p:nvSpPr>
          <p:cNvPr id="536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Kritéria hodnocení ÚSTNÍ ZKOUŠ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CC5-08D0-4ACF-9E6E-86E50444A74C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Diagram 1" descr=""/>
          <p:cNvPicPr/>
          <p:nvPr/>
        </p:nvPicPr>
        <p:blipFill>
          <a:blip r:embed="rId2"/>
          <a:stretch/>
        </p:blipFill>
        <p:spPr>
          <a:xfrm>
            <a:off x="1523880" y="3029040"/>
            <a:ext cx="6096240" cy="3268440"/>
          </a:xfrm>
          <a:prstGeom prst="rect">
            <a:avLst/>
          </a:prstGeom>
          <a:ln w="0">
            <a:noFill/>
          </a:ln>
        </p:spPr>
      </p:pic>
      <p:pic>
        <p:nvPicPr>
          <p:cNvPr id="539" name="Diagram 3" descr=""/>
          <p:cNvPicPr/>
          <p:nvPr/>
        </p:nvPicPr>
        <p:blipFill>
          <a:blip r:embed="rId3"/>
          <a:stretch/>
        </p:blipFill>
        <p:spPr>
          <a:xfrm>
            <a:off x="1316160" y="1706400"/>
            <a:ext cx="631656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Kritéria hodnoc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pomenutí: Dle § 24 vyhl. č. 177/ 2009 Sb. je hodnocení písemné práce 40 %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ústní zkouš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ř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60 %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lkového hodnocení zkušebního předmě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novení přesných kritérií je důležité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 hodnoce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 argumentaci při odvol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řeba stanovit procentuální úspěšnost pro uspění 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stní zkouš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děli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čemu dát více a čemu méně bodů, neboť úkoly nejsou rovnocenné (část 1 je patrně nejlehčí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vrhuje se stanovi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ritéria hodnocení pro každou část zvlášť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iz dá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Pouze a jen můj návrh na hodnocení dle obtížnosti u tématu „zájmy a volný čas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Úvod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nejjednodušší –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pis obrázků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ovnání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ktivní rozhovor,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sumarizace – 4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dborné téma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2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! Je třeba si rozvrhnout čas tak, aby se nestalo, že o nejjednodušším tématu žák hovoří příliš dlouh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ávrh jak stanovit kritéria hodnocení ke každé úl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k tématu či mimo té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v celých větá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ložitější vyjadřovací prostřed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 bohatou slovní zásobu nebo opakoval stále stejná slov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 nelze hodnotit celek …  celkový dojem „jako v krasobruslení“ je v jazykových zkouškách velmi zavádějí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2058840"/>
            <a:ext cx="4824360" cy="3805560"/>
          </a:xfrm>
          <a:prstGeom prst="rect">
            <a:avLst/>
          </a:prstGeom>
          <a:ln w="0">
            <a:noFill/>
          </a:ln>
        </p:spPr>
      </p:pic>
      <p:sp>
        <p:nvSpPr>
          <p:cNvPr id="544" name="Obdélník 4"/>
          <p:cNvSpPr/>
          <p:nvPr/>
        </p:nvSpPr>
        <p:spPr>
          <a:xfrm>
            <a:off x="1042920" y="141300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zaujmou šedé myši“,…, učitel musí umět žákovi vysvětlit, proč dostal např. horší znám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TextShape 1" descr=""/>
          <p:cNvPicPr/>
          <p:nvPr/>
        </p:nvPicPr>
        <p:blipFill>
          <a:blip r:embed="rId1"/>
          <a:stretch/>
        </p:blipFill>
        <p:spPr>
          <a:xfrm>
            <a:off x="2193840" y="1255680"/>
            <a:ext cx="7572600" cy="5041800"/>
          </a:xfrm>
          <a:prstGeom prst="rect">
            <a:avLst/>
          </a:prstGeom>
          <a:ln w="0">
            <a:noFill/>
          </a:ln>
        </p:spPr>
      </p:pic>
      <p:sp>
        <p:nvSpPr>
          <p:cNvPr id="546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016C-45CB-4AC0-81E3-9B8469AE96D7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Obrázek 13" descr=""/>
          <p:cNvPicPr/>
          <p:nvPr/>
        </p:nvPicPr>
        <p:blipFill>
          <a:blip r:embed="rId2"/>
          <a:stretch/>
        </p:blipFill>
        <p:spPr>
          <a:xfrm>
            <a:off x="5730840" y="1004760"/>
            <a:ext cx="3552840" cy="1217880"/>
          </a:xfrm>
          <a:prstGeom prst="rect">
            <a:avLst/>
          </a:prstGeom>
          <a:ln w="0">
            <a:noFill/>
          </a:ln>
        </p:spPr>
      </p:pic>
      <p:pic>
        <p:nvPicPr>
          <p:cNvPr id="549" name="Diagram 1" descr=""/>
          <p:cNvPicPr/>
          <p:nvPr/>
        </p:nvPicPr>
        <p:blipFill>
          <a:blip r:embed="rId3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50" name="Diagram 3" descr=""/>
          <p:cNvPicPr/>
          <p:nvPr/>
        </p:nvPicPr>
        <p:blipFill>
          <a:blip r:embed="rId4"/>
          <a:stretch/>
        </p:blipFill>
        <p:spPr>
          <a:xfrm>
            <a:off x="1285920" y="2036880"/>
            <a:ext cx="6254640" cy="42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extShape 1" descr=""/>
          <p:cNvPicPr/>
          <p:nvPr/>
        </p:nvPicPr>
        <p:blipFill>
          <a:blip r:embed="rId1"/>
          <a:stretch/>
        </p:blipFill>
        <p:spPr>
          <a:xfrm>
            <a:off x="2193840" y="1231920"/>
            <a:ext cx="7572600" cy="5040360"/>
          </a:xfrm>
          <a:prstGeom prst="rect">
            <a:avLst/>
          </a:prstGeom>
          <a:ln w="0">
            <a:noFill/>
          </a:ln>
        </p:spPr>
      </p:pic>
      <p:sp>
        <p:nvSpPr>
          <p:cNvPr id="552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 doplně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36E1-BDFA-43A1-872E-31785FED169A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Diagram 1" descr=""/>
          <p:cNvPicPr/>
          <p:nvPr/>
        </p:nvPicPr>
        <p:blipFill>
          <a:blip r:embed="rId2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55" name="Diagram 3" descr=""/>
          <p:cNvPicPr/>
          <p:nvPr/>
        </p:nvPicPr>
        <p:blipFill>
          <a:blip r:embed="rId3"/>
          <a:stretch/>
        </p:blipFill>
        <p:spPr>
          <a:xfrm>
            <a:off x="1274760" y="1773360"/>
            <a:ext cx="6265800" cy="4548240"/>
          </a:xfrm>
          <a:prstGeom prst="rect">
            <a:avLst/>
          </a:prstGeom>
          <a:ln w="0">
            <a:noFill/>
          </a:ln>
        </p:spPr>
      </p:pic>
      <p:sp>
        <p:nvSpPr>
          <p:cNvPr id="556" name="Přímá spojnice 4"/>
          <p:cNvSpPr/>
          <p:nvPr/>
        </p:nvSpPr>
        <p:spPr>
          <a:xfrm>
            <a:off x="5958000" y="2995560"/>
            <a:ext cx="627120" cy="3873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římá spojnice 13"/>
          <p:cNvSpPr/>
          <p:nvPr/>
        </p:nvSpPr>
        <p:spPr>
          <a:xfrm flipV="1">
            <a:off x="4572000" y="3149280"/>
            <a:ext cx="0" cy="98280"/>
          </a:xfrm>
          <a:prstGeom prst="line">
            <a:avLst/>
          </a:prstGeom>
          <a:ln w="9360">
            <a:solidFill>
              <a:srgbClr val="3d8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Volný tvar: obrazec 14"/>
          <p:cNvSpPr/>
          <p:nvPr/>
        </p:nvSpPr>
        <p:spPr>
          <a:xfrm>
            <a:off x="3456000" y="2692440"/>
            <a:ext cx="981000" cy="2709720"/>
          </a:xfrm>
          <a:custGeom>
            <a:avLst/>
            <a:gdLst/>
            <a:ahLst/>
            <a:rect l="l" t="t" r="r" b="b"/>
            <a:pathLst>
              <a:path w="980653" h="3062767">
                <a:moveTo>
                  <a:pt x="972718" y="464234"/>
                </a:moveTo>
                <a:cubicBezTo>
                  <a:pt x="832041" y="248529"/>
                  <a:pt x="691364" y="32825"/>
                  <a:pt x="550687" y="42203"/>
                </a:cubicBezTo>
                <a:cubicBezTo>
                  <a:pt x="410010" y="51581"/>
                  <a:pt x="213063" y="58615"/>
                  <a:pt x="128657" y="520504"/>
                </a:cubicBezTo>
                <a:cubicBezTo>
                  <a:pt x="44251" y="982393"/>
                  <a:pt x="-61258" y="2445433"/>
                  <a:pt x="44250" y="2813538"/>
                </a:cubicBezTo>
                <a:cubicBezTo>
                  <a:pt x="149758" y="3181643"/>
                  <a:pt x="611648" y="3132406"/>
                  <a:pt x="761703" y="2729132"/>
                </a:cubicBezTo>
                <a:cubicBezTo>
                  <a:pt x="911758" y="2325858"/>
                  <a:pt x="1047746" y="829994"/>
                  <a:pt x="944583" y="393895"/>
                </a:cubicBezTo>
                <a:cubicBezTo>
                  <a:pt x="841420" y="-42204"/>
                  <a:pt x="255265" y="173501"/>
                  <a:pt x="142724" y="112541"/>
                </a:cubicBezTo>
                <a:cubicBezTo>
                  <a:pt x="30183" y="51581"/>
                  <a:pt x="224786" y="46892"/>
                  <a:pt x="269334" y="28135"/>
                </a:cubicBezTo>
                <a:cubicBezTo>
                  <a:pt x="313882" y="9378"/>
                  <a:pt x="372496" y="0"/>
                  <a:pt x="410010" y="0"/>
                </a:cubicBezTo>
                <a:cubicBezTo>
                  <a:pt x="447524" y="0"/>
                  <a:pt x="440491" y="14067"/>
                  <a:pt x="494417" y="28135"/>
                </a:cubicBezTo>
                <a:cubicBezTo>
                  <a:pt x="548343" y="42203"/>
                  <a:pt x="733567" y="84406"/>
                  <a:pt x="733567" y="84406"/>
                </a:cubicBezTo>
                <a:lnTo>
                  <a:pt x="733567" y="84406"/>
                </a:lnTo>
              </a:path>
            </a:pathLst>
          </a:custGeom>
          <a:noFill/>
          <a:ln w="25560">
            <a:solidFill>
              <a:srgbClr val="2d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římá spojnice 17"/>
          <p:cNvSpPr/>
          <p:nvPr/>
        </p:nvSpPr>
        <p:spPr>
          <a:xfrm flipH="1">
            <a:off x="5866920" y="2946240"/>
            <a:ext cx="809640" cy="4366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332000" y="33300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3700" spc="-1" strike="noStrike">
                <a:solidFill>
                  <a:srgbClr val="ffff00"/>
                </a:solidFill>
                <a:latin typeface="Calibri"/>
              </a:rPr>
              <a:t>Program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9:00 – 9:45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vod – shrnutí legislativního rám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gr. Štěpánka Thérová, vedoucí oddělení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šeobecného vzdělává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9:45 – 10:15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roveň maturitní zkoušky dle SERR a pracovní listy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ro střední odborné škol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hDr. Marie Černíkov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0:15 – 11:00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dpovědi na dotazy z prax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gr. Andrea Králová, Mgr. Štěpánka Thérov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cs-CZ" sz="1900" spc="-1" strike="noStrike">
                <a:solidFill>
                  <a:srgbClr val="e46c0a"/>
                </a:solidFill>
                <a:latin typeface="Calibri"/>
              </a:rPr>
              <a:t>přestávk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1:15 – 11:45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roveň maturitní zkoušky dle SERR a pracovní listy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ro gymnáz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1:45 – 13:00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dpovědi na dotazy z praxe a disku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gr. Andrea Králová, Mgr. Štěpánka Thérov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Obrázek 3" descr=""/>
          <p:cNvPicPr/>
          <p:nvPr/>
        </p:nvPicPr>
        <p:blipFill>
          <a:blip r:embed="rId1"/>
          <a:stretch/>
        </p:blipFill>
        <p:spPr>
          <a:xfrm>
            <a:off x="4313160" y="3860640"/>
            <a:ext cx="1392480" cy="9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116000" y="155700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rie Černíkov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sn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1D8-81FB-4961-90E8-650A256B85AF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Diagram 4" descr=""/>
          <p:cNvPicPr/>
          <p:nvPr/>
        </p:nvPicPr>
        <p:blipFill>
          <a:blip r:embed="rId1"/>
          <a:stretch/>
        </p:blipFill>
        <p:spPr>
          <a:xfrm>
            <a:off x="1487520" y="1182600"/>
            <a:ext cx="6199200" cy="5175360"/>
          </a:xfrm>
          <a:prstGeom prst="rect">
            <a:avLst/>
          </a:prstGeom>
          <a:ln w="0">
            <a:noFill/>
          </a:ln>
        </p:spPr>
      </p:pic>
      <p:pic>
        <p:nvPicPr>
          <p:cNvPr id="500" name="Obrázek 9" descr=""/>
          <p:cNvPicPr/>
          <p:nvPr/>
        </p:nvPicPr>
        <p:blipFill>
          <a:blip r:embed="rId2"/>
          <a:stretch/>
        </p:blipFill>
        <p:spPr>
          <a:xfrm>
            <a:off x="1604880" y="1515960"/>
            <a:ext cx="1355760" cy="911160"/>
          </a:xfrm>
          <a:prstGeom prst="rect">
            <a:avLst/>
          </a:prstGeom>
          <a:ln w="0">
            <a:noFill/>
          </a:ln>
        </p:spPr>
      </p:pic>
      <p:pic>
        <p:nvPicPr>
          <p:cNvPr id="501" name="Obrázek 2" descr=""/>
          <p:cNvPicPr/>
          <p:nvPr/>
        </p:nvPicPr>
        <p:blipFill>
          <a:blip r:embed="rId3"/>
          <a:stretch/>
        </p:blipFill>
        <p:spPr>
          <a:xfrm>
            <a:off x="1835280" y="2698920"/>
            <a:ext cx="865080" cy="80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Shape 1"/>
          <p:cNvSpPr/>
          <p:nvPr/>
        </p:nvSpPr>
        <p:spPr>
          <a:xfrm>
            <a:off x="1266840" y="2136600"/>
            <a:ext cx="72835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Shape 2"/>
          <p:cNvSpPr/>
          <p:nvPr/>
        </p:nvSpPr>
        <p:spPr>
          <a:xfrm>
            <a:off x="179280" y="38412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	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    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  <a:ea typeface="DejaVu Sans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  <a:ea typeface="DejaVu Sans"/>
              </a:rPr>
              <a:t>Klasifikace zkoušek dle AL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Diagram 2" descr=""/>
          <p:cNvPicPr/>
          <p:nvPr/>
        </p:nvPicPr>
        <p:blipFill>
          <a:blip r:embed="rId1"/>
          <a:stretch/>
        </p:blipFill>
        <p:spPr>
          <a:xfrm>
            <a:off x="1523880" y="2225520"/>
            <a:ext cx="6145200" cy="323712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5" descr=""/>
          <p:cNvPicPr/>
          <p:nvPr/>
        </p:nvPicPr>
        <p:blipFill>
          <a:blip r:embed="rId2"/>
          <a:stretch/>
        </p:blipFill>
        <p:spPr>
          <a:xfrm>
            <a:off x="1523880" y="215748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506" name="Obdélník 3"/>
          <p:cNvSpPr/>
          <p:nvPr/>
        </p:nvSpPr>
        <p:spPr>
          <a:xfrm>
            <a:off x="1916280" y="1374840"/>
            <a:ext cx="614340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2060"/>
                </a:solidFill>
                <a:latin typeface="Calibri"/>
                <a:ea typeface="Arial"/>
              </a:rPr>
              <a:t>Maturitní zkouška se řadí mezi tzv. „</a:t>
            </a:r>
            <a:r>
              <a:rPr b="0" lang="cs-CZ" sz="3600" spc="-1" strike="noStrike">
                <a:solidFill>
                  <a:srgbClr val="ff0000"/>
                </a:solidFill>
                <a:latin typeface="Calibri"/>
                <a:ea typeface="Arial"/>
              </a:rPr>
              <a:t>zkoušky nejvyšší důležitosti</a:t>
            </a:r>
            <a:r>
              <a:rPr b="0" lang="cs-CZ" sz="3600" spc="-1" strike="noStrike">
                <a:solidFill>
                  <a:srgbClr val="002060"/>
                </a:solidFill>
                <a:latin typeface="Calibri"/>
                <a:ea typeface="Arial"/>
              </a:rPr>
              <a:t>“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  <a:ea typeface="Arial"/>
              </a:rPr>
              <a:t>Jedná se o zkoušky, jejichž složení je  nezbytné pro získání vyšší kvalifikace či jiného statu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  <a:ea typeface="Arial"/>
              </a:rPr>
              <a:t>Kromě maturitních zkoušek se jedná o zkoušky pro trvalý pobyt a zkoušky pro občanstv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ýběr CJ omezen: musí být v ŠVP daného oboru (min. 4 ho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Obrázek 1" descr=""/>
          <p:cNvPicPr/>
          <p:nvPr/>
        </p:nvPicPr>
        <p:blipFill>
          <a:blip r:embed="rId3"/>
          <a:stretch/>
        </p:blipFill>
        <p:spPr>
          <a:xfrm>
            <a:off x="6226200" y="911160"/>
            <a:ext cx="30067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extShape 1" descr=""/>
          <p:cNvPicPr/>
          <p:nvPr/>
        </p:nvPicPr>
        <p:blipFill>
          <a:blip r:embed="rId1"/>
          <a:stretch/>
        </p:blipFill>
        <p:spPr>
          <a:xfrm>
            <a:off x="1170000" y="1152360"/>
            <a:ext cx="7754760" cy="5132520"/>
          </a:xfrm>
          <a:prstGeom prst="rect">
            <a:avLst/>
          </a:prstGeom>
          <a:ln w="0">
            <a:noFill/>
          </a:ln>
        </p:spPr>
      </p:pic>
      <p:sp>
        <p:nvSpPr>
          <p:cNvPr id="509" name="TextShape 2"/>
          <p:cNvSpPr/>
          <p:nvPr/>
        </p:nvSpPr>
        <p:spPr>
          <a:xfrm>
            <a:off x="-61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       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MZ a výstupní úroveň dle RV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C825-F098-427A-90B6-510D0C8287EC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Řečová bublina: oválný bublinový popisek 8"/>
          <p:cNvSpPr/>
          <p:nvPr/>
        </p:nvSpPr>
        <p:spPr>
          <a:xfrm>
            <a:off x="633240" y="2565360"/>
            <a:ext cx="2124360" cy="1496880"/>
          </a:xfrm>
          <a:prstGeom prst="wedgeEllipseCallout">
            <a:avLst>
              <a:gd name="adj1" fmla="val 26824"/>
              <a:gd name="adj2" fmla="val 92884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polečná část  - B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Řečová bublina: oválný bublinový popisek 9"/>
          <p:cNvSpPr/>
          <p:nvPr/>
        </p:nvSpPr>
        <p:spPr>
          <a:xfrm>
            <a:off x="5324400" y="2679840"/>
            <a:ext cx="2124000" cy="1498320"/>
          </a:xfrm>
          <a:prstGeom prst="wedgeEllipseCallout">
            <a:avLst>
              <a:gd name="adj1" fmla="val -26064"/>
              <a:gd name="adj2" fmla="val 105060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rofilová 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B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Obrázek 2" descr=""/>
          <p:cNvPicPr/>
          <p:nvPr/>
        </p:nvPicPr>
        <p:blipFill>
          <a:blip r:embed="rId2"/>
          <a:stretch/>
        </p:blipFill>
        <p:spPr>
          <a:xfrm>
            <a:off x="5837400" y="1019160"/>
            <a:ext cx="1687320" cy="1157400"/>
          </a:xfrm>
          <a:prstGeom prst="rect">
            <a:avLst/>
          </a:prstGeom>
          <a:ln w="0">
            <a:noFill/>
          </a:ln>
        </p:spPr>
      </p:pic>
      <p:pic>
        <p:nvPicPr>
          <p:cNvPr id="514" name="Obrázek 6" descr=""/>
          <p:cNvPicPr/>
          <p:nvPr/>
        </p:nvPicPr>
        <p:blipFill>
          <a:blip r:embed="rId3"/>
          <a:stretch/>
        </p:blipFill>
        <p:spPr>
          <a:xfrm>
            <a:off x="7524720" y="954000"/>
            <a:ext cx="1811520" cy="1152720"/>
          </a:xfrm>
          <a:prstGeom prst="rect">
            <a:avLst/>
          </a:prstGeom>
          <a:ln w="0">
            <a:noFill/>
          </a:ln>
        </p:spPr>
      </p:pic>
      <p:pic>
        <p:nvPicPr>
          <p:cNvPr id="515" name="Obrázek 11" descr=""/>
          <p:cNvPicPr/>
          <p:nvPr/>
        </p:nvPicPr>
        <p:blipFill>
          <a:blip r:embed="rId4"/>
          <a:stretch/>
        </p:blipFill>
        <p:spPr>
          <a:xfrm>
            <a:off x="2540160" y="4094280"/>
            <a:ext cx="3025440" cy="2284200"/>
          </a:xfrm>
          <a:prstGeom prst="rect">
            <a:avLst/>
          </a:prstGeom>
          <a:ln w="0">
            <a:noFill/>
          </a:ln>
        </p:spPr>
      </p:pic>
      <p:sp>
        <p:nvSpPr>
          <p:cNvPr id="516" name="Obdélník 12"/>
          <p:cNvSpPr/>
          <p:nvPr/>
        </p:nvSpPr>
        <p:spPr>
          <a:xfrm>
            <a:off x="2540160" y="5013360"/>
            <a:ext cx="591840" cy="3603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bdélník 14"/>
          <p:cNvSpPr/>
          <p:nvPr/>
        </p:nvSpPr>
        <p:spPr>
          <a:xfrm>
            <a:off x="4716360" y="5156280"/>
            <a:ext cx="849240" cy="3585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bdélník 16"/>
          <p:cNvSpPr/>
          <p:nvPr/>
        </p:nvSpPr>
        <p:spPr>
          <a:xfrm>
            <a:off x="4716360" y="4795920"/>
            <a:ext cx="849240" cy="3603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Ú Z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74872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Od roku 2021</a:t>
            </a:r>
            <a:br>
              <a:rPr sz="2800"/>
            </a:b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tematické okruhy dle oborů vzdě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1F42-07D3-43E5-95B2-4B5421CB4DFC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Obdélník 3"/>
          <p:cNvSpPr/>
          <p:nvPr/>
        </p:nvSpPr>
        <p:spPr>
          <a:xfrm>
            <a:off x="1763640" y="213372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§ 14 d)   odst. 2 vyhlášky č. 177/ 2009 Sb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u oborů vzdělání s kódovým označením kategorie dosaženého vzdělání M a L je součástí pracovního listu i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zadání ověřující znalost terminologie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ztahující se ke vzdělávací oblasti odborného vzdělávání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Řečová bublina: obdélníkový bublinový popisek 4"/>
          <p:cNvSpPr/>
          <p:nvPr/>
        </p:nvSpPr>
        <p:spPr>
          <a:xfrm>
            <a:off x="1332000" y="4941720"/>
            <a:ext cx="2232000" cy="1008360"/>
          </a:xfrm>
          <a:prstGeom prst="wedgeRectCallout">
            <a:avLst>
              <a:gd name="adj1" fmla="val 39365"/>
              <a:gd name="adj2" fmla="val -100768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Zadání úloh musí splňovat náročnost B1 dle SER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Řečová bublina: obdélníkový bublinový popisek 5"/>
          <p:cNvSpPr/>
          <p:nvPr/>
        </p:nvSpPr>
        <p:spPr>
          <a:xfrm>
            <a:off x="4859280" y="4941720"/>
            <a:ext cx="2089080" cy="1008360"/>
          </a:xfrm>
          <a:prstGeom prst="wedgeRectCallout">
            <a:avLst>
              <a:gd name="adj1" fmla="val -67125"/>
              <a:gd name="adj2" fmla="val -111023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rováz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 téma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332000" y="33300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Společný evropský referenční rám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Companion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polečný evropský referenční rámec (SER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msmt.cz/vzdelavani/skolstvi-v-cr/spolecny-evropsky-referencni-ramec-pro-jazyky?highlightWords=spole%C4%8Dn%C3%BD+evropsk%C3%BD+referen%C4%8Dn%C3%AD+r%C3%A1m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RR byl rozšířen o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Companion volum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poslední verze je z roku 2020 (rozpracována mediace, přidány + úrovně, rozpracovány úrovně pro žá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rm.coe.int/common-european-framework-of-reference-for-languages-learning-teaching/16809ea0d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Obrázek 2" descr=""/>
          <p:cNvPicPr/>
          <p:nvPr/>
        </p:nvPicPr>
        <p:blipFill>
          <a:blip r:embed="rId2"/>
          <a:stretch/>
        </p:blipFill>
        <p:spPr>
          <a:xfrm>
            <a:off x="6443640" y="115920"/>
            <a:ext cx="251460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1042560" y="549000"/>
            <a:ext cx="7643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Úroveň B1 dle SER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um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rátkým a středně dlouhým jednoduchý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xtům, které se vztahují ke konkrétním a běžným tématům a situacím, s nimiž se žák může setkat v každodenním životě, při cestování, v práci, ve škole, ve volném čase,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chopí hlavní myšlenk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porozumí hlavním bodům promluvy, podrobnostem v psaném textu, vyhledá a pochopí informace, pochopí orientační pokyny ap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í napsat jednoduchý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vislý tex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témata, která dobře zná nebo která ho/ji osobně zajímaj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káže popsat své zážitky a události, sny, naděje a cíle a um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ručně vysvětlit a odůvodnit své názor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plány ap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í si poradit s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ětšinou situací, jež mohou nastat při poby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oblasti, kde se jazykem mluv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eaguje na otázk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všeobecná témata, dokáže vést samostatný ústní projev i zahájit , udržet a ukončit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terakc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 partnerem v komunika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Zástupný symbol pro obsah 1" descr=""/>
          <p:cNvPicPr/>
          <p:nvPr/>
        </p:nvPicPr>
        <p:blipFill>
          <a:blip r:embed="rId1"/>
          <a:stretch/>
        </p:blipFill>
        <p:spPr>
          <a:xfrm>
            <a:off x="1011240" y="237960"/>
            <a:ext cx="793116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0:41:53Z</dcterms:created>
  <dc:creator>User</dc:creator>
  <dc:description/>
  <dc:language>en-US</dc:language>
  <cp:lastModifiedBy>Černíková Marie</cp:lastModifiedBy>
  <cp:lastPrinted>2021-09-29T15:54:22Z</cp:lastPrinted>
  <dcterms:modified xsi:type="dcterms:W3CDTF">2021-09-29T15:56:38Z</dcterms:modified>
  <cp:revision>457</cp:revision>
  <dc:subject/>
  <dc:title>Státní podpora sportu  pro rok 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</vt:r8>
  </property>
  <property fmtid="{D5CDD505-2E9C-101B-9397-08002B2CF9AE}" pid="6" name="Notes">
    <vt:r8>0</vt:r8>
  </property>
  <property fmtid="{D5CDD505-2E9C-101B-9397-08002B2CF9AE}" pid="7" name="PresentationFormat">
    <vt:lpwstr>Předvádění na obrazovce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