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0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7.png" ContentType="image/png"/>
  <Override PartName="/ppt/media/image4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8.jpeg" ContentType="image/jpeg"/>
  <Override PartName="/ppt/media/image20.png" ContentType="image/png"/>
  <Override PartName="/ppt/media/image2.jpeg" ContentType="image/jpeg"/>
  <Override PartName="/ppt/media/image19.png" ContentType="image/png"/>
  <Override PartName="/ppt/media/image2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dt" idx="28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 type="ftr" idx="29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6"/>
          <p:cNvSpPr>
            <a:spLocks noGrp="1"/>
          </p:cNvSpPr>
          <p:nvPr>
            <p:ph type="sldNum" idx="30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5D6CD-9D0B-47FB-9460-2A77CFEBBC95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C12DB-4D0C-45BD-9AC5-DF2165D703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DE585-0309-449B-A242-6643C6802889}" type="slidenum">
              <a:rPr b="0" lang="cs-CZ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NNa H</a:t>
            </a:r>
            <a:r>
              <a:rPr b="0" lang="cs-CZ" sz="1200" spc="-1" strike="noStrike">
                <a:solidFill>
                  <a:srgbClr val="ff0000"/>
                </a:solidFill>
                <a:latin typeface="Calibri"/>
              </a:rPr>
              <a:t>Pokud se žák přihlásil ve spol. části MZ k povinnému DT </a:t>
            </a:r>
            <a:br>
              <a:rPr sz="1200"/>
            </a:br>
            <a:r>
              <a:rPr b="0" lang="cs-CZ" sz="1200" spc="-1" strike="noStrike">
                <a:solidFill>
                  <a:srgbClr val="ff0000"/>
                </a:solidFill>
                <a:latin typeface="Calibri"/>
              </a:rPr>
              <a:t>z matematiky a ředitel určil pouze 2 další povinné zkoušky profilové části, nemůže žák nahradit povinnou zkoušku z cizího jazyka v profilové části. Může nahradit nepovinnou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DP se ze 40 % podílí průmys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48F67-E088-4F56-9C73-435228C5D2C6}" type="slidenum">
              <a:rPr b="0" lang="cs-CZ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Na H</a:t>
            </a:r>
            <a:r>
              <a:rPr b="0" lang="cs-CZ" sz="1200" spc="-1" strike="noStrike">
                <a:solidFill>
                  <a:srgbClr val="ff0000"/>
                </a:solidFill>
                <a:latin typeface="Calibri"/>
              </a:rPr>
              <a:t>Pokud se žák přihlásil ve spol. části MZ k povinnému DT </a:t>
            </a:r>
            <a:br>
              <a:rPr sz="1200"/>
            </a:br>
            <a:r>
              <a:rPr b="0" lang="cs-CZ" sz="1200" spc="-1" strike="noStrike">
                <a:solidFill>
                  <a:srgbClr val="ff0000"/>
                </a:solidFill>
                <a:latin typeface="Calibri"/>
              </a:rPr>
              <a:t>z matematiky a ředitel určil pouze 2 další povinné zkoušky profilové části, nemůže žák nahradit povinnou zkoušku z cizího jazyka v profilové části. Může nahradit nepovinnou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DP se ze 40 % podílí průmys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EE351-5F43-408F-8CBA-DC60C8ABD66D}" type="slidenum">
              <a:rPr b="0" lang="cs-CZ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Na HDP se ze 40 % podílí průmys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0EE2D-9B14-48A3-BE85-5028468AF29B}" type="slidenum">
              <a:rPr b="0" lang="cs-CZ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16000" y="1628280"/>
            <a:ext cx="75708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116000" y="3977640"/>
            <a:ext cx="75708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16000" y="1628280"/>
            <a:ext cx="369432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995360" y="1628280"/>
            <a:ext cx="369432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033223-E90A-49E9-A633-0D86CD8C0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811E2D-B8BF-4B1D-B866-86DD04FC2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42EC44-7D80-49B2-AF80-EB96B3382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116000" y="1628280"/>
            <a:ext cx="3694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995360" y="1628280"/>
            <a:ext cx="369432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1116000" y="3977640"/>
            <a:ext cx="3694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D327D7-41BF-4F4E-8BF2-CD2C9EDAC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116000" y="1628280"/>
            <a:ext cx="369432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995360" y="1628280"/>
            <a:ext cx="3694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995360" y="3977640"/>
            <a:ext cx="3694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216B24-B9F3-44A8-B8BA-73C9A62BF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116000" y="1628280"/>
            <a:ext cx="3694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995360" y="1628280"/>
            <a:ext cx="3694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1116000" y="3977640"/>
            <a:ext cx="75708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8B9B2B-FBBF-4F63-94AA-3B4178DA2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116000" y="1628280"/>
            <a:ext cx="75708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1116000" y="3977640"/>
            <a:ext cx="75708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8AE1F1-3501-4361-8E9B-103BA555D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116000" y="1628280"/>
            <a:ext cx="3694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995360" y="1628280"/>
            <a:ext cx="3694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1116000" y="3977640"/>
            <a:ext cx="3694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4995360" y="3977640"/>
            <a:ext cx="3694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A314EB-8777-4A98-A476-C71374F32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116000" y="1628280"/>
            <a:ext cx="243756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3675960" y="1628280"/>
            <a:ext cx="243756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6235560" y="1628280"/>
            <a:ext cx="243756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1116000" y="3977640"/>
            <a:ext cx="243756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6"/>
          <p:cNvSpPr>
            <a:spLocks noGrp="1"/>
          </p:cNvSpPr>
          <p:nvPr>
            <p:ph/>
          </p:nvPr>
        </p:nvSpPr>
        <p:spPr>
          <a:xfrm>
            <a:off x="3675960" y="3977640"/>
            <a:ext cx="243756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7"/>
          <p:cNvSpPr>
            <a:spLocks noGrp="1"/>
          </p:cNvSpPr>
          <p:nvPr>
            <p:ph/>
          </p:nvPr>
        </p:nvSpPr>
        <p:spPr>
          <a:xfrm>
            <a:off x="6235560" y="3977640"/>
            <a:ext cx="243756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CABC46-1D57-4404-B20C-6D65715A8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841B99-3D4D-45DA-83BF-AF06D9E13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16000" y="1628280"/>
            <a:ext cx="3694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95360" y="1628280"/>
            <a:ext cx="3694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16000" y="3977640"/>
            <a:ext cx="3694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995360" y="3977640"/>
            <a:ext cx="3694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1116000" y="1628280"/>
            <a:ext cx="7570800" cy="449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A0792A-F53A-4DC0-B0EE-746A456D1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1116000" y="1628280"/>
            <a:ext cx="75708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80C86F-CBF7-4FEC-B649-2378AE705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1116000" y="1628280"/>
            <a:ext cx="369432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995360" y="1628280"/>
            <a:ext cx="369432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8AD87B-8483-47D0-8D98-4003BFC32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075A6F-CECF-48B3-BD61-91390ED87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5626C6-7C50-45B7-92A7-7CB58ACBE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1116000" y="1628280"/>
            <a:ext cx="3694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995360" y="1628280"/>
            <a:ext cx="369432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1116000" y="3977640"/>
            <a:ext cx="3694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8C5147-6387-414C-B566-5C0674E00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116000" y="1628280"/>
            <a:ext cx="369432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995360" y="1628280"/>
            <a:ext cx="3694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995360" y="3977640"/>
            <a:ext cx="3694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456D53-B37C-4537-8C81-360C0BD5A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116000" y="1628280"/>
            <a:ext cx="3694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995360" y="1628280"/>
            <a:ext cx="3694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1116000" y="3977640"/>
            <a:ext cx="75708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4C1108-9654-4D0C-8BCF-5FCDC3C0E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116000" y="1628280"/>
            <a:ext cx="75708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1116000" y="3977640"/>
            <a:ext cx="75708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851A90-14DB-4475-8080-22B56AD87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116000" y="1628280"/>
            <a:ext cx="3694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995360" y="1628280"/>
            <a:ext cx="3694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1116000" y="3977640"/>
            <a:ext cx="3694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995360" y="3977640"/>
            <a:ext cx="3694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EDCF98-3F06-4AA1-924A-520260A23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16000" y="1628280"/>
            <a:ext cx="243756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675960" y="1628280"/>
            <a:ext cx="243756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235560" y="1628280"/>
            <a:ext cx="243756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116000" y="3977640"/>
            <a:ext cx="243756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675960" y="3977640"/>
            <a:ext cx="243756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235560" y="3977640"/>
            <a:ext cx="243756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116000" y="1628280"/>
            <a:ext cx="243756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3675960" y="1628280"/>
            <a:ext cx="243756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6235560" y="1628280"/>
            <a:ext cx="243756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1116000" y="3977640"/>
            <a:ext cx="243756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3675960" y="3977640"/>
            <a:ext cx="243756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6235560" y="3977640"/>
            <a:ext cx="243756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DB93FA-38EC-4526-975C-194A54832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D7A321-4A27-4632-9D66-A67B8B71A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116000" y="1628280"/>
            <a:ext cx="7570800" cy="449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67CAE0-2ACF-44FF-8239-388944478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1116000" y="1628280"/>
            <a:ext cx="75708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1C7E01-4D86-4E9D-B5EF-569A8C4FF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1116000" y="1628280"/>
            <a:ext cx="369432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995360" y="1628280"/>
            <a:ext cx="369432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9DF7D1-320B-41B7-8CA9-F7DA5D87C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1A1E60-CD57-41B2-BE9A-3E877189A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348D38-6C4B-45B8-A224-A5AF9A793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116000" y="1628280"/>
            <a:ext cx="3694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995360" y="1628280"/>
            <a:ext cx="369432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1116000" y="3977640"/>
            <a:ext cx="3694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9B3047-799C-4A28-AB76-5A9E1E1B2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1116000" y="1628280"/>
            <a:ext cx="369432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995360" y="1628280"/>
            <a:ext cx="3694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995360" y="3977640"/>
            <a:ext cx="3694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23B6EB-509D-4038-A94D-8C2292D42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1116000" y="1628280"/>
            <a:ext cx="3694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995360" y="1628280"/>
            <a:ext cx="3694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1116000" y="3977640"/>
            <a:ext cx="75708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D748FF-CCCA-425B-842E-7E4B3DEA7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1116000" y="1628280"/>
            <a:ext cx="75708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1116000" y="3977640"/>
            <a:ext cx="75708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41DA0A-B742-4D32-B030-CDE938011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1116000" y="1628280"/>
            <a:ext cx="3694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995360" y="1628280"/>
            <a:ext cx="3694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1116000" y="3977640"/>
            <a:ext cx="3694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995360" y="3977640"/>
            <a:ext cx="3694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E8B43F-FC85-4F92-90A9-19CB786C3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116000" y="1628280"/>
            <a:ext cx="243756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675960" y="1628280"/>
            <a:ext cx="243756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235560" y="1628280"/>
            <a:ext cx="243756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1116000" y="3977640"/>
            <a:ext cx="243756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675960" y="3977640"/>
            <a:ext cx="243756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235560" y="3977640"/>
            <a:ext cx="243756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1E048F-4C35-4F16-BD69-B74C08ABB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257589-1F88-4897-94BD-B9079B990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subTitle"/>
          </p:nvPr>
        </p:nvSpPr>
        <p:spPr>
          <a:xfrm>
            <a:off x="1116000" y="1628280"/>
            <a:ext cx="7570800" cy="449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C846F9-3FE9-4444-8518-8D3DCB346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1116000" y="1628280"/>
            <a:ext cx="75708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144CC1-B1BC-4BD7-B6A5-78F90F01E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116000" y="1628280"/>
            <a:ext cx="369432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995360" y="1628280"/>
            <a:ext cx="369432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7689ED-B50C-44F3-8276-AA10C851F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26CB30-64C2-4DCB-900B-53D989747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849123-87EB-45C8-8095-11DD445B7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1116000" y="1628280"/>
            <a:ext cx="3694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995360" y="1628280"/>
            <a:ext cx="369432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1116000" y="3977640"/>
            <a:ext cx="3694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076B1D-B004-40AC-910E-657AC772F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16000" y="1628280"/>
            <a:ext cx="7570800" cy="449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1116000" y="1628280"/>
            <a:ext cx="369432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995360" y="1628280"/>
            <a:ext cx="3694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995360" y="3977640"/>
            <a:ext cx="3694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C2A1D2-61B3-41CA-B681-A2AC59EE5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1116000" y="1628280"/>
            <a:ext cx="3694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995360" y="1628280"/>
            <a:ext cx="3694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1116000" y="3977640"/>
            <a:ext cx="75708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0FBB85-97FB-4F10-A6D6-C3E7C1784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1116000" y="1628280"/>
            <a:ext cx="75708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1116000" y="3977640"/>
            <a:ext cx="75708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6A8ECB-81D0-4439-A6D8-468A572EC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1116000" y="1628280"/>
            <a:ext cx="3694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995360" y="1628280"/>
            <a:ext cx="3694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1116000" y="3977640"/>
            <a:ext cx="3694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/>
          </p:nvPr>
        </p:nvSpPr>
        <p:spPr>
          <a:xfrm>
            <a:off x="4995360" y="3977640"/>
            <a:ext cx="3694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DF7EF5-8355-46AC-8CA1-17A1CF839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1116000" y="1628280"/>
            <a:ext cx="243756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3675960" y="1628280"/>
            <a:ext cx="243756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6235560" y="1628280"/>
            <a:ext cx="243756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/>
          </p:nvPr>
        </p:nvSpPr>
        <p:spPr>
          <a:xfrm>
            <a:off x="1116000" y="3977640"/>
            <a:ext cx="243756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6"/>
          <p:cNvSpPr>
            <a:spLocks noGrp="1"/>
          </p:cNvSpPr>
          <p:nvPr>
            <p:ph/>
          </p:nvPr>
        </p:nvSpPr>
        <p:spPr>
          <a:xfrm>
            <a:off x="3675960" y="3977640"/>
            <a:ext cx="243756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7"/>
          <p:cNvSpPr>
            <a:spLocks noGrp="1"/>
          </p:cNvSpPr>
          <p:nvPr>
            <p:ph/>
          </p:nvPr>
        </p:nvSpPr>
        <p:spPr>
          <a:xfrm>
            <a:off x="6235560" y="3977640"/>
            <a:ext cx="243756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6E2B22-E9DA-4188-A31D-C6FFB436D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16000" y="1628280"/>
            <a:ext cx="75708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16000" y="1628280"/>
            <a:ext cx="369432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995360" y="1628280"/>
            <a:ext cx="369432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16000" y="1628280"/>
            <a:ext cx="3694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95360" y="1628280"/>
            <a:ext cx="369432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1116000" y="3977640"/>
            <a:ext cx="3694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116000" y="1628280"/>
            <a:ext cx="7570800" cy="449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16000" y="1628280"/>
            <a:ext cx="369432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95360" y="1628280"/>
            <a:ext cx="3694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995360" y="3977640"/>
            <a:ext cx="3694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16000" y="1628280"/>
            <a:ext cx="3694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95360" y="1628280"/>
            <a:ext cx="3694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16000" y="3977640"/>
            <a:ext cx="75708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16000" y="1628280"/>
            <a:ext cx="75708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1116000" y="3977640"/>
            <a:ext cx="75708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16000" y="1628280"/>
            <a:ext cx="3694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95360" y="1628280"/>
            <a:ext cx="3694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16000" y="3977640"/>
            <a:ext cx="3694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995360" y="3977640"/>
            <a:ext cx="3694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16000" y="1628280"/>
            <a:ext cx="243756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675960" y="1628280"/>
            <a:ext cx="243756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35560" y="1628280"/>
            <a:ext cx="243756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1116000" y="3977640"/>
            <a:ext cx="243756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675960" y="3977640"/>
            <a:ext cx="243756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35560" y="3977640"/>
            <a:ext cx="243756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116000" y="1628280"/>
            <a:ext cx="7570800" cy="449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116000" y="1628280"/>
            <a:ext cx="75708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16000" y="1628280"/>
            <a:ext cx="369432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995360" y="1628280"/>
            <a:ext cx="369432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116000" y="1628280"/>
            <a:ext cx="75708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16000" y="1628280"/>
            <a:ext cx="3694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995360" y="1628280"/>
            <a:ext cx="369432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116000" y="3977640"/>
            <a:ext cx="3694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16000" y="1628280"/>
            <a:ext cx="369432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995360" y="1628280"/>
            <a:ext cx="3694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995360" y="3977640"/>
            <a:ext cx="3694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16000" y="1628280"/>
            <a:ext cx="3694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95360" y="1628280"/>
            <a:ext cx="3694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116000" y="3977640"/>
            <a:ext cx="75708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16000" y="1628280"/>
            <a:ext cx="75708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1116000" y="3977640"/>
            <a:ext cx="75708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16000" y="1628280"/>
            <a:ext cx="3694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995360" y="1628280"/>
            <a:ext cx="3694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116000" y="3977640"/>
            <a:ext cx="3694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995360" y="3977640"/>
            <a:ext cx="3694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16000" y="1628280"/>
            <a:ext cx="243756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675960" y="1628280"/>
            <a:ext cx="243756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235560" y="1628280"/>
            <a:ext cx="243756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1116000" y="3977640"/>
            <a:ext cx="243756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675960" y="3977640"/>
            <a:ext cx="243756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235560" y="3977640"/>
            <a:ext cx="243756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38165-437B-4377-9906-B4A5F972E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116000" y="1628280"/>
            <a:ext cx="7570800" cy="449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4FCCF-5E5B-4168-BD40-995AF9B79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16000" y="1628280"/>
            <a:ext cx="75708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06E18-B293-4F08-B649-901C4D476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116000" y="1628280"/>
            <a:ext cx="369432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995360" y="1628280"/>
            <a:ext cx="369432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16000" y="1628280"/>
            <a:ext cx="369432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995360" y="1628280"/>
            <a:ext cx="369432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AC5A8-7B6E-4EBB-92EF-7C8E636F2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5D1E2-6719-495E-B694-8C2E87732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42B23-582C-44C1-99F4-3A1BBB256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16000" y="1628280"/>
            <a:ext cx="3694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995360" y="1628280"/>
            <a:ext cx="369432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116000" y="3977640"/>
            <a:ext cx="3694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88F63-D4D0-4A5C-B427-5ECA0A16B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16000" y="1628280"/>
            <a:ext cx="369432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995360" y="1628280"/>
            <a:ext cx="3694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995360" y="3977640"/>
            <a:ext cx="3694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22D2F-1711-4F07-BBA2-549E743A1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16000" y="1628280"/>
            <a:ext cx="3694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995360" y="1628280"/>
            <a:ext cx="3694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1116000" y="3977640"/>
            <a:ext cx="75708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4F667-43DA-4316-A705-996587A14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16000" y="1628280"/>
            <a:ext cx="75708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1116000" y="3977640"/>
            <a:ext cx="75708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6B175-3708-49F7-9B0D-FFB39FFB1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16000" y="1628280"/>
            <a:ext cx="3694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995360" y="1628280"/>
            <a:ext cx="3694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1116000" y="3977640"/>
            <a:ext cx="3694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995360" y="3977640"/>
            <a:ext cx="3694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C48DE-3716-4333-93F4-473181BF1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16000" y="1628280"/>
            <a:ext cx="243756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675960" y="1628280"/>
            <a:ext cx="243756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235560" y="1628280"/>
            <a:ext cx="243756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1116000" y="3977640"/>
            <a:ext cx="243756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675960" y="3977640"/>
            <a:ext cx="243756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6235560" y="3977640"/>
            <a:ext cx="243756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27045-481F-4016-8AD4-19CF8314C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7AEA8-FF2A-4D6F-965A-8F410B773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116000" y="1628280"/>
            <a:ext cx="7570800" cy="449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26E3C-6D80-482E-BF83-8B2F4DEA2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16000" y="1628280"/>
            <a:ext cx="75708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F2CD2-11BA-4537-B8ED-2AB78EC95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16000" y="1628280"/>
            <a:ext cx="369432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995360" y="1628280"/>
            <a:ext cx="369432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C6C51-C700-41D6-8B3B-7395BD7B4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5BAA1-E666-4BF9-9997-BBF72EC8B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E2DD9-5CEF-4266-A74E-B11F0A534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16000" y="1628280"/>
            <a:ext cx="3694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995360" y="1628280"/>
            <a:ext cx="369432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1116000" y="3977640"/>
            <a:ext cx="3694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4E030-1723-445D-88EC-636CAA6F3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116000" y="1628280"/>
            <a:ext cx="369432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995360" y="1628280"/>
            <a:ext cx="3694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995360" y="3977640"/>
            <a:ext cx="3694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4A23A-D404-47B4-B923-310B70FE4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116000" y="1628280"/>
            <a:ext cx="3694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995360" y="1628280"/>
            <a:ext cx="3694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1116000" y="3977640"/>
            <a:ext cx="75708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57C9C-1AC6-4E2E-BC41-C5D21EF4E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16000" y="1628280"/>
            <a:ext cx="75708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1116000" y="3977640"/>
            <a:ext cx="75708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AE483-C31B-4500-9C0D-68604F0D7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16000" y="1628280"/>
            <a:ext cx="3694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995360" y="1628280"/>
            <a:ext cx="3694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1116000" y="3977640"/>
            <a:ext cx="3694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995360" y="3977640"/>
            <a:ext cx="3694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33273-A24E-4F47-8BA2-8FF8AE5D6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16000" y="1628280"/>
            <a:ext cx="243756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675960" y="1628280"/>
            <a:ext cx="243756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235560" y="1628280"/>
            <a:ext cx="243756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1116000" y="3977640"/>
            <a:ext cx="243756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675960" y="3977640"/>
            <a:ext cx="243756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235560" y="3977640"/>
            <a:ext cx="243756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E0D2E-93C9-43D6-A0CD-1F0BC34D9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1FC911-4078-41F9-A51B-C5EEF1650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1116000" y="1628280"/>
            <a:ext cx="7570800" cy="449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749DAC-C71F-4AA2-9313-E8F3BF990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116000" y="1628280"/>
            <a:ext cx="75708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6C6EB7-D612-4AAB-9C78-6387ADC88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16000" y="1628280"/>
            <a:ext cx="369432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995360" y="1628280"/>
            <a:ext cx="369432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FDF315-FE45-4C31-95D4-F40BDF8F1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07008B-2059-4020-8347-29ED4E328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69E3EE-50CC-438A-9CEA-5D081DE8E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16000" y="1628280"/>
            <a:ext cx="3694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995360" y="1628280"/>
            <a:ext cx="369432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116000" y="3977640"/>
            <a:ext cx="3694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BD34DE-72A7-4BE3-B5DF-78CE8A97A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16000" y="1628280"/>
            <a:ext cx="369432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995360" y="1628280"/>
            <a:ext cx="3694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995360" y="3977640"/>
            <a:ext cx="3694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03A1D8-4EE5-4FE6-90D3-1F7503195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116000" y="1628280"/>
            <a:ext cx="3694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995360" y="1628280"/>
            <a:ext cx="3694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1116000" y="3977640"/>
            <a:ext cx="75708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7014A3-DE9D-48E7-AF3A-7BF6C30E9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16000" y="1628280"/>
            <a:ext cx="3694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95360" y="1628280"/>
            <a:ext cx="369432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116000" y="3977640"/>
            <a:ext cx="3694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116000" y="1628280"/>
            <a:ext cx="75708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1116000" y="3977640"/>
            <a:ext cx="75708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DDC514-D4D6-449C-ABC1-95D9C1923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116000" y="1628280"/>
            <a:ext cx="3694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995360" y="1628280"/>
            <a:ext cx="3694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1116000" y="3977640"/>
            <a:ext cx="3694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995360" y="3977640"/>
            <a:ext cx="3694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06A1A4-0ECE-44B7-903E-EAC2DB3E4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116000" y="1628280"/>
            <a:ext cx="243756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675960" y="1628280"/>
            <a:ext cx="243756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235560" y="1628280"/>
            <a:ext cx="243756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1116000" y="3977640"/>
            <a:ext cx="243756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675960" y="3977640"/>
            <a:ext cx="243756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6235560" y="3977640"/>
            <a:ext cx="243756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784D8B-7925-4B90-A3AE-890DC3BAE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0E7267-6D3B-49E4-B20E-49756460E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1116000" y="1628280"/>
            <a:ext cx="7570800" cy="449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4B20C6-A178-4C29-825F-112F39EF5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116000" y="1628280"/>
            <a:ext cx="75708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68BB6F-720F-4027-8C29-88E44888F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116000" y="1628280"/>
            <a:ext cx="369432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995360" y="1628280"/>
            <a:ext cx="369432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562A17-EC67-4D8C-AF85-962FE7854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AB2733-2C38-4FE8-9418-44ED3C5E2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93FC84-7E23-4DB4-AE19-20E6BA0EA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16000" y="1628280"/>
            <a:ext cx="3694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995360" y="1628280"/>
            <a:ext cx="369432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116000" y="3977640"/>
            <a:ext cx="3694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9A0D65-D53B-4009-9F47-0BADBFBF8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16000" y="1628280"/>
            <a:ext cx="369432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95360" y="1628280"/>
            <a:ext cx="3694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995360" y="3977640"/>
            <a:ext cx="3694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116000" y="1628280"/>
            <a:ext cx="369432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995360" y="1628280"/>
            <a:ext cx="3694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995360" y="3977640"/>
            <a:ext cx="3694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EE3640-D6BD-4D64-9FD0-8D98C776E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16000" y="1628280"/>
            <a:ext cx="3694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995360" y="1628280"/>
            <a:ext cx="3694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1116000" y="3977640"/>
            <a:ext cx="75708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D7FCC3-1FFE-4A01-9B01-CFA8D151E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16000" y="1628280"/>
            <a:ext cx="75708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1116000" y="3977640"/>
            <a:ext cx="75708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0ED848-F82E-461A-9E84-751F8F9C1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116000" y="1628280"/>
            <a:ext cx="3694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995360" y="1628280"/>
            <a:ext cx="3694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1116000" y="3977640"/>
            <a:ext cx="3694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995360" y="3977640"/>
            <a:ext cx="3694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E5FE8E-D0AE-46ED-AD62-15EF8FF0F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116000" y="1628280"/>
            <a:ext cx="243756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675960" y="1628280"/>
            <a:ext cx="243756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235560" y="1628280"/>
            <a:ext cx="243756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1116000" y="3977640"/>
            <a:ext cx="243756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675960" y="3977640"/>
            <a:ext cx="243756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235560" y="3977640"/>
            <a:ext cx="243756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CC48C9-EB17-4BBC-B091-92CBFF4AE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E9CC79-9D62-46BB-B05F-A98F8129F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1116000" y="1628280"/>
            <a:ext cx="7570800" cy="449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AAF860-8641-47D8-B53A-AAFF799E7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16000" y="1628280"/>
            <a:ext cx="75708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CCB814-3607-4492-9132-E575FA30D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16000" y="1628280"/>
            <a:ext cx="369432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995360" y="1628280"/>
            <a:ext cx="369432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205309-B5A2-4545-A918-435DE3309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FCDEE1-C9DF-4775-BF73-4AF106904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16000" y="1628280"/>
            <a:ext cx="3694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95360" y="1628280"/>
            <a:ext cx="3694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116000" y="3977640"/>
            <a:ext cx="75708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7A154A-E771-4CCD-BE61-A6B5CDBCF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16000" y="1628280"/>
            <a:ext cx="3694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995360" y="1628280"/>
            <a:ext cx="369432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1116000" y="3977640"/>
            <a:ext cx="3694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8C1E9F-41A0-45CE-B341-09430CB13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116000" y="1628280"/>
            <a:ext cx="369432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995360" y="1628280"/>
            <a:ext cx="3694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995360" y="3977640"/>
            <a:ext cx="3694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42C42B-920A-4864-AE87-385E188C1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116000" y="1628280"/>
            <a:ext cx="3694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995360" y="1628280"/>
            <a:ext cx="3694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1116000" y="3977640"/>
            <a:ext cx="75708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FBCA68-3E45-46B3-80B6-6668878FA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116000" y="1628280"/>
            <a:ext cx="75708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1116000" y="3977640"/>
            <a:ext cx="75708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759016-564E-44FF-ADC0-925852840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116000" y="1628280"/>
            <a:ext cx="3694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995360" y="1628280"/>
            <a:ext cx="3694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1116000" y="3977640"/>
            <a:ext cx="3694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995360" y="3977640"/>
            <a:ext cx="3694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B9FD97-D6A1-411D-89C1-D8BB1158A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116000" y="1628280"/>
            <a:ext cx="243756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675960" y="1628280"/>
            <a:ext cx="243756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235560" y="1628280"/>
            <a:ext cx="243756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1116000" y="3977640"/>
            <a:ext cx="243756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675960" y="3977640"/>
            <a:ext cx="243756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235560" y="3977640"/>
            <a:ext cx="243756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06AEB9-6321-40BD-8957-D757B4948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7C189C-2A0E-4BBB-A0B8-A00339CA2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subTitle"/>
          </p:nvPr>
        </p:nvSpPr>
        <p:spPr>
          <a:xfrm>
            <a:off x="1116000" y="1628280"/>
            <a:ext cx="7570800" cy="449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1F5BDA-7998-4F64-8B62-D6C7E63C2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16000" y="1628280"/>
            <a:ext cx="75708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C6F7FC-B2E2-49A3-99AE-4979CB241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16000" y="1628280"/>
            <a:ext cx="75708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Zástupný symbol pro číslo snímku 5"/>
          <p:cNvSpPr/>
          <p:nvPr/>
        </p:nvSpPr>
        <p:spPr>
          <a:xfrm>
            <a:off x="250920" y="6356520"/>
            <a:ext cx="649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5D8D6-9022-42B0-BE89-85797DDF61A4}" type="slidenum">
              <a:rPr b="1" lang="cs-CZ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Zástupný symbol pro číslo snímku 5"/>
          <p:cNvSpPr/>
          <p:nvPr/>
        </p:nvSpPr>
        <p:spPr>
          <a:xfrm>
            <a:off x="250920" y="6356520"/>
            <a:ext cx="649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F0C1C-1A22-4D72-840E-406E3955CBE2}" type="slidenum">
              <a:rPr b="1" lang="cs-CZ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body"/>
          </p:nvPr>
        </p:nvSpPr>
        <p:spPr>
          <a:xfrm>
            <a:off x="1116000" y="1628280"/>
            <a:ext cx="75708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99CD8-D7C2-417D-8121-81988E906592}" type="datetime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0.07.20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35926-5691-4E5D-AA95-8021186372B1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Zástupný symbol pro číslo snímku 5"/>
          <p:cNvSpPr/>
          <p:nvPr/>
        </p:nvSpPr>
        <p:spPr>
          <a:xfrm>
            <a:off x="250920" y="6356520"/>
            <a:ext cx="649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84977-DF81-46BF-B91E-1E4ACD1399F2}" type="slidenum">
              <a:rPr b="1" lang="cs-CZ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body"/>
          </p:nvPr>
        </p:nvSpPr>
        <p:spPr>
          <a:xfrm>
            <a:off x="1116000" y="1628280"/>
            <a:ext cx="75708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055F9-C965-4DFD-93BC-BCFB98ADB5DF}" type="datetime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0.07.20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0CACE-E192-4AD2-AB74-498FDE70183F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Zástupný symbol pro číslo snímku 5"/>
          <p:cNvSpPr/>
          <p:nvPr/>
        </p:nvSpPr>
        <p:spPr>
          <a:xfrm>
            <a:off x="250920" y="6356520"/>
            <a:ext cx="649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187DE-67FA-4D8C-81C1-1692FD4C12B0}" type="slidenum">
              <a:rPr b="1" lang="cs-CZ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body"/>
          </p:nvPr>
        </p:nvSpPr>
        <p:spPr>
          <a:xfrm>
            <a:off x="1116000" y="1628280"/>
            <a:ext cx="75708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E4766-4AB2-478F-BD09-F300B8DAB0DD}" type="datetime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0.07.20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AB5BC-F245-40CF-9EF0-C8E4DA2B9A15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Zástupný symbol pro číslo snímku 5"/>
          <p:cNvSpPr/>
          <p:nvPr/>
        </p:nvSpPr>
        <p:spPr>
          <a:xfrm>
            <a:off x="250920" y="6356520"/>
            <a:ext cx="649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8C747-CA33-4BB3-A333-EC5D86FB83DA}" type="slidenum">
              <a:rPr b="1" lang="cs-CZ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TextovéPole 3"/>
          <p:cNvSpPr/>
          <p:nvPr/>
        </p:nvSpPr>
        <p:spPr>
          <a:xfrm>
            <a:off x="324000" y="6093000"/>
            <a:ext cx="1871640" cy="64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1116000" y="1628280"/>
            <a:ext cx="75708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Zástupný symbol pro číslo snímku 5"/>
          <p:cNvSpPr/>
          <p:nvPr/>
        </p:nvSpPr>
        <p:spPr>
          <a:xfrm>
            <a:off x="250920" y="6356520"/>
            <a:ext cx="649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FE731-7B82-419F-A398-8E32DABD92F7}" type="slidenum">
              <a:rPr b="1" lang="cs-CZ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body"/>
          </p:nvPr>
        </p:nvSpPr>
        <p:spPr>
          <a:xfrm>
            <a:off x="1116000" y="1628280"/>
            <a:ext cx="75708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Zástupný symbol pro číslo snímku 5"/>
          <p:cNvSpPr/>
          <p:nvPr/>
        </p:nvSpPr>
        <p:spPr>
          <a:xfrm>
            <a:off x="250920" y="6356520"/>
            <a:ext cx="649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23489-8AD9-42FF-8B5A-E1639C67CFAF}" type="slidenum">
              <a:rPr b="1" lang="cs-CZ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body"/>
          </p:nvPr>
        </p:nvSpPr>
        <p:spPr>
          <a:xfrm>
            <a:off x="1116000" y="1628280"/>
            <a:ext cx="75708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D689C-91B0-4512-A8BC-A36168350C08}" type="datetime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0.07.20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0D79C-6B3F-4153-9346-D36A7B9114DB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Zástupný symbol pro číslo snímku 5"/>
          <p:cNvSpPr/>
          <p:nvPr/>
        </p:nvSpPr>
        <p:spPr>
          <a:xfrm>
            <a:off x="250920" y="6356520"/>
            <a:ext cx="649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355F0-0522-4A8D-A77E-58124157B4B5}" type="slidenum">
              <a:rPr b="1" lang="cs-CZ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body"/>
          </p:nvPr>
        </p:nvSpPr>
        <p:spPr>
          <a:xfrm>
            <a:off x="1116000" y="1628280"/>
            <a:ext cx="75708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69C0E-DF82-4181-9390-4FE9426F5DE1}" type="datetime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0.07.20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2829B-AFE2-469C-A34E-153EFCE1A4B6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Zástupný symbol pro číslo snímku 5"/>
          <p:cNvSpPr/>
          <p:nvPr/>
        </p:nvSpPr>
        <p:spPr>
          <a:xfrm>
            <a:off x="250920" y="6356520"/>
            <a:ext cx="649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BE653-08CB-4AF6-86B5-D7247D6FD07D}" type="slidenum">
              <a:rPr b="1" lang="cs-CZ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16000" y="1628280"/>
            <a:ext cx="75708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85146-F2CF-41F9-8B3F-3D9FC20AC839}" type="datetime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0.07.20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C1241-ED0B-45B6-84F1-237455157CFC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Zástupný symbol pro číslo snímku 5"/>
          <p:cNvSpPr/>
          <p:nvPr/>
        </p:nvSpPr>
        <p:spPr>
          <a:xfrm>
            <a:off x="250920" y="6356520"/>
            <a:ext cx="649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0406C-B23E-4777-9F66-C19F060D7EC6}" type="slidenum">
              <a:rPr b="1" lang="cs-CZ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body"/>
          </p:nvPr>
        </p:nvSpPr>
        <p:spPr>
          <a:xfrm>
            <a:off x="1116000" y="1628280"/>
            <a:ext cx="75708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78AD2-DB8D-45F7-8AE8-5AFD51B0496B}" type="datetime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0.07.20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797FA-BBD7-4C51-B75C-CAB07628C224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Zástupný symbol pro číslo snímku 5"/>
          <p:cNvSpPr/>
          <p:nvPr/>
        </p:nvSpPr>
        <p:spPr>
          <a:xfrm>
            <a:off x="250920" y="6356520"/>
            <a:ext cx="649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A8153-9B7D-4A45-BE5F-FD06C3A96246}" type="slidenum">
              <a:rPr b="1" lang="cs-CZ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body"/>
          </p:nvPr>
        </p:nvSpPr>
        <p:spPr>
          <a:xfrm>
            <a:off x="1116000" y="1628280"/>
            <a:ext cx="75708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2DE67-075B-49A5-957C-82232791CF3C}" type="datetime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0.07.20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529FA-0CE1-4353-8003-9AB5D336AFAC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Zástupný symbol pro číslo snímku 5"/>
          <p:cNvSpPr/>
          <p:nvPr/>
        </p:nvSpPr>
        <p:spPr>
          <a:xfrm>
            <a:off x="250920" y="6356520"/>
            <a:ext cx="649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2B3C1-ACE7-4C7E-B52E-94BEBF26CA70}" type="slidenum">
              <a:rPr b="1" lang="cs-CZ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body"/>
          </p:nvPr>
        </p:nvSpPr>
        <p:spPr>
          <a:xfrm>
            <a:off x="1116000" y="1628280"/>
            <a:ext cx="75708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5540C-0D6C-4EF0-957E-F489416928EE}" type="datetime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0.07.20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E4D64-FBB3-42ED-96DB-046B70195BF0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7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0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s://www.msmt.cz/vzdelavani/skolstvi-v-cr/spolecny-evropsky-referencni-ramec-pro-jazyky?highlightWords=spole&#269;n&#253;+evropsk&#253;+referen&#269;n&#237;+r&#225;mec" TargetMode="Externa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2987640" y="3357360"/>
            <a:ext cx="5470560" cy="194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2060"/>
                </a:solidFill>
                <a:latin typeface="Calibri"/>
              </a:rPr>
              <a:t>Úroveň </a:t>
            </a:r>
            <a:r>
              <a:rPr b="0" lang="cs-CZ" sz="4000" spc="-1" strike="noStrike">
                <a:solidFill>
                  <a:srgbClr val="002060"/>
                </a:solidFill>
                <a:latin typeface="Calibri"/>
              </a:rPr>
              <a:t>maturitní </a:t>
            </a:r>
            <a:r>
              <a:rPr b="0" lang="en-GB" sz="4000" spc="-1" strike="noStrike">
                <a:solidFill>
                  <a:srgbClr val="002060"/>
                </a:solidFill>
                <a:latin typeface="Calibri"/>
              </a:rPr>
              <a:t>zkoušky dle SERR</a:t>
            </a:r>
            <a:r>
              <a:rPr b="0" lang="en-GB" sz="4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cs-CZ" sz="4000" spc="-1" strike="noStrike">
                <a:solidFill>
                  <a:srgbClr val="002060"/>
                </a:solidFill>
                <a:latin typeface="Calibri"/>
              </a:rPr>
              <a:t>a pracovní listy </a:t>
            </a:r>
            <a:br>
              <a:rPr sz="4000"/>
            </a:br>
            <a:r>
              <a:rPr b="0" lang="cs-CZ" sz="4000" spc="-1" strike="noStrike">
                <a:solidFill>
                  <a:srgbClr val="002060"/>
                </a:solidFill>
                <a:latin typeface="Calibri"/>
              </a:rPr>
              <a:t>pro gymnázia</a:t>
            </a:r>
            <a:br>
              <a:rPr sz="4000"/>
            </a:br>
            <a:br>
              <a:rPr sz="3200"/>
            </a:br>
            <a:br>
              <a:rPr sz="32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subTitle"/>
          </p:nvPr>
        </p:nvSpPr>
        <p:spPr>
          <a:xfrm>
            <a:off x="3059280" y="6021360"/>
            <a:ext cx="4784400" cy="4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Calibri"/>
              </a:rPr>
              <a:t>Marie Černíková, MŠM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4" name="Obrázek 3" descr=""/>
          <p:cNvPicPr/>
          <p:nvPr/>
        </p:nvPicPr>
        <p:blipFill>
          <a:blip r:embed="rId1"/>
          <a:stretch/>
        </p:blipFill>
        <p:spPr>
          <a:xfrm>
            <a:off x="468360" y="4005360"/>
            <a:ext cx="2000160" cy="10587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"/>
          <p:cNvSpPr txBox="1"/>
          <p:nvPr/>
        </p:nvSpPr>
        <p:spPr>
          <a:xfrm>
            <a:off x="1116000" y="549000"/>
            <a:ext cx="757080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00"/>
                </a:solidFill>
                <a:latin typeface="Calibri"/>
              </a:rPr>
              <a:t>Příklady mediac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áš přítel cizinec je v nemocnici. Vy ho doprovázíte a svými slovy mu tlumočíte souhlas s ošetření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Jste v restauraci a Váš přítel se ptá, co je to „španělský ptáček“ nebo „svíčková“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ři návštěvě hradu si děláte poznámky, a pak svými slovy rekapitulujete, co jste se dozvěděli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"/>
          <p:cNvSpPr txBox="1"/>
          <p:nvPr/>
        </p:nvSpPr>
        <p:spPr>
          <a:xfrm>
            <a:off x="1116000" y="115560"/>
            <a:ext cx="7570800" cy="648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00"/>
                </a:solidFill>
                <a:latin typeface="Calibri"/>
              </a:rPr>
              <a:t>Některé testologické zásady pro  zkoušky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00"/>
                </a:solidFill>
                <a:latin typeface="Calibri"/>
              </a:rPr>
              <a:t>z cizích jazyků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Kalibrace dle SER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Koncept autenticity – situace se vztahuje k nějaké </a:t>
            </a: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konkrétní reálné aktivitě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nebo situaci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1. stanovení </a:t>
            </a: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cíle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(co chci zkoušet), 2. </a:t>
            </a: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důvod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(proč to chci zkoušet), 3. </a:t>
            </a: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dovednosti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, které zkouším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Pozor na příliš osobní otázky, </a:t>
            </a: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citlivá témata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a negativní zážitky (při tématu rodina, přírodní katastrofy se někteří žáci nemusí cítit dobře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Střídán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í monologu a dialogu – dát příležitost i uchazeči položit otázky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Kritéria hodnocení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a stanovení mezní hranice úspěšnosti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Pretestace úloh, následná </a:t>
            </a: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zpětná vazba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"/>
          <p:cNvSpPr txBox="1"/>
          <p:nvPr/>
        </p:nvSpPr>
        <p:spPr>
          <a:xfrm>
            <a:off x="1116000" y="115560"/>
            <a:ext cx="7570800" cy="648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1" lang="cs-CZ" sz="3200" spc="-1" strike="noStrike">
                <a:solidFill>
                  <a:srgbClr val="ffff00"/>
                </a:solidFill>
                <a:latin typeface="Calibri"/>
              </a:rPr>
              <a:t>Návrh jednoduchého schémat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00"/>
                </a:solidFill>
                <a:latin typeface="Calibri"/>
              </a:rPr>
              <a:t>                 </a:t>
            </a:r>
            <a:r>
              <a:rPr b="1" lang="cs-CZ" sz="3200" spc="-1" strike="noStrike">
                <a:solidFill>
                  <a:srgbClr val="ffff00"/>
                </a:solidFill>
                <a:latin typeface="Calibri"/>
              </a:rPr>
              <a:t>pracovního  listu na téma Jídlo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Otázky: co, kdy, jak, proč,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Obrázek maso – vegetariá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Mediace: vysvětlit a popsat co je např. španělský ptáček či nějaké další české speci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ozvat přítele na pivní veletr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 txBox="1"/>
          <p:nvPr/>
        </p:nvSpPr>
        <p:spPr>
          <a:xfrm>
            <a:off x="1116000" y="189000"/>
            <a:ext cx="75708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00"/>
                </a:solidFill>
                <a:latin typeface="Calibri"/>
              </a:rPr>
              <a:t>   </a:t>
            </a:r>
            <a:r>
              <a:rPr b="1" lang="cs-CZ" sz="4000" spc="-1" strike="noStrike">
                <a:solidFill>
                  <a:srgbClr val="ffff00"/>
                </a:solidFill>
                <a:latin typeface="Calibri"/>
              </a:rPr>
              <a:t>Konkrétní příklady testových     úloh B2  v následujících slidech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Následující příklady čerpají z konkrétních testových úloh vytvořených Cermatem pro MZ v roce </a:t>
            </a:r>
            <a:r>
              <a:rPr b="0" lang="cs-CZ" sz="3000" spc="-1" strike="noStrike" u="sng">
                <a:solidFill>
                  <a:srgbClr val="000000"/>
                </a:solidFill>
                <a:uFillTx/>
                <a:latin typeface="Calibri"/>
              </a:rPr>
              <a:t>2011</a:t>
            </a: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Je však </a:t>
            </a:r>
            <a:r>
              <a:rPr b="1" lang="cs-CZ" sz="3000" spc="-1" strike="noStrike">
                <a:solidFill>
                  <a:srgbClr val="000000"/>
                </a:solidFill>
                <a:latin typeface="Calibri"/>
              </a:rPr>
              <a:t>plně</a:t>
            </a: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 v kompetenci Vaší školy, jak si pracovní listy připravíte a jaká témata zveřejnít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V každém případě je třeba formulovat zadání tak, aby žák byl </a:t>
            </a:r>
            <a:r>
              <a:rPr b="1" lang="cs-CZ" sz="3000" spc="-1" strike="noStrike">
                <a:solidFill>
                  <a:srgbClr val="000000"/>
                </a:solidFill>
                <a:latin typeface="Calibri"/>
              </a:rPr>
              <a:t>stimulován k prokázání úrovně B2</a:t>
            </a: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: podrobnému popisu, obhájení názoru, argumentaci  výhod a nevýhod, atd. a prokázání dovedností B2 bylo soustředěno kolem 1 tématu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8" name="Zástupný symbol pro obsah 1" descr=""/>
          <p:cNvPicPr/>
          <p:nvPr/>
        </p:nvPicPr>
        <p:blipFill>
          <a:blip r:embed="rId1"/>
          <a:stretch/>
        </p:blipFill>
        <p:spPr>
          <a:xfrm>
            <a:off x="933480" y="23760"/>
            <a:ext cx="7753320" cy="6572160"/>
          </a:xfrm>
          <a:prstGeom prst="rect">
            <a:avLst/>
          </a:prstGeom>
          <a:ln w="0">
            <a:noFill/>
          </a:ln>
        </p:spPr>
      </p:pic>
      <p:pic>
        <p:nvPicPr>
          <p:cNvPr id="549" name="Obrázek 3" descr=""/>
          <p:cNvPicPr/>
          <p:nvPr/>
        </p:nvPicPr>
        <p:blipFill>
          <a:blip r:embed="rId2"/>
          <a:stretch/>
        </p:blipFill>
        <p:spPr>
          <a:xfrm>
            <a:off x="366840" y="1714680"/>
            <a:ext cx="8777160" cy="2001600"/>
          </a:xfrm>
          <a:prstGeom prst="rect">
            <a:avLst/>
          </a:prstGeom>
          <a:ln w="0">
            <a:noFill/>
          </a:ln>
        </p:spPr>
      </p:pic>
      <p:pic>
        <p:nvPicPr>
          <p:cNvPr id="550" name="Obrázek 7" descr=""/>
          <p:cNvPicPr/>
          <p:nvPr/>
        </p:nvPicPr>
        <p:blipFill>
          <a:blip r:embed="rId3"/>
          <a:stretch/>
        </p:blipFill>
        <p:spPr>
          <a:xfrm>
            <a:off x="557280" y="4282920"/>
            <a:ext cx="8105760" cy="1362240"/>
          </a:xfrm>
          <a:prstGeom prst="rect">
            <a:avLst/>
          </a:prstGeom>
          <a:ln w="0">
            <a:noFill/>
          </a:ln>
        </p:spPr>
      </p:pic>
      <p:pic>
        <p:nvPicPr>
          <p:cNvPr id="551" name="Obrázek 3" descr=""/>
          <p:cNvPicPr/>
          <p:nvPr/>
        </p:nvPicPr>
        <p:blipFill>
          <a:blip r:embed="rId4"/>
          <a:stretch/>
        </p:blipFill>
        <p:spPr>
          <a:xfrm>
            <a:off x="8663040" y="36360"/>
            <a:ext cx="476280" cy="4478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Zástupný symbol pro obsah 1" descr=""/>
          <p:cNvPicPr/>
          <p:nvPr/>
        </p:nvPicPr>
        <p:blipFill>
          <a:blip r:embed="rId1"/>
          <a:stretch/>
        </p:blipFill>
        <p:spPr>
          <a:xfrm>
            <a:off x="963720" y="23760"/>
            <a:ext cx="7723080" cy="6572160"/>
          </a:xfrm>
          <a:prstGeom prst="rect">
            <a:avLst/>
          </a:prstGeom>
          <a:ln w="0">
            <a:noFill/>
          </a:ln>
        </p:spPr>
      </p:pic>
      <p:pic>
        <p:nvPicPr>
          <p:cNvPr id="553" name="Obrázek 2" descr=""/>
          <p:cNvPicPr/>
          <p:nvPr/>
        </p:nvPicPr>
        <p:blipFill>
          <a:blip r:embed="rId2"/>
          <a:stretch/>
        </p:blipFill>
        <p:spPr>
          <a:xfrm>
            <a:off x="1116000" y="1700280"/>
            <a:ext cx="7066080" cy="4321080"/>
          </a:xfrm>
          <a:prstGeom prst="rect">
            <a:avLst/>
          </a:prstGeom>
          <a:ln w="0">
            <a:noFill/>
          </a:ln>
        </p:spPr>
      </p:pic>
      <p:pic>
        <p:nvPicPr>
          <p:cNvPr id="554" name="Obrázek 3" descr=""/>
          <p:cNvPicPr/>
          <p:nvPr/>
        </p:nvPicPr>
        <p:blipFill>
          <a:blip r:embed="rId3"/>
          <a:stretch/>
        </p:blipFill>
        <p:spPr>
          <a:xfrm>
            <a:off x="8663040" y="36360"/>
            <a:ext cx="476280" cy="4478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"/>
          <p:cNvSpPr txBox="1"/>
          <p:nvPr/>
        </p:nvSpPr>
        <p:spPr>
          <a:xfrm>
            <a:off x="1116000" y="115560"/>
            <a:ext cx="7570800" cy="648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Calibri"/>
              </a:rPr>
              <a:t>     </a:t>
            </a:r>
            <a:r>
              <a:rPr b="1" lang="cs-CZ" sz="3600" spc="-1" strike="noStrike">
                <a:solidFill>
                  <a:srgbClr val="ffff00"/>
                </a:solidFill>
                <a:latin typeface="Calibri"/>
              </a:rPr>
              <a:t>Příklady z 1. části prac. listů CZVV  </a:t>
            </a:r>
            <a:r>
              <a:rPr b="0" lang="cs-CZ" sz="3600" spc="-1" strike="noStrike">
                <a:solidFill>
                  <a:srgbClr val="ffff00"/>
                </a:solidFill>
                <a:latin typeface="Calibri"/>
              </a:rPr>
              <a:t> vyšší úroveň 2011</a:t>
            </a:r>
            <a:r>
              <a:rPr b="0" lang="cs-CZ" sz="2400" spc="-1" strike="noStrike">
                <a:solidFill>
                  <a:srgbClr val="ffff00"/>
                </a:solidFill>
                <a:latin typeface="Calibri"/>
              </a:rPr>
              <a:t>,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traveling, family, mass medi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6" name="Obrázek 5" descr=""/>
          <p:cNvPicPr/>
          <p:nvPr/>
        </p:nvPicPr>
        <p:blipFill>
          <a:blip r:embed="rId1"/>
          <a:stretch/>
        </p:blipFill>
        <p:spPr>
          <a:xfrm>
            <a:off x="1073160" y="1989000"/>
            <a:ext cx="7753320" cy="1543320"/>
          </a:xfrm>
          <a:prstGeom prst="rect">
            <a:avLst/>
          </a:prstGeom>
          <a:ln w="0">
            <a:noFill/>
          </a:ln>
        </p:spPr>
      </p:pic>
      <p:pic>
        <p:nvPicPr>
          <p:cNvPr id="557" name="Obrázek 6" descr=""/>
          <p:cNvPicPr/>
          <p:nvPr/>
        </p:nvPicPr>
        <p:blipFill>
          <a:blip r:embed="rId2"/>
          <a:stretch/>
        </p:blipFill>
        <p:spPr>
          <a:xfrm>
            <a:off x="1073160" y="4653000"/>
            <a:ext cx="6705720" cy="1305000"/>
          </a:xfrm>
          <a:prstGeom prst="rect">
            <a:avLst/>
          </a:prstGeom>
          <a:ln w="0">
            <a:noFill/>
          </a:ln>
        </p:spPr>
      </p:pic>
      <p:pic>
        <p:nvPicPr>
          <p:cNvPr id="558" name="Obrázek 4" descr=""/>
          <p:cNvPicPr/>
          <p:nvPr/>
        </p:nvPicPr>
        <p:blipFill>
          <a:blip r:embed="rId3"/>
          <a:stretch/>
        </p:blipFill>
        <p:spPr>
          <a:xfrm>
            <a:off x="8663040" y="36360"/>
            <a:ext cx="476280" cy="4478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28684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00"/>
                </a:solidFill>
                <a:latin typeface="Calibri"/>
              </a:rPr>
              <a:t>        </a:t>
            </a:r>
            <a:r>
              <a:rPr b="1" lang="cs-CZ" sz="4000" spc="-1" strike="noStrike">
                <a:solidFill>
                  <a:srgbClr val="ffff00"/>
                </a:solidFill>
                <a:latin typeface="Calibri"/>
              </a:rPr>
              <a:t>Příklady z 2. části prac. listů CZVV  </a:t>
            </a:r>
            <a:r>
              <a:rPr b="0" lang="cs-CZ" sz="4000" spc="-1" strike="noStrike">
                <a:solidFill>
                  <a:srgbClr val="ffff00"/>
                </a:solidFill>
                <a:latin typeface="Calibri"/>
              </a:rPr>
              <a:t> vyšší úroveň 2011</a:t>
            </a:r>
            <a:r>
              <a:rPr b="0" lang="cs-CZ" sz="4400" spc="-1" strike="noStrike">
                <a:solidFill>
                  <a:srgbClr val="ffff00"/>
                </a:solidFill>
                <a:latin typeface="Calibri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doprava, dovolená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Zástupný symbol pro číslo snímku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06A65-FB1E-4A87-B400-BCBD9A68A4EB}" type="slidenum">
              <a:rPr b="0" lang="cs-CZ" sz="18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1" name="Obrázek 3" descr=""/>
          <p:cNvPicPr/>
          <p:nvPr/>
        </p:nvPicPr>
        <p:blipFill>
          <a:blip r:embed="rId1"/>
          <a:stretch/>
        </p:blipFill>
        <p:spPr>
          <a:xfrm>
            <a:off x="422280" y="2289240"/>
            <a:ext cx="8115120" cy="1676160"/>
          </a:xfrm>
          <a:prstGeom prst="rect">
            <a:avLst/>
          </a:prstGeom>
          <a:ln w="0">
            <a:noFill/>
          </a:ln>
        </p:spPr>
      </p:pic>
      <p:pic>
        <p:nvPicPr>
          <p:cNvPr id="562" name="Obrázek 5" descr=""/>
          <p:cNvPicPr/>
          <p:nvPr/>
        </p:nvPicPr>
        <p:blipFill>
          <a:blip r:embed="rId2"/>
          <a:stretch/>
        </p:blipFill>
        <p:spPr>
          <a:xfrm>
            <a:off x="647640" y="4898880"/>
            <a:ext cx="7993080" cy="1771920"/>
          </a:xfrm>
          <a:prstGeom prst="rect">
            <a:avLst/>
          </a:prstGeom>
          <a:ln w="0">
            <a:noFill/>
          </a:ln>
        </p:spPr>
      </p:pic>
      <p:pic>
        <p:nvPicPr>
          <p:cNvPr id="563" name="Obrázek 5" descr=""/>
          <p:cNvPicPr/>
          <p:nvPr/>
        </p:nvPicPr>
        <p:blipFill>
          <a:blip r:embed="rId3"/>
          <a:stretch/>
        </p:blipFill>
        <p:spPr>
          <a:xfrm>
            <a:off x="8663040" y="36360"/>
            <a:ext cx="476280" cy="4478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00"/>
                </a:solidFill>
                <a:latin typeface="Calibri"/>
              </a:rPr>
              <a:t>Příklady z 3. části prac. listů CZVV  </a:t>
            </a:r>
            <a:r>
              <a:rPr b="0" lang="cs-CZ" sz="4400" spc="-1" strike="noStrike">
                <a:solidFill>
                  <a:srgbClr val="ffff00"/>
                </a:solidFill>
                <a:latin typeface="Calibri"/>
              </a:rPr>
              <a:t> vyšší úroveň 201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Zástupný symbol pro číslo snímku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010A4-9F70-45D6-9ACD-AFEB88823155}" type="slidenum">
              <a:rPr b="0" lang="cs-CZ" sz="18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6" name="Obrázek 3" descr=""/>
          <p:cNvPicPr/>
          <p:nvPr/>
        </p:nvPicPr>
        <p:blipFill>
          <a:blip r:embed="rId1"/>
          <a:stretch/>
        </p:blipFill>
        <p:spPr>
          <a:xfrm>
            <a:off x="96840" y="1685880"/>
            <a:ext cx="8564400" cy="4402080"/>
          </a:xfrm>
          <a:prstGeom prst="rect">
            <a:avLst/>
          </a:prstGeom>
          <a:ln w="0">
            <a:noFill/>
          </a:ln>
        </p:spPr>
      </p:pic>
      <p:pic>
        <p:nvPicPr>
          <p:cNvPr id="567" name="Obrázek 4" descr=""/>
          <p:cNvPicPr/>
          <p:nvPr/>
        </p:nvPicPr>
        <p:blipFill>
          <a:blip r:embed="rId2"/>
          <a:stretch/>
        </p:blipFill>
        <p:spPr>
          <a:xfrm>
            <a:off x="8663040" y="36360"/>
            <a:ext cx="476280" cy="4478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"/>
          <p:cNvSpPr txBox="1"/>
          <p:nvPr/>
        </p:nvSpPr>
        <p:spPr>
          <a:xfrm>
            <a:off x="1115640" y="115560"/>
            <a:ext cx="8086680" cy="648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00"/>
                </a:solidFill>
                <a:latin typeface="Calibri"/>
              </a:rPr>
              <a:t>        </a:t>
            </a:r>
            <a:r>
              <a:rPr b="1" lang="cs-CZ" sz="3600" spc="-1" strike="noStrike">
                <a:solidFill>
                  <a:srgbClr val="ffff00"/>
                </a:solidFill>
                <a:latin typeface="Calibri"/>
              </a:rPr>
              <a:t>Příklady z 4. části prac. listů CZVV  </a:t>
            </a:r>
            <a:r>
              <a:rPr b="0" lang="cs-CZ" sz="3600" spc="-1" strike="noStrike">
                <a:solidFill>
                  <a:srgbClr val="ffff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Calibri"/>
              </a:rPr>
              <a:t>     </a:t>
            </a:r>
            <a:r>
              <a:rPr b="0" lang="cs-CZ" sz="3200" spc="-1" strike="noStrike">
                <a:solidFill>
                  <a:srgbClr val="ffff00"/>
                </a:solidFill>
                <a:latin typeface="Calibri"/>
              </a:rPr>
              <a:t>vyšší úroveň 201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9" name="Obrázek 2" descr=""/>
          <p:cNvPicPr/>
          <p:nvPr/>
        </p:nvPicPr>
        <p:blipFill>
          <a:blip r:embed="rId1"/>
          <a:stretch/>
        </p:blipFill>
        <p:spPr>
          <a:xfrm>
            <a:off x="528480" y="1484280"/>
            <a:ext cx="8087040" cy="4897440"/>
          </a:xfrm>
          <a:prstGeom prst="rect">
            <a:avLst/>
          </a:prstGeom>
          <a:ln w="0">
            <a:noFill/>
          </a:ln>
        </p:spPr>
      </p:pic>
      <p:pic>
        <p:nvPicPr>
          <p:cNvPr id="570" name="Obrázek 3" descr=""/>
          <p:cNvPicPr/>
          <p:nvPr/>
        </p:nvPicPr>
        <p:blipFill>
          <a:blip r:embed="rId2"/>
          <a:stretch/>
        </p:blipFill>
        <p:spPr>
          <a:xfrm>
            <a:off x="8624880" y="100080"/>
            <a:ext cx="476280" cy="4474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Calibri"/>
              </a:rPr>
              <a:t>    </a:t>
            </a:r>
            <a:r>
              <a:rPr b="0" lang="cs-CZ" sz="4400" spc="-1" strike="noStrike">
                <a:solidFill>
                  <a:srgbClr val="ffff00"/>
                </a:solidFill>
                <a:latin typeface="Calibri"/>
              </a:rPr>
              <a:t>Osnov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Zástupný symbol pro číslo snímku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8EA01-B5BE-4CF4-B569-DF32C48D1DA2}" type="slidenum">
              <a:rPr b="0" lang="cs-CZ" sz="18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7" name="Diagram 4" descr=""/>
          <p:cNvPicPr/>
          <p:nvPr/>
        </p:nvPicPr>
        <p:blipFill>
          <a:blip r:embed="rId1"/>
          <a:stretch/>
        </p:blipFill>
        <p:spPr>
          <a:xfrm>
            <a:off x="1249200" y="1420920"/>
            <a:ext cx="6357960" cy="5059080"/>
          </a:xfrm>
          <a:prstGeom prst="rect">
            <a:avLst/>
          </a:prstGeom>
          <a:ln w="0">
            <a:noFill/>
          </a:ln>
        </p:spPr>
      </p:pic>
      <p:pic>
        <p:nvPicPr>
          <p:cNvPr id="498" name="Obrázek 9" descr=""/>
          <p:cNvPicPr/>
          <p:nvPr/>
        </p:nvPicPr>
        <p:blipFill>
          <a:blip r:embed="rId2"/>
          <a:stretch/>
        </p:blipFill>
        <p:spPr>
          <a:xfrm>
            <a:off x="1290600" y="1649520"/>
            <a:ext cx="1355760" cy="911160"/>
          </a:xfrm>
          <a:prstGeom prst="rect">
            <a:avLst/>
          </a:prstGeom>
          <a:ln w="0">
            <a:noFill/>
          </a:ln>
        </p:spPr>
      </p:pic>
      <p:grpSp>
        <p:nvGrpSpPr>
          <p:cNvPr id="499" name="Obdélník: se zakulacenými rohy 10"/>
          <p:cNvGrpSpPr/>
          <p:nvPr/>
        </p:nvGrpSpPr>
        <p:grpSpPr>
          <a:xfrm>
            <a:off x="1347840" y="2712960"/>
            <a:ext cx="1309680" cy="1041480"/>
            <a:chOff x="1347840" y="2712960"/>
            <a:chExt cx="1309680" cy="1041480"/>
          </a:xfrm>
        </p:grpSpPr>
        <p:pic>
          <p:nvPicPr>
            <p:cNvPr id="500" name="Obdélník: se zakulacenými rohy 10" descr=""/>
            <p:cNvPicPr/>
            <p:nvPr/>
          </p:nvPicPr>
          <p:blipFill>
            <a:blip r:embed="rId3"/>
            <a:stretch/>
          </p:blipFill>
          <p:spPr>
            <a:xfrm>
              <a:off x="1347840" y="2712960"/>
              <a:ext cx="1309680" cy="104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1" name=""/>
            <p:cNvSpPr/>
            <p:nvPr/>
          </p:nvSpPr>
          <p:spPr>
            <a:xfrm>
              <a:off x="1389240" y="2755800"/>
              <a:ext cx="1226880" cy="95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1" name="TextShape 1" descr=""/>
          <p:cNvPicPr/>
          <p:nvPr/>
        </p:nvPicPr>
        <p:blipFill>
          <a:blip r:embed="rId1"/>
          <a:stretch/>
        </p:blipFill>
        <p:spPr>
          <a:xfrm>
            <a:off x="2200320" y="1152360"/>
            <a:ext cx="7572240" cy="5040360"/>
          </a:xfrm>
          <a:prstGeom prst="rect">
            <a:avLst/>
          </a:prstGeom>
          <a:ln w="0">
            <a:noFill/>
          </a:ln>
        </p:spPr>
      </p:pic>
      <p:sp>
        <p:nvSpPr>
          <p:cNvPr id="572" name="TextShape 2"/>
          <p:cNvSpPr/>
          <p:nvPr/>
        </p:nvSpPr>
        <p:spPr>
          <a:xfrm>
            <a:off x="0" y="136440"/>
            <a:ext cx="8964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 fontScale="9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    </a:t>
            </a:r>
            <a:r>
              <a:rPr b="0" lang="cs-CZ" sz="3600" spc="-1" strike="noStrike">
                <a:solidFill>
                  <a:srgbClr val="ffff00"/>
                </a:solidFill>
                <a:latin typeface="Calibri"/>
                <a:ea typeface="DejaVu Sans"/>
              </a:rPr>
              <a:t>Kritéria hodnocení ÚSTNÍ ZKOUŠKY stanoví ŠKOL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TextShape 3"/>
          <p:cNvSpPr/>
          <p:nvPr/>
        </p:nvSpPr>
        <p:spPr>
          <a:xfrm>
            <a:off x="70102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F4618-E18B-4A0A-AA13-620EC774A54A}" type="slidenum">
              <a:rPr b="1" lang="cs-CZ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4" name="Diagram 1" descr=""/>
          <p:cNvPicPr/>
          <p:nvPr/>
        </p:nvPicPr>
        <p:blipFill>
          <a:blip r:embed="rId2"/>
          <a:stretch/>
        </p:blipFill>
        <p:spPr>
          <a:xfrm>
            <a:off x="1523880" y="3029040"/>
            <a:ext cx="6096240" cy="3268440"/>
          </a:xfrm>
          <a:prstGeom prst="rect">
            <a:avLst/>
          </a:prstGeom>
          <a:ln w="0">
            <a:noFill/>
          </a:ln>
        </p:spPr>
      </p:pic>
      <p:pic>
        <p:nvPicPr>
          <p:cNvPr id="575" name="Diagram 3" descr=""/>
          <p:cNvPicPr/>
          <p:nvPr/>
        </p:nvPicPr>
        <p:blipFill>
          <a:blip r:embed="rId3"/>
          <a:stretch/>
        </p:blipFill>
        <p:spPr>
          <a:xfrm>
            <a:off x="1249200" y="1689120"/>
            <a:ext cx="6413760" cy="48769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"/>
          <p:cNvSpPr txBox="1"/>
          <p:nvPr/>
        </p:nvSpPr>
        <p:spPr>
          <a:xfrm>
            <a:off x="1186920" y="189000"/>
            <a:ext cx="7642440" cy="71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00"/>
                </a:solidFill>
                <a:latin typeface="Calibri"/>
              </a:rPr>
              <a:t>Kritéria hodnocen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Stanovení přesných kritérií je důležité </a:t>
            </a: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pro hodnocení 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i </a:t>
            </a: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pro argumentaci při odvolání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Je třeba stanovit procentuální úspěšnost pro uspění u </a:t>
            </a: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celkové zkoušky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Rozdělit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, čemu dát více a čemu méně bodů, neboť úkoly nejsou rovnocenné (část 1 je patrně nejlehčí)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Navrhuje se stanovit </a:t>
            </a: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kritéria hodnocení pro každou část zvlášť, 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viz dá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"/>
          <p:cNvSpPr txBox="1"/>
          <p:nvPr/>
        </p:nvSpPr>
        <p:spPr>
          <a:xfrm>
            <a:off x="1186920" y="189000"/>
            <a:ext cx="7642440" cy="71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00"/>
                </a:solidFill>
                <a:latin typeface="Calibri"/>
              </a:rPr>
              <a:t>    </a:t>
            </a:r>
            <a:r>
              <a:rPr b="1" lang="cs-CZ" sz="3200" spc="-1" strike="noStrike">
                <a:solidFill>
                  <a:srgbClr val="ffff00"/>
                </a:solidFill>
                <a:latin typeface="Calibri"/>
              </a:rPr>
              <a:t>Pouze a jen návrh na hodnocení dle obtížnosti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úvod nejjednodušší – 10 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opis obrázků srovnání – 20 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část reálie  – 30 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řízený rozhovor  –  40 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"/>
          <p:cNvSpPr txBox="1"/>
          <p:nvPr/>
        </p:nvSpPr>
        <p:spPr>
          <a:xfrm>
            <a:off x="1116000" y="189000"/>
            <a:ext cx="75708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300" spc="-1" strike="noStrike">
                <a:solidFill>
                  <a:srgbClr val="ffff00"/>
                </a:solidFill>
                <a:latin typeface="Calibri"/>
              </a:rPr>
              <a:t>   </a:t>
            </a:r>
            <a:r>
              <a:rPr b="1" lang="cs-CZ" sz="2800" spc="-1" strike="noStrike">
                <a:solidFill>
                  <a:srgbClr val="ffff00"/>
                </a:solidFill>
                <a:latin typeface="Calibri"/>
              </a:rPr>
              <a:t>Jak stanovit kritéria hodnocení ke každé úloz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Mluví k tématu či mimo téma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mluví v celých větách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oužívá složitější vyjadřovací prostředky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má bohatou slovní zásobu nebo opakoval stále stejná slova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OZOR nelze hodnotit celek …  celkový dojem jako v krasobruslení je v jazykových zkouškách velmi zavádějící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9" name="Zástupný symbol pro obsah 3" descr=""/>
          <p:cNvPicPr/>
          <p:nvPr/>
        </p:nvPicPr>
        <p:blipFill>
          <a:blip r:embed="rId1"/>
          <a:stretch/>
        </p:blipFill>
        <p:spPr>
          <a:xfrm>
            <a:off x="2340000" y="2058840"/>
            <a:ext cx="4824360" cy="3805560"/>
          </a:xfrm>
          <a:prstGeom prst="rect">
            <a:avLst/>
          </a:prstGeom>
          <a:ln w="0">
            <a:noFill/>
          </a:ln>
        </p:spPr>
      </p:pic>
      <p:sp>
        <p:nvSpPr>
          <p:cNvPr id="580" name="Obdélník 4"/>
          <p:cNvSpPr/>
          <p:nvPr/>
        </p:nvSpPr>
        <p:spPr>
          <a:xfrm>
            <a:off x="1042920" y="1413000"/>
            <a:ext cx="581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  <a:ea typeface="Arial"/>
              </a:rPr>
              <a:t> „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  <a:ea typeface="Arial"/>
              </a:rPr>
              <a:t>Nezaujmou šedé myši“,…, učitel musí umět žákovi vysvětlit, proč dostal např. horší známk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1" name="TextShape 1" descr=""/>
          <p:cNvPicPr/>
          <p:nvPr/>
        </p:nvPicPr>
        <p:blipFill>
          <a:blip r:embed="rId1"/>
          <a:stretch/>
        </p:blipFill>
        <p:spPr>
          <a:xfrm>
            <a:off x="2193840" y="1255680"/>
            <a:ext cx="7572600" cy="5041800"/>
          </a:xfrm>
          <a:prstGeom prst="rect">
            <a:avLst/>
          </a:prstGeom>
          <a:ln w="0">
            <a:noFill/>
          </a:ln>
        </p:spPr>
      </p:pic>
      <p:sp>
        <p:nvSpPr>
          <p:cNvPr id="582" name="TextShape 2"/>
          <p:cNvSpPr/>
          <p:nvPr/>
        </p:nvSpPr>
        <p:spPr>
          <a:xfrm>
            <a:off x="0" y="136440"/>
            <a:ext cx="8964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 fontScale="9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    </a:t>
            </a:r>
            <a:r>
              <a:rPr b="0" lang="cs-CZ" sz="3600" spc="-1" strike="noStrike">
                <a:solidFill>
                  <a:srgbClr val="ffff00"/>
                </a:solidFill>
                <a:latin typeface="Calibri"/>
                <a:ea typeface="DejaVu Sans"/>
              </a:rPr>
              <a:t>Nahrazení zkoušky z CJ  jazykovým certifikáte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TextShape 3"/>
          <p:cNvSpPr/>
          <p:nvPr/>
        </p:nvSpPr>
        <p:spPr>
          <a:xfrm>
            <a:off x="70102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88D41-ECA4-4014-8436-FCD707EF92FB}" type="slidenum">
              <a:rPr b="1" lang="cs-CZ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4" name="Diagram 1" descr=""/>
          <p:cNvPicPr/>
          <p:nvPr/>
        </p:nvPicPr>
        <p:blipFill>
          <a:blip r:embed="rId2"/>
          <a:stretch/>
        </p:blipFill>
        <p:spPr>
          <a:xfrm>
            <a:off x="1762200" y="2266920"/>
            <a:ext cx="6534000" cy="4110120"/>
          </a:xfrm>
          <a:prstGeom prst="rect">
            <a:avLst/>
          </a:prstGeom>
          <a:ln w="0">
            <a:noFill/>
          </a:ln>
        </p:spPr>
      </p:pic>
      <p:pic>
        <p:nvPicPr>
          <p:cNvPr id="585" name="Diagram 3" descr=""/>
          <p:cNvPicPr/>
          <p:nvPr/>
        </p:nvPicPr>
        <p:blipFill>
          <a:blip r:embed="rId3"/>
          <a:stretch/>
        </p:blipFill>
        <p:spPr>
          <a:xfrm>
            <a:off x="1285920" y="2036880"/>
            <a:ext cx="6254640" cy="42847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6" name="TextShape 1" descr=""/>
          <p:cNvPicPr/>
          <p:nvPr/>
        </p:nvPicPr>
        <p:blipFill>
          <a:blip r:embed="rId1"/>
          <a:stretch/>
        </p:blipFill>
        <p:spPr>
          <a:xfrm>
            <a:off x="2193840" y="1231920"/>
            <a:ext cx="7572600" cy="5040360"/>
          </a:xfrm>
          <a:prstGeom prst="rect">
            <a:avLst/>
          </a:prstGeom>
          <a:ln w="0">
            <a:noFill/>
          </a:ln>
        </p:spPr>
      </p:pic>
      <p:sp>
        <p:nvSpPr>
          <p:cNvPr id="587" name="TextShape 2"/>
          <p:cNvSpPr/>
          <p:nvPr/>
        </p:nvSpPr>
        <p:spPr>
          <a:xfrm>
            <a:off x="0" y="136440"/>
            <a:ext cx="8964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 fontScale="9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    </a:t>
            </a:r>
            <a:r>
              <a:rPr b="0" lang="cs-CZ" sz="3600" spc="-1" strike="noStrike">
                <a:solidFill>
                  <a:srgbClr val="ffff00"/>
                </a:solidFill>
                <a:latin typeface="Calibri"/>
                <a:ea typeface="DejaVu Sans"/>
              </a:rPr>
              <a:t>Nahrazení zkoušky z CJ  jazykovým certifikátem doplněni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TextShape 3"/>
          <p:cNvSpPr/>
          <p:nvPr/>
        </p:nvSpPr>
        <p:spPr>
          <a:xfrm>
            <a:off x="70102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6D37F-8C53-4C4B-B0CF-1DB3B02F9831}" type="slidenum">
              <a:rPr b="1" lang="cs-CZ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9" name="Diagram 1" descr=""/>
          <p:cNvPicPr/>
          <p:nvPr/>
        </p:nvPicPr>
        <p:blipFill>
          <a:blip r:embed="rId2"/>
          <a:stretch/>
        </p:blipFill>
        <p:spPr>
          <a:xfrm>
            <a:off x="1762200" y="2266920"/>
            <a:ext cx="6534000" cy="4110120"/>
          </a:xfrm>
          <a:prstGeom prst="rect">
            <a:avLst/>
          </a:prstGeom>
          <a:ln w="0">
            <a:noFill/>
          </a:ln>
        </p:spPr>
      </p:pic>
      <p:pic>
        <p:nvPicPr>
          <p:cNvPr id="590" name="Diagram 3" descr=""/>
          <p:cNvPicPr/>
          <p:nvPr/>
        </p:nvPicPr>
        <p:blipFill>
          <a:blip r:embed="rId3"/>
          <a:stretch/>
        </p:blipFill>
        <p:spPr>
          <a:xfrm>
            <a:off x="1274760" y="1773360"/>
            <a:ext cx="6265800" cy="4548240"/>
          </a:xfrm>
          <a:prstGeom prst="rect">
            <a:avLst/>
          </a:prstGeom>
          <a:ln w="0">
            <a:noFill/>
          </a:ln>
        </p:spPr>
      </p:pic>
      <p:sp>
        <p:nvSpPr>
          <p:cNvPr id="591" name="Přímá spojnice 4"/>
          <p:cNvSpPr/>
          <p:nvPr/>
        </p:nvSpPr>
        <p:spPr>
          <a:xfrm>
            <a:off x="5958000" y="2995560"/>
            <a:ext cx="627120" cy="387360"/>
          </a:xfrm>
          <a:prstGeom prst="line">
            <a:avLst/>
          </a:prstGeom>
          <a:ln w="9360">
            <a:solidFill>
              <a:srgbClr val="be4b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římá spojnice 13"/>
          <p:cNvSpPr/>
          <p:nvPr/>
        </p:nvSpPr>
        <p:spPr>
          <a:xfrm flipV="1">
            <a:off x="4572000" y="3149280"/>
            <a:ext cx="0" cy="98280"/>
          </a:xfrm>
          <a:prstGeom prst="line">
            <a:avLst/>
          </a:prstGeom>
          <a:ln w="9360">
            <a:solidFill>
              <a:srgbClr val="3d8c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Volný tvar: obrazec 14"/>
          <p:cNvSpPr/>
          <p:nvPr/>
        </p:nvSpPr>
        <p:spPr>
          <a:xfrm>
            <a:off x="3456000" y="2692440"/>
            <a:ext cx="981000" cy="2709720"/>
          </a:xfrm>
          <a:custGeom>
            <a:avLst/>
            <a:gdLst/>
            <a:ahLst/>
            <a:rect l="l" t="t" r="r" b="b"/>
            <a:pathLst>
              <a:path w="980653" h="3062767">
                <a:moveTo>
                  <a:pt x="972718" y="464234"/>
                </a:moveTo>
                <a:cubicBezTo>
                  <a:pt x="832041" y="248529"/>
                  <a:pt x="691364" y="32825"/>
                  <a:pt x="550687" y="42203"/>
                </a:cubicBezTo>
                <a:cubicBezTo>
                  <a:pt x="410010" y="51581"/>
                  <a:pt x="213063" y="58615"/>
                  <a:pt x="128657" y="520504"/>
                </a:cubicBezTo>
                <a:cubicBezTo>
                  <a:pt x="44251" y="982393"/>
                  <a:pt x="-61258" y="2445433"/>
                  <a:pt x="44250" y="2813538"/>
                </a:cubicBezTo>
                <a:cubicBezTo>
                  <a:pt x="149758" y="3181643"/>
                  <a:pt x="611648" y="3132406"/>
                  <a:pt x="761703" y="2729132"/>
                </a:cubicBezTo>
                <a:cubicBezTo>
                  <a:pt x="911758" y="2325858"/>
                  <a:pt x="1047746" y="829994"/>
                  <a:pt x="944583" y="393895"/>
                </a:cubicBezTo>
                <a:cubicBezTo>
                  <a:pt x="841420" y="-42204"/>
                  <a:pt x="255265" y="173501"/>
                  <a:pt x="142724" y="112541"/>
                </a:cubicBezTo>
                <a:cubicBezTo>
                  <a:pt x="30183" y="51581"/>
                  <a:pt x="224786" y="46892"/>
                  <a:pt x="269334" y="28135"/>
                </a:cubicBezTo>
                <a:cubicBezTo>
                  <a:pt x="313882" y="9378"/>
                  <a:pt x="372496" y="0"/>
                  <a:pt x="410010" y="0"/>
                </a:cubicBezTo>
                <a:cubicBezTo>
                  <a:pt x="447524" y="0"/>
                  <a:pt x="440491" y="14067"/>
                  <a:pt x="494417" y="28135"/>
                </a:cubicBezTo>
                <a:cubicBezTo>
                  <a:pt x="548343" y="42203"/>
                  <a:pt x="733567" y="84406"/>
                  <a:pt x="733567" y="84406"/>
                </a:cubicBezTo>
                <a:lnTo>
                  <a:pt x="733567" y="84406"/>
                </a:lnTo>
              </a:path>
            </a:pathLst>
          </a:custGeom>
          <a:noFill/>
          <a:ln w="25560">
            <a:solidFill>
              <a:srgbClr val="2d676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římá spojnice 17"/>
          <p:cNvSpPr/>
          <p:nvPr/>
        </p:nvSpPr>
        <p:spPr>
          <a:xfrm flipH="1">
            <a:off x="5866920" y="2946240"/>
            <a:ext cx="809640" cy="436680"/>
          </a:xfrm>
          <a:prstGeom prst="line">
            <a:avLst/>
          </a:prstGeom>
          <a:ln w="9360">
            <a:solidFill>
              <a:srgbClr val="be4b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"/>
          <p:cNvSpPr txBox="1"/>
          <p:nvPr/>
        </p:nvSpPr>
        <p:spPr>
          <a:xfrm>
            <a:off x="1116000" y="1557000"/>
            <a:ext cx="75708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2060"/>
                </a:solidFill>
                <a:latin typeface="Calibri"/>
              </a:rPr>
              <a:t>Děkuji za pozornos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2060"/>
                </a:solidFill>
                <a:latin typeface="Calibri"/>
              </a:rPr>
              <a:t>Marie Černíková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 txBox="1"/>
          <p:nvPr/>
        </p:nvSpPr>
        <p:spPr>
          <a:xfrm>
            <a:off x="1332000" y="333000"/>
            <a:ext cx="73548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Calibri"/>
              </a:rPr>
              <a:t>     </a:t>
            </a:r>
            <a:r>
              <a:rPr b="0" lang="cs-CZ" sz="2400" spc="-1" strike="noStrike">
                <a:solidFill>
                  <a:srgbClr val="ffff00"/>
                </a:solidFill>
                <a:latin typeface="Calibri"/>
              </a:rPr>
              <a:t>Společný evropský referenční ráme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Calibri"/>
              </a:rPr>
              <a:t>Companion volum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Společný evropský referenční rámec (SERR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s://www.msmt.cz/vzdelavani/skolstvi-v-cr/spolecny-evropsky-referencni-ramec-pro-jazyky?highlightWords=spole%C4%8Dn%C3%BD+evropsk%C3%BD+referen%C4%8Dn%C3%AD+r%C3%A1me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SERR byl rozšířen o </a:t>
            </a:r>
            <a:r>
              <a:rPr b="1" lang="cs-CZ" sz="2000" spc="-1" strike="noStrike">
                <a:solidFill>
                  <a:srgbClr val="002060"/>
                </a:solidFill>
                <a:latin typeface="Calibri"/>
              </a:rPr>
              <a:t>Companion volume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, poslední verze je z roku 2020 (rozpracována mediace, přidány + úrovně, rozpracovány úrovně pro žák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https://rm.coe.int/common-european-framework-of-reference-for-languages-learning-teaching/16809ea0d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3" name="Obrázek 2" descr=""/>
          <p:cNvPicPr/>
          <p:nvPr/>
        </p:nvPicPr>
        <p:blipFill>
          <a:blip r:embed="rId2"/>
          <a:stretch/>
        </p:blipFill>
        <p:spPr>
          <a:xfrm>
            <a:off x="6443640" y="115920"/>
            <a:ext cx="2514600" cy="24368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cs-CZ" sz="4400" spc="-1" strike="noStrike">
                <a:solidFill>
                  <a:srgbClr val="ffff00"/>
                </a:solidFill>
                <a:latin typeface="Calibri"/>
              </a:rPr>
              <a:t>Propojení SERR a testování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Zástupný symbol pro číslo snímku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EB352-2A07-40FA-9490-3544098F2E49}" type="slidenum">
              <a:rPr b="0" lang="cs-CZ" sz="18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6" name="Obrázek 3" descr=""/>
          <p:cNvPicPr/>
          <p:nvPr/>
        </p:nvPicPr>
        <p:blipFill>
          <a:blip r:embed="rId1"/>
          <a:stretch/>
        </p:blipFill>
        <p:spPr>
          <a:xfrm>
            <a:off x="11160" y="1332000"/>
            <a:ext cx="3620880" cy="5408640"/>
          </a:xfrm>
          <a:prstGeom prst="rect">
            <a:avLst/>
          </a:prstGeom>
          <a:ln w="0">
            <a:noFill/>
          </a:ln>
        </p:spPr>
      </p:pic>
      <p:sp>
        <p:nvSpPr>
          <p:cNvPr id="507" name="Obdélník 4"/>
          <p:cNvSpPr/>
          <p:nvPr/>
        </p:nvSpPr>
        <p:spPr>
          <a:xfrm>
            <a:off x="4356000" y="4508640"/>
            <a:ext cx="4114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  <a:ea typeface="Arial"/>
              </a:rPr>
              <a:t>https://www.ecml.at/Portals/1/documents/ECML-resources/2011_10_10_relex._E_web.pdf?ver=2018-03-21-100940-82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8" name="Obrázek 5" descr=""/>
          <p:cNvPicPr/>
          <p:nvPr/>
        </p:nvPicPr>
        <p:blipFill>
          <a:blip r:embed="rId2"/>
          <a:stretch/>
        </p:blipFill>
        <p:spPr>
          <a:xfrm>
            <a:off x="3619440" y="1389240"/>
            <a:ext cx="5513400" cy="20080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9" name="TextShape 1" descr=""/>
          <p:cNvPicPr/>
          <p:nvPr/>
        </p:nvPicPr>
        <p:blipFill>
          <a:blip r:embed="rId1"/>
          <a:stretch/>
        </p:blipFill>
        <p:spPr>
          <a:xfrm>
            <a:off x="1274760" y="1152360"/>
            <a:ext cx="7753320" cy="5139000"/>
          </a:xfrm>
          <a:prstGeom prst="rect">
            <a:avLst/>
          </a:prstGeom>
          <a:ln w="0">
            <a:noFill/>
          </a:ln>
        </p:spPr>
      </p:pic>
      <p:sp>
        <p:nvSpPr>
          <p:cNvPr id="510" name="TextShape 2"/>
          <p:cNvSpPr/>
          <p:nvPr/>
        </p:nvSpPr>
        <p:spPr>
          <a:xfrm>
            <a:off x="-6192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               </a:t>
            </a:r>
            <a:r>
              <a:rPr b="0" lang="cs-CZ" sz="3600" spc="-1" strike="noStrike">
                <a:solidFill>
                  <a:srgbClr val="ffff00"/>
                </a:solidFill>
                <a:latin typeface="Calibri"/>
                <a:ea typeface="DejaVu Sans"/>
              </a:rPr>
              <a:t>MZ a výstupní úroveň dle RVP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TextShape 3"/>
          <p:cNvSpPr/>
          <p:nvPr/>
        </p:nvSpPr>
        <p:spPr>
          <a:xfrm>
            <a:off x="70102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AB94E-5749-4BAF-B8C6-C2FB109AE7FC}" type="slidenum">
              <a:rPr b="1" lang="cs-CZ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Řečová bublina: oválný bublinový popisek 8"/>
          <p:cNvSpPr/>
          <p:nvPr/>
        </p:nvSpPr>
        <p:spPr>
          <a:xfrm>
            <a:off x="900000" y="1768320"/>
            <a:ext cx="1995480" cy="1551240"/>
          </a:xfrm>
          <a:prstGeom prst="wedgeEllipseCallout">
            <a:avLst>
              <a:gd name="adj1" fmla="val 26824"/>
              <a:gd name="adj2" fmla="val 92884"/>
            </a:avLst>
          </a:prstGeom>
          <a:solidFill>
            <a:srgbClr val="418e96"/>
          </a:solidFill>
          <a:ln w="25560">
            <a:solidFill>
              <a:srgbClr val="2d67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alibri"/>
              </a:rPr>
              <a:t>Společná část  - B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Řečová bublina: oválný bublinový popisek 9"/>
          <p:cNvSpPr/>
          <p:nvPr/>
        </p:nvSpPr>
        <p:spPr>
          <a:xfrm>
            <a:off x="4572000" y="1693800"/>
            <a:ext cx="2124000" cy="1498680"/>
          </a:xfrm>
          <a:prstGeom prst="wedgeEllipseCallout">
            <a:avLst>
              <a:gd name="adj1" fmla="val -26064"/>
              <a:gd name="adj2" fmla="val 105060"/>
            </a:avLst>
          </a:prstGeom>
          <a:solidFill>
            <a:srgbClr val="418e96"/>
          </a:solidFill>
          <a:ln w="25560">
            <a:solidFill>
              <a:srgbClr val="2d67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alibri"/>
              </a:rPr>
              <a:t>Profilová čás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ffffff"/>
                </a:solidFill>
                <a:latin typeface="Calibri"/>
              </a:rPr>
              <a:t>B2 u prvního cizího jazyk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Obdélník 4"/>
          <p:cNvSpPr/>
          <p:nvPr/>
        </p:nvSpPr>
        <p:spPr>
          <a:xfrm>
            <a:off x="8820000" y="-1440"/>
            <a:ext cx="648000" cy="318960"/>
          </a:xfrm>
          <a:prstGeom prst="rect">
            <a:avLst/>
          </a:prstGeom>
          <a:solidFill>
            <a:srgbClr val="418e96"/>
          </a:solidFill>
          <a:ln w="25560">
            <a:solidFill>
              <a:srgbClr val="2d67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Obdélník 7"/>
          <p:cNvSpPr/>
          <p:nvPr/>
        </p:nvSpPr>
        <p:spPr>
          <a:xfrm>
            <a:off x="4572000" y="4581360"/>
            <a:ext cx="576360" cy="582840"/>
          </a:xfrm>
          <a:prstGeom prst="rect">
            <a:avLst/>
          </a:prstGeom>
          <a:solidFill>
            <a:srgbClr val="418e96"/>
          </a:solidFill>
          <a:ln w="25560">
            <a:solidFill>
              <a:srgbClr val="2d67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alibri"/>
              </a:rPr>
              <a:t>P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6" name="Obrázek 14" descr=""/>
          <p:cNvPicPr/>
          <p:nvPr/>
        </p:nvPicPr>
        <p:blipFill>
          <a:blip r:embed="rId2"/>
          <a:stretch/>
        </p:blipFill>
        <p:spPr>
          <a:xfrm>
            <a:off x="2236680" y="4148280"/>
            <a:ext cx="3314880" cy="2390760"/>
          </a:xfrm>
          <a:prstGeom prst="rect">
            <a:avLst/>
          </a:prstGeom>
          <a:ln w="0">
            <a:noFill/>
          </a:ln>
        </p:spPr>
      </p:pic>
      <p:sp>
        <p:nvSpPr>
          <p:cNvPr id="517" name="Obdélník 15"/>
          <p:cNvSpPr/>
          <p:nvPr/>
        </p:nvSpPr>
        <p:spPr>
          <a:xfrm>
            <a:off x="1979640" y="4581360"/>
            <a:ext cx="576360" cy="582840"/>
          </a:xfrm>
          <a:prstGeom prst="rect">
            <a:avLst/>
          </a:prstGeom>
          <a:solidFill>
            <a:srgbClr val="418e96"/>
          </a:solidFill>
          <a:ln w="25560">
            <a:solidFill>
              <a:srgbClr val="2d67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alibri"/>
              </a:rPr>
              <a:t>D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Obdélník 19"/>
          <p:cNvSpPr/>
          <p:nvPr/>
        </p:nvSpPr>
        <p:spPr>
          <a:xfrm>
            <a:off x="4788000" y="5373720"/>
            <a:ext cx="747720" cy="376200"/>
          </a:xfrm>
          <a:prstGeom prst="rect">
            <a:avLst/>
          </a:prstGeom>
          <a:solidFill>
            <a:srgbClr val="418e96"/>
          </a:solidFill>
          <a:ln w="25560">
            <a:solidFill>
              <a:srgbClr val="2d67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alibri"/>
              </a:rPr>
              <a:t>P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Obdélník 20"/>
          <p:cNvSpPr/>
          <p:nvPr/>
        </p:nvSpPr>
        <p:spPr>
          <a:xfrm>
            <a:off x="4788000" y="5013360"/>
            <a:ext cx="747720" cy="360360"/>
          </a:xfrm>
          <a:prstGeom prst="rect">
            <a:avLst/>
          </a:prstGeom>
          <a:solidFill>
            <a:srgbClr val="418e96"/>
          </a:solidFill>
          <a:ln w="25560">
            <a:solidFill>
              <a:srgbClr val="2d67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alibri"/>
              </a:rPr>
              <a:t>Ú Z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Calibri"/>
              </a:rPr>
              <a:t>     </a:t>
            </a:r>
            <a:r>
              <a:rPr b="0" lang="cs-CZ" sz="4400" spc="-1" strike="noStrike">
                <a:solidFill>
                  <a:srgbClr val="ffff00"/>
                </a:solidFill>
                <a:latin typeface="Calibri"/>
              </a:rPr>
              <a:t>Dvě úrovně MZ v profilové část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Zástupný symbol pro číslo snímku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D5450-778D-419D-8F88-25B755BC1BD0}" type="slidenum">
              <a:rPr b="0" lang="cs-CZ" sz="18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2" name="Diagram 3" descr=""/>
          <p:cNvPicPr/>
          <p:nvPr/>
        </p:nvPicPr>
        <p:blipFill>
          <a:blip r:embed="rId1"/>
          <a:stretch/>
        </p:blipFill>
        <p:spPr>
          <a:xfrm>
            <a:off x="1511280" y="1365120"/>
            <a:ext cx="6127920" cy="41817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B1 ústní interak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Dokáže se vypořádat s většinou situací, které pravděpodobně nastanou při </a:t>
            </a: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cestování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v oblasti, kde se mluví daným jazykem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Může vstoupit nepřipravený do konverzace na </a:t>
            </a: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témata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která jsou mu známá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díky osobnímu zájmu nebo se týkají každodenního život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B2 ústní interak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Dokáže komunikovat s takovou mírou plynulosti a spontánnosti, která umožňuje </a:t>
            </a: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pravidelnou interakci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s uživateli cílového jazyk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Může se aktivně účastnit diskuse ve známých souvislostech, </a:t>
            </a: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obhájit a vysvětlit své názory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Zástupný symbol pro číslo snímku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8CCFC-84F8-46DC-B797-70C77377F5DB}" type="slidenum">
              <a:rPr b="0" lang="cs-CZ" sz="18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 type="title"/>
          </p:nvPr>
        </p:nvSpPr>
        <p:spPr>
          <a:xfrm>
            <a:off x="539280" y="361800"/>
            <a:ext cx="741708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Calibri"/>
                <a:ea typeface="Arial"/>
              </a:rPr>
              <a:t>                   </a:t>
            </a:r>
            <a:r>
              <a:rPr b="0" lang="cs-CZ" sz="4400" spc="-1" strike="noStrike">
                <a:solidFill>
                  <a:srgbClr val="ffff00"/>
                </a:solidFill>
                <a:latin typeface="Calibri"/>
                <a:ea typeface="Arial"/>
              </a:rPr>
              <a:t>Ústní interakce B1 – B2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  <a:ea typeface="Arial"/>
              </a:rPr>
              <a:t>zdroj Companion volume 2020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Calibri"/>
              </a:rPr>
              <a:t>Ústní produkce </a:t>
            </a:r>
            <a:r>
              <a:rPr b="0" lang="cs-CZ" sz="4400" spc="-1" strike="noStrike">
                <a:solidFill>
                  <a:srgbClr val="ffff00"/>
                </a:solidFill>
                <a:latin typeface="Calibri"/>
                <a:ea typeface="Arial"/>
              </a:rPr>
              <a:t>B1 – B2</a:t>
            </a:r>
            <a:br>
              <a:rPr sz="4400"/>
            </a:br>
            <a:r>
              <a:rPr b="0" lang="cs-CZ" sz="1800" spc="-1" strike="noStrike">
                <a:solidFill>
                  <a:srgbClr val="000000"/>
                </a:solidFill>
                <a:latin typeface="Calibri"/>
                <a:ea typeface="Arial"/>
              </a:rPr>
              <a:t>zdroj Companion volume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B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Umí 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jednoduchým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způsobem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Arial"/>
              </a:rPr>
              <a:t>spojit věty tak, aby 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  <a:ea typeface="Arial"/>
              </a:rPr>
              <a:t>popsal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Arial"/>
              </a:rPr>
              <a:t>zážitky a události, své sny, naděje a ambic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Arial"/>
              </a:rPr>
              <a:t>Stručně může uvést 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  <a:ea typeface="Arial"/>
              </a:rPr>
              <a:t>důvody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Arial"/>
              </a:rPr>
              <a:t> a vysvětlit názorů a plánů. Dokáže 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  <a:ea typeface="Arial"/>
              </a:rPr>
              <a:t>vyprávět příběh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Arial"/>
              </a:rPr>
              <a:t>nebo spojit děj knihy nebo filmu a popsat své reakce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B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Dokáže předložit jasné a 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podrobné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popisy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k 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širokému spektru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témat souvisejících s jeho zálibam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Dokáže se vyjádřit k 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  <a:ea typeface="Arial"/>
              </a:rPr>
              <a:t>aktuálním problémům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Arial"/>
              </a:rPr>
              <a:t>a 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  <a:ea typeface="Arial"/>
              </a:rPr>
              <a:t>popsat výhody a nevýhody různých možností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Zástupný symbol pro číslo snímku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A9405-A2BA-4602-9488-17C1E5E98C1D}" type="slidenum">
              <a:rPr b="0" lang="cs-CZ" sz="18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Rectangle 1"/>
          <p:cNvSpPr/>
          <p:nvPr/>
        </p:nvSpPr>
        <p:spPr>
          <a:xfrm>
            <a:off x="3240" y="105480"/>
            <a:ext cx="23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 Unicode MS"/>
                <a:ea typeface="Arial"/>
              </a:rPr>
              <a:t>.</a:t>
            </a:r>
            <a:r>
              <a:rPr b="0" lang="cs-CZ" sz="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Rectangle 10"/>
          <p:cNvSpPr/>
          <p:nvPr/>
        </p:nvSpPr>
        <p:spPr>
          <a:xfrm>
            <a:off x="3240" y="105480"/>
            <a:ext cx="23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 Unicode MS"/>
                <a:ea typeface="Arial"/>
              </a:rPr>
              <a:t>.</a:t>
            </a:r>
            <a:r>
              <a:rPr b="0" lang="cs-CZ" sz="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Calibri"/>
              </a:rPr>
              <a:t>Mediace a text </a:t>
            </a:r>
            <a:r>
              <a:rPr b="0" lang="cs-CZ" sz="4400" spc="-1" strike="noStrike">
                <a:solidFill>
                  <a:srgbClr val="ffff00"/>
                </a:solidFill>
                <a:latin typeface="Calibri"/>
                <a:ea typeface="Arial"/>
              </a:rPr>
              <a:t>B1 – B2</a:t>
            </a:r>
            <a:r>
              <a:rPr b="0" lang="cs-CZ" sz="4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br>
              <a:rPr sz="4400"/>
            </a:br>
            <a:r>
              <a:rPr b="0" lang="cs-CZ" sz="2000" spc="-1" strike="noStrike">
                <a:solidFill>
                  <a:srgbClr val="000000"/>
                </a:solidFill>
                <a:latin typeface="Calibri"/>
                <a:ea typeface="Arial"/>
              </a:rPr>
              <a:t>zdroj Companion volume 20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B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Dokáže předat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Arial"/>
              </a:rPr>
              <a:t>informace podané v jasných, dobře strukturovaných informačních textech k tématům, která jsou známá nebo která 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  <a:ea typeface="Arial"/>
              </a:rPr>
              <a:t>osobně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Arial"/>
              </a:rPr>
              <a:t> nebo aktuálně 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  <a:ea typeface="Arial"/>
              </a:rPr>
              <a:t>zajímají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B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Spolehlivě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Arial"/>
              </a:rPr>
              <a:t>předá podrobné informace a 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  <a:ea typeface="Arial"/>
              </a:rPr>
              <a:t>argumenty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Arial"/>
              </a:rPr>
              <a:t>, např. důležitý bod obsažený ve složitých, ale dobře strukturovaných textech v mých zálibách profesního, akademického a osobního zájmu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Zástupný symbol pro číslo snímku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6E2C1-78DF-4D29-99E1-F5D56EE54C66}" type="slidenum">
              <a:rPr b="0" lang="cs-CZ" sz="18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Rectangle 4"/>
          <p:cNvSpPr/>
          <p:nvPr/>
        </p:nvSpPr>
        <p:spPr>
          <a:xfrm>
            <a:off x="155520" y="257760"/>
            <a:ext cx="214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 Unicode MS"/>
                <a:ea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09T10:41:53Z</dcterms:created>
  <dc:creator>User</dc:creator>
  <dc:description/>
  <dc:language>en-US</dc:language>
  <cp:lastModifiedBy>Černíková Marie</cp:lastModifiedBy>
  <cp:lastPrinted>2021-09-29T13:54:03Z</cp:lastPrinted>
  <dcterms:modified xsi:type="dcterms:W3CDTF">2021-09-29T15:59:36Z</dcterms:modified>
  <cp:revision>457</cp:revision>
  <dc:subject/>
  <dc:title>Státní podpora sportu  pro rok 2013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HiddenSlides">
    <vt:r8>0</vt:r8>
  </property>
  <property fmtid="{D5CDD505-2E9C-101B-9397-08002B2CF9AE}" pid="3" name="HyperlinksChanged">
    <vt:bool>0</vt:bool>
  </property>
  <property fmtid="{D5CDD505-2E9C-101B-9397-08002B2CF9AE}" pid="4" name="LinksUpToDate">
    <vt:bool>0</vt:bool>
  </property>
  <property fmtid="{D5CDD505-2E9C-101B-9397-08002B2CF9AE}" pid="5" name="MMClips">
    <vt:r8>1</vt:r8>
  </property>
  <property fmtid="{D5CDD505-2E9C-101B-9397-08002B2CF9AE}" pid="6" name="Notes">
    <vt:r8>0</vt:r8>
  </property>
  <property fmtid="{D5CDD505-2E9C-101B-9397-08002B2CF9AE}" pid="7" name="PresentationFormat">
    <vt:lpwstr>Předvádění na obrazovce (4:3)</vt:lpwstr>
  </property>
  <property fmtid="{D5CDD505-2E9C-101B-9397-08002B2CF9AE}" pid="8" name="ScaleCrop">
    <vt:bool>0</vt:bool>
  </property>
  <property fmtid="{D5CDD505-2E9C-101B-9397-08002B2CF9AE}" pid="9" name="ShareDoc">
    <vt:bool>0</vt:bool>
  </property>
  <property fmtid="{D5CDD505-2E9C-101B-9397-08002B2CF9AE}" pid="10" name="Slides">
    <vt:r8>15</vt:r8>
  </property>
</Properties>
</file>