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64A5-D52D-4759-8461-95561AE9EA7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9266-5003-4FCC-AF37-80B43F0CD2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ulka č. 5: Vztah životních orientací a úrovně zralosti osob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ide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VITEL, MUD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l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JAGO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VAZN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v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BĚRATE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NÁLEZ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8BE9-B1D3-426D-994F-EC25B823CB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D3A0-0486-4E0D-AEF5-50AF1A97E4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8EA-56D2-4F96-8FC5-5B14A4E779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0A83-019B-4F33-9BF2-BE2C661C640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D791-72E4-46F0-BADD-1690C1D5944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08DD-BD8C-471A-AAA1-ACCB3B0104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32FC-F9EE-405A-912E-D8A41BB460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CD2-31CA-417A-9E96-167BB7B5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7BC-32BE-40EC-BAF8-6B22F65E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1D3-9854-427C-AFCC-53FEEBD1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79F-6654-4CB5-82E9-A0A05985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4F0A-E6B9-4B70-BC44-CBE3BB23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B306-B0EB-4A80-BF61-9F13E12E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98E6-63F3-41FB-AC4D-517457DB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ABBE-645C-445A-B892-D407F294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22EC-531D-4E99-8567-678D8D1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2C6-7FF3-4B1D-9B00-914EB526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D64D-9DDB-407F-8D86-72CF3EB2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BE7-D8AE-4AAA-A145-03FED532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034A-B28A-4CD3-A2A2-B5652C7A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6346-96D7-427A-AA1D-A2EF44DD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7D8C-D10F-42A7-8BDC-1D6ED982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E402-FBC6-4224-93B6-BA33EE0A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9434-C3C2-4EF6-AB37-FFB58397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65D-041D-49ED-A4C3-8D6DC60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5F5-24C9-41B4-BF5C-A9958AF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829-96A4-4770-8560-00F0DB36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783-2869-44B7-93AB-03DF6478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DDD-FC46-4DC0-B5BD-561B8F01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99F-81E0-4811-880F-2FCD7E2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1B9-D1B1-4F83-BF4C-015BB091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0924-1AA5-4660-903D-F68B39C9F647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4040-593D-45D0-90E4-452CBB759354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56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53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Prof. PhDr. Vladimír Smékal, CSc.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stitut pro výzkum dětí, mládeže a rodin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SS MU, Br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OSOBNOSTNÍ A SOCIÁLNÍ PŘEDPOKLADY 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ETICKÉ KULTURY OSOBNOSTI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Jak je využívat v etické výchově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3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Osobnost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konstituce a temperamen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zaměřenosti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tylů zvládání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intelektu</a:t>
            </a:r>
            <a:br>
              <a:rPr sz="3500"/>
            </a:br>
            <a:r>
              <a:rPr b="0" lang="en-US" sz="3500" spc="-1" strike="noStrike">
                <a:solidFill>
                  <a:srgbClr val="ffffcc"/>
                </a:solidFill>
                <a:latin typeface="Times New Roman"/>
              </a:rPr>
              <a:t>Funkce sebepojetí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F24-FD98-4852-B60A-1D5C034073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1052640"/>
            <a:ext cx="8885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Styly morálky podle D. Wrigh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2060640"/>
          <a:ext cx="8424720" cy="4105080"/>
        </p:xfrm>
        <a:graphic>
          <a:graphicData uri="http://schemas.openxmlformats.org/drawingml/2006/table">
            <a:tbl>
              <a:tblPr/>
              <a:tblGrid>
                <a:gridCol w="1758960"/>
                <a:gridCol w="2454120"/>
                <a:gridCol w="2498760"/>
                <a:gridCol w="1712880"/>
              </a:tblGrid>
              <a:tr h="5414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ax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 dospělých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RAVNĚ ZRALÝ  STYL PROSOCIÁLNÍ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řevaha vlivu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rstevníků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UVĚDOMĚLÝ ODPOVĚD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ŽIVELNĚ PROSOCIÁL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ALKULATIVNÍ TYP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KONFORMNÍ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OVLIVNITELN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TYL OVLÁDANÝ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IMPULZY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MORÁLNÍ EGOCENTRICKÝ STY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minimum odpovědnosti a ohleduplnosti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BE7-85B8-4A6E-A1FC-DCDCD85ED1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Morální instance jako překlápění </a:t>
            </a:r>
            <a:br>
              <a:rPr sz="3600"/>
            </a:b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vývojového v inteindividuál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ffcc"/>
                </a:solidFill>
                <a:latin typeface="Times New Roman"/>
              </a:rPr>
              <a:t>Vývojová typologie J. Loevingerové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Jiný přístup k určení vývojových stupňů vypracovala J. Loevingerová (1969). Zabývá se otázkou, jak se během vývoje utváří v osobnosti kontrolní instance, rostoucí způsobilost kontrolovat své impulsy a podřizovat nižší vyššímu. Tento růst seberegulace se dá také charakterizovat jako vývoj jáství, svědomí, morálky, resp. jako vývoj k odpovědnosti za své činy a k ohleduplnosti (uvážlivosti) ve vztahu k druhým a ke světu vůbec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cc"/>
                </a:solidFill>
                <a:latin typeface="Times New Roman"/>
              </a:rPr>
              <a:t>V uvažování o osobnosti jako celku budeme na tyto vývojové typy pohlížet jako na struktury, které se mohou v kterémkoliv vývojovém období zafixovat a přetrvávat; znamená to, že osobnostní vývoj se zastavil, přestože fyzicky se osobnost vyvíjí dále. Toto překlápění vývojového v interindividuální je stále častějším důsledkem nerovnoměrnosti v utváření osobnosti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E55-C4F5-430D-8507-E5BC807619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69192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1341000"/>
            <a:ext cx="8896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vnímu roku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odpovídá stadium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autistické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ředsociál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druhý a třetí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normáln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být ovládán impulsy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(stadium impulsivní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ro čtvrtý až osmý či desátý rok života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přirozené být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oportunistický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Osmý či desátý až čtrnáctý či šestnáctý rok věk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je období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konformn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Po šestnáctém roce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se někteří dospívající dostávají na úroveň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uvědomělou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, jednají v souladu s normou, protože ji schvalují jako svou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povinnos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cc"/>
                </a:solidFill>
                <a:latin typeface="Times New Roman"/>
              </a:rPr>
              <a:t>Šesté stadium předpokládá dospělost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 a je označováno jako</a:t>
            </a:r>
            <a:r>
              <a:rPr b="1" lang="cs-CZ" sz="2600" spc="-1" strike="noStrike">
                <a:solidFill>
                  <a:srgbClr val="ffffcc"/>
                </a:solidFill>
                <a:latin typeface="Times New Roman"/>
              </a:rPr>
              <a:t> seberealizující</a:t>
            </a:r>
            <a:r>
              <a:rPr b="0" lang="cs-CZ" sz="2600" spc="-1" strike="noStrike">
                <a:solidFill>
                  <a:srgbClr val="ffffcc"/>
                </a:solidFill>
                <a:latin typeface="Times New Roman"/>
              </a:rPr>
              <a:t>.  Jednání podle morálních norem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C4D-6FE1-48DD-8123-AE42AC5CA2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65000"/>
            <a:ext cx="79232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ztah životních orientací a úrovně zralosti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3887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TRU-KTIVNÍ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ONZU-MEN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VŮR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idej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ni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no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ysli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lid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ag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závazný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ád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 věci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anda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běrate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9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ynálezc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208-1D3D-4B4F-A638-96E5E2A81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Zdroje rozdílů mezi lidm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1828440"/>
            <a:ext cx="8896320" cy="433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sychologie individuálních rozdílů mezi lidmi konstatuje, že rozhodující zdroj povahových odlišností tkví v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cializ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v tradici a zvycích, které jsou přenášeny       a udržovány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nikoliv však geny), v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ýchov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a  v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dividuac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netické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vysvětlování psychických rozdílů mezi lidmi končí dříve nebo později v resignaci na možnost změny osobnosti. Osobnost se tvoří spíš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em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FA0-716E-4E53-A14A-7A60D7F2C019}" type="slidenum">
              <a:t>15</a:t>
            </a:fld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5180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4.</a:t>
            </a:r>
            <a:br>
              <a:rPr sz="4700"/>
            </a:br>
            <a:r>
              <a:rPr b="1" lang="en-US" sz="4700" spc="-1" strike="noStrike">
                <a:solidFill>
                  <a:srgbClr val="ccccff"/>
                </a:solidFill>
                <a:latin typeface="Times New Roman"/>
              </a:rPr>
              <a:t>Aktuální geneze mravního činu</a:t>
            </a:r>
            <a:br>
              <a:rPr sz="4700"/>
            </a:b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rocesuální přístup k analýze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sychologických podmínek </a:t>
            </a:r>
            <a:br>
              <a:rPr sz="3200"/>
            </a:b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9F4-E7B0-46AD-BE63-5008C303B6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ccff"/>
                </a:solidFill>
                <a:latin typeface="Times New Roman"/>
              </a:rPr>
              <a:t>Kohlbergův model morálního vývoj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rvní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re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je nejnižší úroveň morálního vývoje. Aktivity dětí na této úrovni nevykazují žádnou internalizaci morálních hodnot; morální usuzování je určováno vnějšími odměnami a tres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Druhá úroveň –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– zahrnuje jedince, kteří internalizovali určité standardy, ale jde o standardy druhých (rodičů, sociálních norem atd.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V rámci třetí úrovně morálního vývoje – má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Postkonvenční usuzování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jednotlivců komplexně internalizovaný morální standardy, a již žádný důvod založený na standardech druhých (Kohlberg, 1978). Např. člověk, který je na šestém stádiu konfrontován s konfliktem mezi zákonem a etickou vědomou vůlí, bude respektovat etické vědomí, i když tím riskuje svou osobní pohodu (Santrock, 1997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663-CFFA-43EB-BEB6-A95D4E13B0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Komentář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Kohlbergův model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stojí na třech hierarchických úrovních, z nichž každá má dvě stádia. Na každém stádiu se důvody, které jedinec uvádí na obhajobu jednotlivých odpovědí na morální dilemata, stávají složitějšími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Kohlberg ujišťuje, že morální myšlení se může vyvíjet na základě výchovy, díky sociální interakci, kognitivním konfliktům, pozitivní morální atmosféře a demokratické participaci (Kohlberg, 196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ájí na spravedlnosti založený komunitní přístup k výchově, která staví na rovnosti účastníků, na „vlastnictví“ rozhodování každého člena skupiny a na učiteli, který hájí zralé morální usuzování, ale nepředkládá mravní principy autoritativním způsobem. (Harding&amp;Snyder, 1991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2E6-4540-4E5B-9104-8AEFEB49DF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ccccff"/>
                </a:solidFill>
                <a:latin typeface="Times New Roman"/>
              </a:rPr>
              <a:t>Selmanův mode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vým výzkumem R. L. Selman vytvořil stádia přejímání sociálních rolí (social role taking stages), které je možno chápat jako spojení mezi Piagetovými stádii logického usuzování a Kohlbergovými stádii morálního usuzování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Jeho model sestává ze čtyř vzájemně interagujících komponent: logického usuzování, mravního usuzování, přejímání sociálních rolí a informací (Lozzi, 1990) Seman klade důraz na úlohu zkušenosti a učení, takže pokrok v zaujímání sociální perspektivy závisí hlavně na zkušenostech člověka s druhými, včetně vhodné sociální stimulace a výchovy. Postup na vyšší úrovně zaujímání sociální perspektivy závisí hlavně na správných sociálních zkušenostech (Atwood, 199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F9F-8F43-44C2-BD22-1206BB966B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tto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Rozhodl jsem se, že se přestanu zabýva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studiem neživé přírod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 pokusím se pochopi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jak je to možn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že člověk sice ví, co je dobr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0e020"/>
                </a:solidFill>
                <a:latin typeface="Times New Roman"/>
              </a:rPr>
              <a:t>ale dělá to, co je zlé</a:t>
            </a:r>
            <a:r>
              <a:rPr b="0" lang="en-US" sz="3200" spc="-1" strike="noStrike">
                <a:solidFill>
                  <a:srgbClr val="e0e02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krat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050-F478-43E3-B401-5F12D1B5C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ccff"/>
                </a:solidFill>
                <a:latin typeface="Times New Roman"/>
              </a:rPr>
              <a:t>Pět stádií morálního vývoje podle Selmana: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000" y="1628280"/>
            <a:ext cx="889632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0 (3 – 6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Děti nedovedou jasně rozlišovat mezi jejich vlastní interpretací situací a hlediskem druhéh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1 (5 – 9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čkoliv si děti uvědomují, že druzí mohou mít odlišné názory (hlediska) než oni, nejsou s to chápat tyto názory (hlediska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2 ((7 – 12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Starší děti a preadolescenti jsou s to nahlížet na své myšlenky a city z hlediska druhých, ale nejsou s to podržet obě perspektivy současně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3 ((10 – 15 le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Adolescenti se dokáží vymanit ze svých způsobů nahlížení i z hledisek druhých, a dokáží zaujmout neutrální perspektivu třetí osob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cc"/>
                </a:solidFill>
                <a:latin typeface="Times New Roman"/>
              </a:rPr>
              <a:t>Stádium 4 (adolescence – dospělost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Lidé na této úrovni zralosti jsou s to chápat své myšlenky a jednání na více abstraktní úrovni, která zahrnuje generalizovanou societální perspektivu (Seman, 198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816-944A-4661-87C2-463C1AE030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ccff"/>
                </a:solidFill>
                <a:latin typeface="Times New Roman"/>
              </a:rPr>
              <a:t>Restův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1700280"/>
            <a:ext cx="88963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Na rozdíl od Piageta a Kohlberga, kteří pojednávají o logickém a morálním usuzování, James Rest poskytuje rámec pro porozumění morálnímu chování. Jeho čtyřkomponentový model obsahuje morální citlivost, morální úsudek, morální rozhodování a morální č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Rest uzavírá, že jeho návrh by měl být využit jako východisko pro formulování cílů programu etické výchov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Efektivní výchova charakteru by měla respektovat vývojové úrovně dětí a vytvářet program podle ni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A7A-1D2B-433F-B876-843A78CC22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Fáze morálního rozhodován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citlivos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poznání, že existuje situace, v níž morální jednání může být žádoucí a že takové činy mohou mít následky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úsude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e úsudek o tom, co je žádoucí udělat, zatím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rozhodován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zahrnuje posuzování alternativ a zvažování pro a proti ve světle jejich pravděpodobných následků pro aktéra a pro druhé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Morální či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e týká vůle a dovedností uskutečnit rozhodnutí (Rest, 1983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315-EC72-4B76-944A-457FB23518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ituační podmínk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ntex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ádě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íležit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59D-0CD0-4B52-8C6C-8C2F4D259A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oziční podmínky čin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ztah k oblasti, která vyžaduje jednání či reagová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ijetí určitého etického kodex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777-587B-4441-930A-7BC98A8982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Momentální stav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Zdrav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ála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cházející udál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B4F-81B4-4F0B-871E-3C9AA9C848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40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5.</a:t>
            </a:r>
            <a:br>
              <a:rPr sz="5400"/>
            </a:b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Jak realizovat etickou výchov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AFE-41B1-4A7E-91FA-8E14F0AC47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914400"/>
            <a:ext cx="5632200" cy="539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stav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8%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ism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Times New Roman"/>
              </a:rPr>
              <a:t>,                                      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yzařování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4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195280" y="2133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500720" y="981000"/>
            <a:ext cx="1440" cy="963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3573360"/>
            <a:ext cx="2376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ompet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E2F-D8D4-4660-BADC-31C08035B8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640" y="871560"/>
            <a:ext cx="8885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tickou výchovu lze realizovat jen  interaktivně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vat metody dramatické výchov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kovat metodu přirozených následk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yužít situace – umět improvizov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kušenost s vlivem eticky laděných pohádek na etickou kulturu osob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osofie pro děti /s dětmi - Sokrates pro šestileté školá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užívat induktivní metodu – vést žáky k vyvozování pravidel a pak je zakotvovat v kodex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5AB-F858-4702-A536-B153C668BD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zdělit tříd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čitel musí pracovat na sob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i institucionální a státní zaměstnanecké politiky: Podporovat prestiž a status učitelského povol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 úrovní osobní a sociální kultury – Dbát o svou pověst, nekazit si ji důvody k fámám o neuspořádaném osobním život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185-74C9-417A-B439-8E3A051A53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 je etická kultura osobnost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ciální podmínky etické kultu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Osobnostní podmínky etické kultur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Aktuální geneze mravního čin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imes New Roman"/>
              </a:rPr>
              <a:t>Jak realizovat etickou výchovu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E0E-B9D8-4FE6-A50D-D1B4F2F71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jící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ředsudky – odpor – přenos, protipř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íra tolerance k odliš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m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ipat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7B4-AB07-41E0-B200-16F2E43C05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sobní rovnice vychovávanéh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citlivosti (psychické „alergie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blasti necitlivosti (psychosociální filtry, „slepé skvrny“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38200" indent="-5382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ředsud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D2C-CA6C-45A7-B01D-E1DF83E1B7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88516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žáka a okolnosti, které jej formovaly či deformov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tendence k projekci a k haló efektu v hodnoc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sklony k atribucím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nát své filtry zkreslující poznávání lid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8D2-AA0C-42CD-94CC-9963EAE51B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2204640"/>
            <a:ext cx="888516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Times New Roman"/>
              </a:rPr>
              <a:t>Závěr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0C0-1F79-4E7C-AA8F-46002E4022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změně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5000" y="1915920"/>
            <a:ext cx="889632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ejsnáze lze změnit řeč člověka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tížněji se dá změnit chování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ještě méně snadná je změna smýšlení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e vůbec nejobtížnější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92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je změna lidského srdc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E3F-F5ED-483D-B10D-2232409DDB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9009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O síle víry v člově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1773000"/>
            <a:ext cx="889632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Jednáme-li s lidmi podle toho,       jací jsou, činíme je horšími.   Jednáme-li s nimi, jako by už byli tím,             čím mohou být,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ffff00"/>
                </a:solidFill>
                <a:latin typeface="Times New Roman"/>
              </a:rPr>
              <a:t>zavedeme je tam, kam je chceme zavés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. W. Goe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009-3518-4000-BDD6-2EC9F9B5B1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Poselstv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1989000"/>
            <a:ext cx="8896320" cy="42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Žij tak, jako bys žil po druhé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 snaž se ve svém jednání vyvarovat chyb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které bys v něm udělal poprvé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vět je ve špatném stavu a všechno bude ještě horší, pokud každý z nás neudělá to nejlepší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Osvětimi víme, čeho je člověk schope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od Hirošimy víme, co vše je v sáz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ccff"/>
                </a:solidFill>
                <a:latin typeface="Times New Roman"/>
              </a:rPr>
              <a:t>V. E. Frank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0F7-EEBB-466E-A1A7-5D2B45049E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1. Co je etická kultura osobnost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115720"/>
            <a:ext cx="864216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laté pravidlo mravnosti jako směrnice prožívání a jednání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Uplatňování empatie ve vztazích k druhým lidem 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Prosociální orientac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Zaujímání sociální perspektiv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Respekt k oprávněným zájmům druhých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08E-CFC0-486F-929E-75E4D9A9BC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981000"/>
            <a:ext cx="8829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2.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ociokulturní podmínky </a:t>
            </a:r>
            <a:br>
              <a:rPr sz="4800"/>
            </a:b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tické kultury osobnosti</a:t>
            </a:r>
            <a:br>
              <a:rPr sz="48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širší podmínky života („duch doby“)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dinná situac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zice dítěte v rodině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CDC-4068-473D-929A-BE5C9CADC5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Jeden z největších světových historiků 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Edward Gibbon (1737-1794)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uvádí následujících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pět hlavních příčin rozkladu a pádu římské civilizac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49600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hroucení rodinné struktury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Oslabení smyslu pro osobní zodpovědnost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adměrné daně, striktní řízení a vládní intervence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Vyhledávání takových zábav, které se stávaly stále více  hedonistickými, násilnými a nemorálními,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Úpadek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náboženství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089-4EBD-49B1-8320-A2104C6B41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M. Gándhí pranýřoval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ccccff"/>
                </a:solidFill>
                <a:latin typeface="Times New Roman"/>
              </a:rPr>
              <a:t>sedm moderních sociálních hříchů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ku bez principů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dnikání bez morálk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hatství bez prác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ýchovu bez charakteru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ědu bez lidskosti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žitek bez svědomí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áboženství bez sebekáznění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2AE-5E50-4043-9054-998782DFCC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8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Sdružené prostřed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1844280"/>
            <a:ext cx="8896320" cy="44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Už Antifonés konstatoval, že </a:t>
            </a: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„Prostředí, kde se člověk zdržuje většinu dne, určuje jeho charakter.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e školní výchově se málo bere v úvahu úloha citové vazby (attache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zice dítěte v rodině, workoholismus rodičů, partnerské kri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Chudoba, sociální zanedbanost vedou k morálním dilematům -  zakomplexovanosti,  sklonu krást, závidět, šikanovat, ale i k apatii a sociální necitliv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209-A2DD-4007-B753-905DEACCB2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rovnání nejčastějších přestupků dětí a dospívajících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e veřejných školách USA </a:t>
            </a:r>
            <a:br>
              <a:rPr sz="2800"/>
            </a:b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na konci třicátých a na konci osmdesátých let 20. st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032360" cy="404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luvení bez přihláš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Žvýkání žvýkač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lu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bíhání po chodbá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ředbíhá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edodržování  předepsaného obleče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ečišťování prost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240" y="2205000"/>
            <a:ext cx="4010040" cy="38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990 - 200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Používání mobilu k hraní 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Užívání drog, pití alkohol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hotenství nezletilých dív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ebevražd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Znásilněn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Krádež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ěžké ublížení na zdra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erorismus, agrese a nási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tická kultura osobnost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C5F-B8DE-4167-9616-E933DADA60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6:55:10Z</dcterms:created>
  <dc:creator>Prof. PhDr. Vladimír Smékal</dc:creator>
  <dc:description/>
  <dc:language>en-US</dc:language>
  <cp:lastModifiedBy>rauchova</cp:lastModifiedBy>
  <dcterms:modified xsi:type="dcterms:W3CDTF">2009-06-12T10:15:54Z</dcterms:modified>
  <cp:revision>35</cp:revision>
  <dc:subject/>
  <dc:title>Psychologie osobnosti  ve  výchově a vedení lidí</dc:title>
</cp:coreProperties>
</file>