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BF64-2AF6-438C-9C4C-E75373A7753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E622-D9D0-4BA7-A7C2-64748A5C077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ulka č. 5: Vztah životních orientací a úrovně zralosti osobno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ide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VITEL, MUD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li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JAGO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ZÁVAZN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D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v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SBĚRATEL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NÁLEZ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B6F0-FD5E-42E2-B403-CF081D603D3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8CFE-DC92-4C5D-8774-DE8CD72ACC0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69FE-4516-4B3F-9DCF-F6C178788E4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15A6-A292-4CA1-A776-6293F330341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8B8A-BA0F-4CDD-B1C9-1F37B92F7A1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07B4-3F67-4C6A-8B00-7D30222536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CF83-5C10-4943-AC9C-678C6E45175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A92F-B5EC-4BF3-8FF0-00ECCFF1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B6B-8A24-4934-9CD5-F09C188C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8BE-0BF7-4D66-B787-D01788C1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15B-E4AD-4EF7-87CA-467CB5AE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817A-C487-4201-BB1E-A43350D2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A84B-CFDF-4379-8E14-DA6549BB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A02A-EF4B-4387-821D-3DF1CBF6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15CD-FBC1-478A-8B00-A564B66C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A060-D397-4722-BF60-DE5C9220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F2A5-1566-4F7A-8007-E6EF15B6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1B2B-D278-46BF-83B9-68470699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CE9-E245-4A9C-AAB0-A9A5A111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0C72-25D8-47FA-A26F-FD722D67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A88A-3EDD-473A-9560-1BBAF1CA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7178-A66C-4DE2-B96F-1AD8F175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E24D-E6B6-4C3E-848C-AB23595F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E653-1B77-4C33-9CC9-02D0C5AA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809-4E9A-4EFC-B95B-D5DA4086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4E9-569C-4ADE-8341-A2AC0A60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14FA-C28D-42A2-A9E6-5905A4E7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51A-9DE5-4BFF-9BDF-C51BECB5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06F-4616-4780-BF1A-A905BD59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0A99-9445-43E6-AC42-F4686A10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E87-53BE-49A4-859F-31B75DBD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61F9-AB2D-4B39-A4D4-E7A5E4250043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8B87-F058-4D5F-B684-53D7EC0E334E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308720" y="4869000"/>
            <a:ext cx="1656000" cy="1566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83534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Prof. PhDr. Vladimír Smékal, CSc.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stitut pro výzkum dětí, mládeže a rodin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SS MU, Br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856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OSOBNOSTNÍ A SOCIÁLNÍ PŘEDPOKLADY </a:t>
            </a: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ETICKÉ KULTURY OSOBNOSTI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Jak je využívat v etické výchově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3.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Osobnostní podmínky 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br>
              <a:rPr sz="48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konstituce a temperamentu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zaměřenosti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stylů zvládání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intelektu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sebepojetí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816-71C2-43F0-887D-7859B299B4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1052640"/>
            <a:ext cx="88851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Styly morálky podle D. Wright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95280" y="2060640"/>
          <a:ext cx="8424720" cy="4105080"/>
        </p:xfrm>
        <a:graphic>
          <a:graphicData uri="http://schemas.openxmlformats.org/drawingml/2006/table">
            <a:tbl>
              <a:tblPr/>
              <a:tblGrid>
                <a:gridCol w="1758960"/>
                <a:gridCol w="2454120"/>
                <a:gridCol w="2498760"/>
                <a:gridCol w="1712880"/>
              </a:tblGrid>
              <a:tr h="541440"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aximum odpovědnosti a ohleduplnosti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rowSpan="5">
                  <a:txBody>
                    <a:bodyPr lIns="92160" rIns="92160" tIns="46080" bIns="4608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řevaha vlivu dospělých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RAVNĚ ZRALÝ  STYL PROSOCIÁLNÍ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řevaha vlivu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vrstevníků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UVĚDOMĚLÝ ODPOVĚDN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ŽIVELNĚ PROSOCIÁLNÍ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ALKULATIVNÍ TYP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ONFORMNÍ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VLIVNITELN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TYL OVLÁDANÝ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MPULZY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MORÁLNÍ EGOCENTRICK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inimum odpovědnosti a ohleduplnosti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AB9-1597-44D5-B465-EA1D866504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102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Morální instance jako překlápění </a:t>
            </a:r>
            <a:br>
              <a:rPr sz="3600"/>
            </a:b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vývojového v inteindividuál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ffcc"/>
                </a:solidFill>
                <a:latin typeface="Times New Roman"/>
              </a:rPr>
              <a:t>Vývojová typologie J. Loevingerové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cc"/>
                </a:solidFill>
                <a:latin typeface="Times New Roman"/>
              </a:rPr>
              <a:t>Jiný přístup k určení vývojových stupňů vypracovala J. Loevingerová (1969). Zabývá se otázkou, jak se během vývoje utváří v osobnosti kontrolní instance, rostoucí způsobilost kontrolovat své impulsy a podřizovat nižší vyššímu. Tento růst seberegulace se dá také charakterizovat jako vývoj jáství, svědomí, morálky, resp. jako vývoj k odpovědnosti za své činy a k ohleduplnosti (uvážlivosti) ve vztahu k druhým a ke světu vůbec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cc"/>
                </a:solidFill>
                <a:latin typeface="Times New Roman"/>
              </a:rPr>
              <a:t>V uvažování o osobnosti jako celku budeme na tyto vývojové typy pohlížet jako na struktury, které se mohou v kterémkoliv vývojovém období zafixovat a přetrvávat; znamená to, že osobnostní vývoj se zastavil, přestože fyzicky se osobnost vyvíjí dále. Toto překlápění vývojového v interindividuální je stále častějším důsledkem nerovnoměrnosti v utváření osobnosti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FEF-1368-4388-98B0-A4F2696FA0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691920"/>
            <a:ext cx="8885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5000" y="1341000"/>
            <a:ext cx="88963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vnímu roku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odpovídá stadium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autistické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předsociáln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o druhý a třetí rok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normální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být ovládán impulsy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(stadium impulsivní)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o čtvrtý až osmý či desátý rok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přirozené být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oportunistický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Osmý či desátý až čtrnáctý či šestnáctý rok věku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období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konformn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o šestnáctém roce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se někteří dospívající dostávají na úroveň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uvědomělou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, jednají v souladu s normou, protože ji schvalují jako svou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povinnost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Šesté stadium předpokládá dospělost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a je označováno jako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seberealizujíc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  Jednání podle morálních norem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A62-D267-4C93-95C0-3B75B5FE2A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65000"/>
            <a:ext cx="792324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Vztah životních orientací a úrovně zralosti osob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773360"/>
          <a:ext cx="7772400" cy="3887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TRU-KTIVNÍ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KONZU-MEN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VŮR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idej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ni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nob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yslite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lid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ago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ezávazný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ád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věc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anda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běrate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ynález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F03-EAE2-4DE4-9CFB-946F3DA667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900900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Zdroje rozdílů mezi lidm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5000" y="1828440"/>
            <a:ext cx="889632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Psychologie individuálních rozdílů mezi lidmi konstatuje, že rozhodující zdroj povahových odlišností tkví v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ocializaci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(v tradici a zvycích, které jsou přenášeny       a udržovány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em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nikoliv však geny), ve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výchově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a  v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dividuaci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enetické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vysvětlování psychických rozdílů mezi lidmi končí dříve nebo později v resignaci na možnost změny osobnosti. Osobnost se tvoří spíše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em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146-5706-4138-A3A4-8E08E4A81069}" type="slidenum">
              <a:t>15</a:t>
            </a:fld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5518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cccff"/>
                </a:solidFill>
                <a:latin typeface="Times New Roman"/>
              </a:rPr>
              <a:t>4.</a:t>
            </a:r>
            <a:br>
              <a:rPr sz="4700"/>
            </a:br>
            <a:r>
              <a:rPr b="1" lang="en-US" sz="4700" spc="-1" strike="noStrike">
                <a:solidFill>
                  <a:srgbClr val="ccccff"/>
                </a:solidFill>
                <a:latin typeface="Times New Roman"/>
              </a:rPr>
              <a:t>Aktuální geneze mravního činu</a:t>
            </a:r>
            <a:br>
              <a:rPr sz="4700"/>
            </a:b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rocesuální přístup k analýze 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sychologických podmínek 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BE0-F919-4E85-8E43-022A2D857C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Kohlbergův model morálního vývoj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4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První úroveň –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Pre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– je nejnižší úroveň morálního vývoje. Aktivity dětí na této úrovni nevykazují žádnou internalizaci morálních hodnot; morální usuzování je určováno vnějšími odměnami a tres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Druhá úroveň –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– zahrnuje jedince, kteří internalizovali určité standardy, ale jde o standardy druhých (rodičů, sociálních norem atd.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V rámci třetí úrovně morálního vývoje – má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Post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jednotlivců komplexně internalizovaný morální standardy, a již žádný důvod založený na standardech druhých (Kohlberg, 1978). Např. člověk, který je na šestém stádiu konfrontován s konfliktem mezi zákonem a etickou vědomou vůlí, bude respektovat etické vědomí, i když tím riskuje svou osobní pohodu (Santrock, 1997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E46-1D10-42A0-9063-165973F2EE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Komentář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4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Kohlbergův model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stojí na třech hierarchických úrovních, z nichž každá má dvě stádia. Na každém stádiu se důvody, které jedinec uvádí na obhajobu jednotlivých odpovědí na morální dilemata, stávají složitějšími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Kohlberg ujišťuje, že morální myšlení se může vyvíjet na základě výchovy, díky sociální interakci, kognitivním konfliktům, pozitivní morální atmosféře a demokratické participaci (Kohlberg, 1969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ájí na spravedlnosti založený komunitní přístup k výchově, která staví na rovnosti účastníků, na „vlastnictví“ rozhodování každého člena skupiny a na učiteli, který hájí zralé morální usuzování, ale nepředkládá mravní principy autoritativním způsobem. (Harding&amp;Snyder, 1991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6874-EDAA-482C-9CF6-82CC5E1DD2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ccccff"/>
                </a:solidFill>
                <a:latin typeface="Times New Roman"/>
              </a:rPr>
              <a:t>Selmanův mode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vým výzkumem R. L. Selman vytvořil stádia přejímání sociálních rolí (social role taking stages), které je možno chápat jako spojení mezi Piagetovými stádii logického usuzování a Kohlbergovými stádii morálního usuzování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Jeho model sestává ze čtyř vzájemně interagujících komponent: logického usuzování, mravního usuzování, přejímání sociálních rolí a informací (Lozzi, 1990) Seman klade důraz na úlohu zkušenosti a učení, takže pokrok v zaujímání sociální perspektivy závisí hlavně na zkušenostech člověka s druhými, včetně vhodné sociální stimulace a výchovy. Postup na vyšší úrovně zaujímání sociální perspektivy závisí hlavně na správných sociálních zkušenostech (Atwood, 1992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AA0D-F70E-4C05-A380-DD3AA6D027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Motto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Rozhodl jsem se, že se přestanu zabýva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studiem neživé přírod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a pokusím se pochopit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jak je to možn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že člověk sice ví, co je dobr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ale dělá to, co je zlé</a:t>
            </a:r>
            <a:r>
              <a:rPr b="0" lang="en-US" sz="3200" spc="-1" strike="noStrike">
                <a:solidFill>
                  <a:srgbClr val="e0e02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kraté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054-54CF-4902-A1A0-13E39E2A3E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ccff"/>
                </a:solidFill>
                <a:latin typeface="Times New Roman"/>
              </a:rPr>
              <a:t>Pět stádií morálního vývoje podle Selmana: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5000" y="1628280"/>
            <a:ext cx="8896320" cy="462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0 (3 – 6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Děti nedovedou jasně rozlišovat mezi jejich vlastní interpretací situací a hlediskem druhéh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1 (5 – 9</a:t>
            </a: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Ačkoliv si děti uvědomují, že druzí mohou mít odlišné názory (hlediska) než oni, nejsou s to chápat tyto názory (hlediska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2 ((7 – 12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Starší děti a preadolescenti jsou s to nahlížet na své myšlenky a city z hlediska druhých, ale nejsou s to podržet obě perspektivy současně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3 ((10 – 15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Adolescenti se dokáží vymanit ze svých způsobů nahlížení i z hledisek druhých, a dokáží zaujmout neutrální perspektivu třetí osoby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4 (adolescence – dospělos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Lidé na této úrovni zralosti jsou s to chápat své myšlenky a jednání na více abstraktní úrovni, která zahrnuje generalizovanou societální perspektivu (Seman, 1980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63F-CBDE-4E02-93B2-59EB4DB22D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ccff"/>
                </a:solidFill>
                <a:latin typeface="Times New Roman"/>
              </a:rPr>
              <a:t>Restův mode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1700280"/>
            <a:ext cx="88963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Na rozdíl od Piageta a Kohlberga, kteří pojednávají o logickém a morálním usuzování, James Rest poskytuje rámec pro porozumění morálnímu chování. Jeho čtyřkomponentový model obsahuje morální citlivost, morální úsudek, morální rozhodování a morální č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Rest uzavírá, že jeho návrh by měl být využit jako východisko pro formulování cílů programu etické výchov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Efektivní výchova charakteru by měla respektovat vývojové úrovně dětí a vytvářet program podle ni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C3E-0539-46B6-B94A-B483818DCC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Fáze morálního rozhodován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citlivos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e poznání, že existuje situace, v níž morální jednání může být žádoucí a že takové činy mohou mít následky pro druhé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úsudek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e úsudek o tom, co je žádoucí udělat, zatím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rozhodování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zahrnuje posuzování alternativ a zvažování pro a proti ve světle jejich pravděpodobných následků pro aktéra a pro druhé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či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se týká vůle a dovedností uskutečnit rozhodnutí (Rest, 1983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890-9BFB-4405-BF59-2AED921904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Situační podmínk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ís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Č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ontex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vádě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vádě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říležito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510-DCF7-465B-81E0-945FF25491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Dispoziční podmínky čin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ztah k oblasti, která vyžaduje jednání či reagová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ijetí určitého etického kodex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338-F3A7-4096-A6F9-DB0F7CE204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Momentální stav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Zdrav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Nálad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edcházející událost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417-16EA-4221-9B94-E826196858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40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5.</a:t>
            </a:r>
            <a:br>
              <a:rPr sz="5400"/>
            </a:b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Jak realizovat etickou výchovu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C1A-FEFC-44A5-9195-F6AE10F7DE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76520" y="914400"/>
            <a:ext cx="5632200" cy="5394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stav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8%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50%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harism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Times New Roman"/>
              </a:rPr>
              <a:t>,                                                  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yzařování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  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42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195280" y="213372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500720" y="981000"/>
            <a:ext cx="1440" cy="963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3573360"/>
            <a:ext cx="2376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Kompet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51A-AF44-4322-A545-DC3F04D47D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4640" y="871560"/>
            <a:ext cx="8885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tickou výchovu lze realizovat jen  interaktivně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yužívat metody dramatické výchov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likovat metodu přirozených následků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yužít situace – umět improvizov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Zkušenost s vlivem eticky laděných pohádek na etickou kulturu osob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losofie pro děti /s dětmi - Sokrates pro šestileté školá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užívat induktivní metodu – vést žáky k vyvozování pravidel a pak je zakotvovat v kodex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BB4-23D4-4E02-B3FC-A7194A10AA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zdělit tříd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čitel musí pracovat na sob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 úrovni institucionální a státní zaměstnanecké politiky: Podporovat prestiž a status učitelského povol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 úrovní osobní a sociální kultury – Dbát o svou pověst, nekazit si ji důvody k fámám o neuspořádaném osobním život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CCA-A6E2-40AA-A25A-77DA46B770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Osnov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0728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o je etická kultura osobnost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ciální podmínky etické kultur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Osobnostní podmínky etické kultury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Aktuální geneze mravního činu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Jak realizovat etickou výchovu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B198-16C6-4E4D-8FCA-ADECB3B86C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sobní rovnice vychovávajícíh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ředsudky – odpor – přenos, protipřen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y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íra tolerance k odliš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y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ci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972-21EF-4C76-BFBD-CA81202F83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sobní rovnice vychovávanéh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blasti citlivosti (psychické „alergie“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blasti necitlivosti (psychosociální filtry, „slepé skvrny“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edsudk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175-6D7C-444B-A6D3-35C536383EA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888516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žáka a okolnosti, které jej formovaly či deformova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tendence k projekci a k haló efektu v hodnoc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sklony k atribucím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filtry zkreslující poznávání lid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3D2-3AEA-4B9C-927F-4BB4E61B4E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4640" y="2204640"/>
            <a:ext cx="888516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Závěr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E28-04EA-4D87-992F-D2C1F87F4CA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 změně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5000" y="1915920"/>
            <a:ext cx="889632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ejsnáze lze změnit řeč člověka,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btížněji se dá změnit chování,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ještě méně snadná je změna smýšlení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Ale vůbec nejobtížnější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je změna lidského srdc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A30-ABEA-4C14-A3CE-6745B307E4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900900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 síle víry v člově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Jednáme-li s lidmi podle toho,       jací jsou, činíme je horšími.   Jednáme-li s nimi, jako by už byli tím,             čím mohou být,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zavedeme je tam, kam je chceme zavés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J. W. Goeth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5A5-952B-472E-A880-4A07BE4B86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8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Poselstv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000" y="1989000"/>
            <a:ext cx="8896320" cy="42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Žij tak, jako bys žil po druh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 snaž se ve svém jednání vyvarovat chyb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které bys v něm udělal poprvé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vět je ve špatném stavu a všechno bude ještě horší, pokud každý z nás neudělá to nejlepší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Od Osvětimi víme, čeho je člověk schopen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od Hirošimy víme, co vše je v sáz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ccff"/>
                </a:solidFill>
                <a:latin typeface="Times New Roman"/>
              </a:rPr>
              <a:t>V. E. Frank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C31-F07D-431F-AAE9-D0FC551E8CA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1. Co je etická kultura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2115720"/>
            <a:ext cx="864216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Zlaté pravidlo mravnosti jako směrnice prožívání a jednání 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Uplatňování empatie ve vztazích k druhým lidem 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Prosociální orientace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Zaujímání sociální perspektivy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Respekt k oprávněným zájmům druhých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3F9-F5A7-446A-AB41-7BD7DBF128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981000"/>
            <a:ext cx="88297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2.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Sociokulturní podmínky 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br>
              <a:rPr sz="48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širší podmínky života („duch doby“)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odinná situace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zice dítěte v rodině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1DC-F732-4437-85A6-EB2178C14B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6421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Jeden z největších světových historiků </a:t>
            </a:r>
            <a:br>
              <a:rPr sz="2800"/>
            </a:b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Edward Gibbon (1737-1794)</a:t>
            </a: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uvádí následujících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pět hlavních příčin rozkladu a pádu římské civilizac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8496000" cy="31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Zhroucení rodinné struktury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Oslabení smyslu pro osobní zodpovědnost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Nadměrné daně, striktní řízení a vládní intervence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Vyhledávání takových zábav, které se stávaly stále více  hedonistickými, násilnými a nemorálními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Úpadek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náboženství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BBA-9B7C-4F18-BDB7-F5250FC95A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836280"/>
            <a:ext cx="821844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M. Gándhí pranýřoval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ccccff"/>
                </a:solidFill>
                <a:latin typeface="Times New Roman"/>
              </a:rPr>
              <a:t>sedm moderních sociálních hříchů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ku bez principů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dnikání bez morálky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hatství bez práce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chovu bez charakteru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ědu bez lidskosti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žitek bez svědomí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áboženství bez sebekáznění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BF5-6647-440B-805D-864D4D4A98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Sdružené prostřed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4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Už Antifonés konstatoval, že </a:t>
            </a: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„Prostředí, kde se člověk zdržuje většinu dne, určuje jeho charakter.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Ve školní výchově se málo bere v úvahu úloha citové vazby (attachem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Pozice dítěte v rodině, workoholismus rodičů, partnerské kriz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Chudoba, sociální zanedbanost vedou k morálním dilematům -  zakomplexovanosti,  sklonu krást, závidět, šikanovat, ale i k apatii a sociální necitliv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D6C-6DF7-4289-96C0-5365AF5CEF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6407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rovnání nejčastějších přestupků dětí a dospívajících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ve veřejných školách USA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na konci třicátých a na konci osmdesátých let 20. sto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032360" cy="404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94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luvení bez přihláš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Žvýkání žvýkačk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Hluč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obíhání po chodbá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ředbíhá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Nedodržování  předepsaného obleč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Znečišťování prost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240" y="2205000"/>
            <a:ext cx="4010040" cy="38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990 -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oužívání mobilu k hraní h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Užívání drog, pití alkohol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ěhotenství nezletilých díve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ebevražd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Znásilně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Krádež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ěžké ublížení na zdrav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erorismus, agrese a nási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33C-F71C-4B03-A63D-D9B8B954FE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6:55:10Z</dcterms:created>
  <dc:creator>Prof. PhDr. Vladimír Smékal</dc:creator>
  <dc:description/>
  <dc:language>en-US</dc:language>
  <cp:lastModifiedBy>rauchova</cp:lastModifiedBy>
  <dcterms:modified xsi:type="dcterms:W3CDTF">2009-06-12T10:15:54Z</dcterms:modified>
  <cp:revision>35</cp:revision>
  <dc:subject/>
  <dc:title>Psychologie osobnosti  ve  výchově a vedení lidí</dc:title>
</cp:coreProperties>
</file>