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816DA-2C8D-4179-A768-4C8FFE7AF19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E4431-5DA1-4D67-8E0A-45873F0F434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ulka č. 5: Vztah životních orientací a úrovně zralosti osobnos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ide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YNI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VITEL, MUD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li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JAGO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ZÁVAZN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ÁD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vě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ND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SBĚRATEL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NÁLEZ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3852B-8271-4C48-A59E-6CDC46C0021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8CE34-2ED9-470D-9A6A-AE5FF0D37B5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C67CD-D52B-4E21-9694-C9623B68AC8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4D5E-4563-49EC-BB37-5C1E313D436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C05A4-EF60-47C7-9663-1713E30C774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660FB-B47C-4894-A1F3-15AB4F9C65D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F86FF-497D-4D72-A655-AA0FEE831F9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3CC8-13EC-4558-A03A-1CEE53AF2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31B2-2D42-4D31-9C42-C035241F3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BBA0-FB33-44CA-8D76-041972881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B596-1168-408F-B7F3-D22563C96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239B2-FD4E-46FA-9C6E-1D34CC5AB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58791-4889-413A-935C-1A02738D1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0D47A-BD00-47D8-A573-51444BC23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E087F-53BC-4A41-9F13-16CC95D8C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3398E-558A-487A-8B41-8D04DB667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BB48C-C500-460F-9D1E-FC9A3C1E0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855C6-5A1F-4375-83C0-054A149D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D365-3212-4547-9A7C-72C8C11C0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48863-DEED-451E-82FF-8581D5E4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4CB44-CB22-4482-BEF1-84C99825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3CAD8-6F95-4CA5-B503-D2584CC79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EE01B-D148-45AF-BBCB-79596137D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A9EE7-1ECA-4DEA-9911-D792561A4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4F42-DA03-4AAD-8113-2B3EBD6FA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6BC7-FB69-4EB1-AF24-C75038490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CABB-ECA1-4BB5-874C-F0B4E1BB9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AD51-E675-4C7F-A881-B7E4C0DFD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709E-ED8C-4E1B-A664-8CB6EE01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85AC-2DAC-4764-A7E3-5036BBFE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D497-47E6-4B8A-9E3A-92042630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0C64B-5719-4779-967F-099CD45407BC}" type="slidenum"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83EC9-113E-4B34-A381-D5FA5E479962}" type="slidenum"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308720" y="4869000"/>
            <a:ext cx="1656000" cy="15667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395280" y="4869000"/>
            <a:ext cx="835344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Prof. PhDr. Vladimír Smékal, CSc.,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Institut pro výzkum dětí, mládeže a rodin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FSS MU, Brn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179280" y="1052280"/>
            <a:ext cx="885672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imes New Roman"/>
              </a:rPr>
              <a:t>OSOBNOSTNÍ A SOCIÁLNÍ PŘEDPOKLADY </a:t>
            </a:r>
            <a:br>
              <a:rPr sz="4400"/>
            </a:br>
            <a:r>
              <a:rPr b="1" lang="en-US" sz="4400" spc="-1" strike="noStrike">
                <a:solidFill>
                  <a:srgbClr val="0066ff"/>
                </a:solidFill>
                <a:latin typeface="Times New Roman"/>
              </a:rPr>
              <a:t>ETICKÉ KULTURY OSOBNOSTI</a:t>
            </a:r>
            <a:br>
              <a:rPr sz="4400"/>
            </a:b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9900"/>
                </a:solidFill>
                <a:latin typeface="Times New Roman"/>
              </a:rPr>
              <a:t>Jak je využívat v etické výchově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08000" y="4941720"/>
            <a:ext cx="17272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1125360"/>
            <a:ext cx="856908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3.</a:t>
            </a:r>
            <a:br>
              <a:rPr sz="4800"/>
            </a:b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Osobnostní podmínky </a:t>
            </a:r>
            <a:br>
              <a:rPr sz="4800"/>
            </a:b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etické kultury osobnosti</a:t>
            </a:r>
            <a:br>
              <a:rPr sz="4800"/>
            </a:br>
            <a:r>
              <a:rPr b="0" lang="en-US" sz="3500" spc="-1" strike="noStrike">
                <a:solidFill>
                  <a:srgbClr val="ffffcc"/>
                </a:solidFill>
                <a:latin typeface="Times New Roman"/>
              </a:rPr>
              <a:t>Funkce konstituce a temperamentu</a:t>
            </a:r>
            <a:br>
              <a:rPr sz="3500"/>
            </a:br>
            <a:r>
              <a:rPr b="0" lang="en-US" sz="3500" spc="-1" strike="noStrike">
                <a:solidFill>
                  <a:srgbClr val="ffffcc"/>
                </a:solidFill>
                <a:latin typeface="Times New Roman"/>
              </a:rPr>
              <a:t>Funkce zaměřenosti</a:t>
            </a:r>
            <a:br>
              <a:rPr sz="3500"/>
            </a:br>
            <a:r>
              <a:rPr b="0" lang="en-US" sz="3500" spc="-1" strike="noStrike">
                <a:solidFill>
                  <a:srgbClr val="ffffcc"/>
                </a:solidFill>
                <a:latin typeface="Times New Roman"/>
              </a:rPr>
              <a:t>Funkce stylů zvládání</a:t>
            </a:r>
            <a:br>
              <a:rPr sz="3500"/>
            </a:br>
            <a:r>
              <a:rPr b="0" lang="en-US" sz="3500" spc="-1" strike="noStrike">
                <a:solidFill>
                  <a:srgbClr val="ffffcc"/>
                </a:solidFill>
                <a:latin typeface="Times New Roman"/>
              </a:rPr>
              <a:t>Funkce intelektu</a:t>
            </a:r>
            <a:br>
              <a:rPr sz="3500"/>
            </a:br>
            <a:r>
              <a:rPr b="0" lang="en-US" sz="3500" spc="-1" strike="noStrike">
                <a:solidFill>
                  <a:srgbClr val="ffffcc"/>
                </a:solidFill>
                <a:latin typeface="Times New Roman"/>
              </a:rPr>
              <a:t>Funkce sebepojetí</a:t>
            </a:r>
            <a:endParaRPr b="0" lang="en-US" sz="3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2D90-4BC8-47DA-A2C0-C6E2AB3F717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4640" y="1052640"/>
            <a:ext cx="88851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ccff"/>
                </a:solidFill>
                <a:latin typeface="Times New Roman"/>
              </a:rPr>
              <a:t>Styly morálky podle D. Wright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95280" y="2060640"/>
          <a:ext cx="8424720" cy="4105080"/>
        </p:xfrm>
        <a:graphic>
          <a:graphicData uri="http://schemas.openxmlformats.org/drawingml/2006/table">
            <a:tbl>
              <a:tblPr/>
              <a:tblGrid>
                <a:gridCol w="1758960"/>
                <a:gridCol w="2454120"/>
                <a:gridCol w="2498760"/>
                <a:gridCol w="1712880"/>
              </a:tblGrid>
              <a:tr h="541440">
                <a:tc gridSpan="4"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maximum odpovědnosti a ohleduplnosti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080">
                <a:tc rowSpan="5">
                  <a:txBody>
                    <a:bodyPr lIns="92160" rIns="92160" tIns="46080" bIns="4608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Převaha vlivu dospělých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MRAVNĚ ZRALÝ  STYL PROSOCIÁLNÍ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Převaha vlivu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vrstevníků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UVĚDOMĚLÝ ODPOVĚDNÝ STY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ŽIVELNĚ PROSOCIÁLNÍ STY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KALKULATIVNÍ TYP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KONFORMNÍ STY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OVLIVNITELNÝ STY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STYL OVLÁDANÝ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IMPULZY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AMORÁLNÍ EGOCENTRICKÝ STY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5640">
                <a:tc gridSpan="4"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minimum odpovědnosti a ohleduplnosti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6B53-D9F8-4E05-90C9-48A407FCC37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4640" y="888840"/>
            <a:ext cx="8885160" cy="102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ccff"/>
                </a:solidFill>
                <a:latin typeface="Times New Roman"/>
              </a:rPr>
              <a:t>Morální instance jako překlápění </a:t>
            </a:r>
            <a:br>
              <a:rPr sz="3600"/>
            </a:br>
            <a:r>
              <a:rPr b="0" lang="cs-CZ" sz="3600" spc="-1" strike="noStrike">
                <a:solidFill>
                  <a:srgbClr val="ccccff"/>
                </a:solidFill>
                <a:latin typeface="Times New Roman"/>
              </a:rPr>
              <a:t>vývojového v inteindividuální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ffffcc"/>
                </a:solidFill>
                <a:latin typeface="Times New Roman"/>
              </a:rPr>
              <a:t>Vývojová typologie J. Loevingerové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ffffcc"/>
                </a:solidFill>
                <a:latin typeface="Times New Roman"/>
              </a:rPr>
              <a:t>Jiný přístup k určení vývojových stupňů vypracovala J. Loevingerová (1969). Zabývá se otázkou, jak se během vývoje utváří v osobnosti kontrolní instance, rostoucí způsobilost kontrolovat své impulsy a podřizovat nižší vyššímu. Tento růst seberegulace se dá také charakterizovat jako vývoj jáství, svědomí, morálky, resp. jako vývoj k odpovědnosti za své činy a k ohleduplnosti (uvážlivosti) ve vztahu k druhým a ke světu vůbec.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ffffcc"/>
                </a:solidFill>
                <a:latin typeface="Times New Roman"/>
              </a:rPr>
              <a:t>V uvažování o osobnosti jako celku budeme na tyto vývojové typy pohlížet jako na struktury, které se mohou v kterémkoliv vývojovém období zafixovat a přetrvávat; znamená to, že osobnostní vývoj se zastavil, přestože fyzicky se osobnost vyvíjí dále. Toto překlápění vývojového v interindividuální je stále častějším důsledkem nerovnoměrnosti v utváření osobnosti.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CE4A-64DA-433D-BD0D-2504F86AFBB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4640" y="691920"/>
            <a:ext cx="8885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5000" y="1341000"/>
            <a:ext cx="889632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ffffcc"/>
                </a:solidFill>
                <a:latin typeface="Times New Roman"/>
              </a:rPr>
              <a:t>Prvnímu roku života</a:t>
            </a:r>
            <a:r>
              <a:rPr b="0" lang="cs-CZ" sz="2600" spc="-1" strike="noStrike">
                <a:solidFill>
                  <a:srgbClr val="ffffcc"/>
                </a:solidFill>
                <a:latin typeface="Times New Roman"/>
              </a:rPr>
              <a:t> odpovídá stadium</a:t>
            </a:r>
            <a:r>
              <a:rPr b="1" lang="cs-CZ" sz="2600" spc="-1" strike="noStrike">
                <a:solidFill>
                  <a:srgbClr val="ffffcc"/>
                </a:solidFill>
                <a:latin typeface="Times New Roman"/>
              </a:rPr>
              <a:t> autistické</a:t>
            </a:r>
            <a:r>
              <a:rPr b="0" lang="cs-CZ" sz="2600" spc="-1" strike="noStrike">
                <a:solidFill>
                  <a:srgbClr val="ffffcc"/>
                </a:solidFill>
                <a:latin typeface="Times New Roman"/>
              </a:rPr>
              <a:t>,</a:t>
            </a:r>
            <a:r>
              <a:rPr b="1" lang="cs-CZ" sz="2600" spc="-1" strike="noStrike">
                <a:solidFill>
                  <a:srgbClr val="ffffcc"/>
                </a:solidFill>
                <a:latin typeface="Times New Roman"/>
              </a:rPr>
              <a:t> předsociální</a:t>
            </a:r>
            <a:r>
              <a:rPr b="0" lang="cs-CZ" sz="26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ffffcc"/>
                </a:solidFill>
                <a:latin typeface="Times New Roman"/>
              </a:rPr>
              <a:t>Pro druhý a třetí rok života</a:t>
            </a:r>
            <a:r>
              <a:rPr b="0" lang="cs-CZ" sz="2600" spc="-1" strike="noStrike">
                <a:solidFill>
                  <a:srgbClr val="ffffcc"/>
                </a:solidFill>
                <a:latin typeface="Times New Roman"/>
              </a:rPr>
              <a:t> je normální</a:t>
            </a:r>
            <a:r>
              <a:rPr b="1" lang="cs-CZ" sz="2600" spc="-1" strike="noStrike">
                <a:solidFill>
                  <a:srgbClr val="ffffcc"/>
                </a:solidFill>
                <a:latin typeface="Times New Roman"/>
              </a:rPr>
              <a:t> být ovládán impulsy</a:t>
            </a:r>
            <a:r>
              <a:rPr b="0" lang="cs-CZ" sz="2600" spc="-1" strike="noStrike">
                <a:solidFill>
                  <a:srgbClr val="ffffcc"/>
                </a:solidFill>
                <a:latin typeface="Times New Roman"/>
              </a:rPr>
              <a:t> (stadium impulsivní)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ffffcc"/>
                </a:solidFill>
                <a:latin typeface="Times New Roman"/>
              </a:rPr>
              <a:t>Pro čtvrtý až osmý či desátý rok života</a:t>
            </a:r>
            <a:r>
              <a:rPr b="0" lang="cs-CZ" sz="2600" spc="-1" strike="noStrike">
                <a:solidFill>
                  <a:srgbClr val="ffffcc"/>
                </a:solidFill>
                <a:latin typeface="Times New Roman"/>
              </a:rPr>
              <a:t> je přirozené být</a:t>
            </a:r>
            <a:r>
              <a:rPr b="1" lang="cs-CZ" sz="2600" spc="-1" strike="noStrike">
                <a:solidFill>
                  <a:srgbClr val="ffffcc"/>
                </a:solidFill>
                <a:latin typeface="Times New Roman"/>
              </a:rPr>
              <a:t> oportunistický</a:t>
            </a:r>
            <a:r>
              <a:rPr b="0" lang="cs-CZ" sz="26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ffffcc"/>
                </a:solidFill>
                <a:latin typeface="Times New Roman"/>
              </a:rPr>
              <a:t>Osmý či desátý až čtrnáctý či šestnáctý rok věku</a:t>
            </a:r>
            <a:r>
              <a:rPr b="0" lang="cs-CZ" sz="2600" spc="-1" strike="noStrike">
                <a:solidFill>
                  <a:srgbClr val="ffffcc"/>
                </a:solidFill>
                <a:latin typeface="Times New Roman"/>
              </a:rPr>
              <a:t> je období</a:t>
            </a:r>
            <a:r>
              <a:rPr b="1" lang="cs-CZ" sz="2600" spc="-1" strike="noStrike">
                <a:solidFill>
                  <a:srgbClr val="ffffcc"/>
                </a:solidFill>
                <a:latin typeface="Times New Roman"/>
              </a:rPr>
              <a:t> konformní</a:t>
            </a:r>
            <a:r>
              <a:rPr b="0" lang="cs-CZ" sz="26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ffffcc"/>
                </a:solidFill>
                <a:latin typeface="Times New Roman"/>
              </a:rPr>
              <a:t>Po šestnáctém roce</a:t>
            </a:r>
            <a:r>
              <a:rPr b="0" lang="cs-CZ" sz="2600" spc="-1" strike="noStrike">
                <a:solidFill>
                  <a:srgbClr val="ffffcc"/>
                </a:solidFill>
                <a:latin typeface="Times New Roman"/>
              </a:rPr>
              <a:t> se někteří dospívající dostávají na úroveň</a:t>
            </a:r>
            <a:r>
              <a:rPr b="1" lang="cs-CZ" sz="2600" spc="-1" strike="noStrike">
                <a:solidFill>
                  <a:srgbClr val="ffffcc"/>
                </a:solidFill>
                <a:latin typeface="Times New Roman"/>
              </a:rPr>
              <a:t> uvědomělou</a:t>
            </a:r>
            <a:r>
              <a:rPr b="0" lang="cs-CZ" sz="2600" spc="-1" strike="noStrike">
                <a:solidFill>
                  <a:srgbClr val="ffffcc"/>
                </a:solidFill>
                <a:latin typeface="Times New Roman"/>
              </a:rPr>
              <a:t>, jednají v souladu s normou, protože ji schvalují jako svou</a:t>
            </a:r>
            <a:r>
              <a:rPr b="1" lang="cs-CZ" sz="2600" spc="-1" strike="noStrike">
                <a:solidFill>
                  <a:srgbClr val="ffffcc"/>
                </a:solidFill>
                <a:latin typeface="Times New Roman"/>
              </a:rPr>
              <a:t> povinnost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ffffcc"/>
                </a:solidFill>
                <a:latin typeface="Times New Roman"/>
              </a:rPr>
              <a:t>Šesté stadium předpokládá dospělost</a:t>
            </a:r>
            <a:r>
              <a:rPr b="0" lang="cs-CZ" sz="2600" spc="-1" strike="noStrike">
                <a:solidFill>
                  <a:srgbClr val="ffffcc"/>
                </a:solidFill>
                <a:latin typeface="Times New Roman"/>
              </a:rPr>
              <a:t> a je označováno jako</a:t>
            </a:r>
            <a:r>
              <a:rPr b="1" lang="cs-CZ" sz="2600" spc="-1" strike="noStrike">
                <a:solidFill>
                  <a:srgbClr val="ffffcc"/>
                </a:solidFill>
                <a:latin typeface="Times New Roman"/>
              </a:rPr>
              <a:t> seberealizující</a:t>
            </a:r>
            <a:r>
              <a:rPr b="0" lang="cs-CZ" sz="2600" spc="-1" strike="noStrike">
                <a:solidFill>
                  <a:srgbClr val="ffffcc"/>
                </a:solidFill>
                <a:latin typeface="Times New Roman"/>
              </a:rPr>
              <a:t>.  Jednání podle morálních norem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A4C1-28ED-4450-A642-8D1D5ADAB5E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65000"/>
            <a:ext cx="7923240" cy="71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Vztah životních orientací a úrovně zralosti osobnost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85800" y="1773360"/>
          <a:ext cx="7772400" cy="38876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99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DESTRU-KTIVNÍ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KONZU-MENT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VŮRC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96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Na idej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ynik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nob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Myslitel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96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Na lidi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Jago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Nezávazný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ádc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96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Na věci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andal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běratel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ynálezc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8BD7-FF19-4ACC-880F-ED7E45A7DAD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4640" y="888840"/>
            <a:ext cx="9009000" cy="7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Zdroje rozdílů mezi lidmi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5000" y="1828440"/>
            <a:ext cx="889632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Psychologie individuálních rozdílů mezi lidmi konstatuje, že rozhodující zdroj povahových odlišností tkví v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socializaci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(v tradici a zvycích, které jsou přenášeny       a udržovány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memy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, nikoliv však geny), ve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výchově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a  v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individuaci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Genetické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vysvětlování psychických rozdílů mezi lidmi končí dříve nebo později v resignaci na možnost změny osobnosti. Osobnost se tvoří spíše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mem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68F5-D9F0-46DE-BE1D-451E1ABCFEE7}" type="slidenum">
              <a:t>15</a:t>
            </a:fld>
          </a:p>
        </p:txBody>
      </p:sp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3640" y="1125000"/>
            <a:ext cx="8551800" cy="424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ccccff"/>
                </a:solidFill>
                <a:latin typeface="Times New Roman"/>
              </a:rPr>
              <a:t>4.</a:t>
            </a:r>
            <a:br>
              <a:rPr sz="4700"/>
            </a:br>
            <a:r>
              <a:rPr b="1" lang="en-US" sz="4700" spc="-1" strike="noStrike">
                <a:solidFill>
                  <a:srgbClr val="ccccff"/>
                </a:solidFill>
                <a:latin typeface="Times New Roman"/>
              </a:rPr>
              <a:t>Aktuální geneze mravního činu</a:t>
            </a:r>
            <a:br>
              <a:rPr sz="4700"/>
            </a:br>
            <a:br>
              <a:rPr sz="3200"/>
            </a:b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Procesuální přístup k analýze </a:t>
            </a:r>
            <a:br>
              <a:rPr sz="3200"/>
            </a:b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psychologických podmínek </a:t>
            </a:r>
            <a:br>
              <a:rPr sz="3200"/>
            </a:b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etické kultury osobnost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D0C4-CD92-4AA4-9081-452C081C73D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73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ccff"/>
                </a:solidFill>
                <a:latin typeface="Times New Roman"/>
              </a:rPr>
              <a:t>Kohlbergův model morálního vývoj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5000" y="1773000"/>
            <a:ext cx="8896320" cy="447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První úroveň – </a:t>
            </a:r>
            <a:r>
              <a:rPr b="1" lang="cs-CZ" sz="2400" spc="-1" strike="noStrike">
                <a:solidFill>
                  <a:srgbClr val="ffffcc"/>
                </a:solidFill>
                <a:latin typeface="Times New Roman"/>
              </a:rPr>
              <a:t>Prekonvenční usuzování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 – je nejnižší úroveň morálního vývoje. Aktivity dětí na této úrovni nevykazují žádnou internalizaci morálních hodnot; morální usuzování je určováno vnějšími odměnami a trest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Druhá úroveň – </a:t>
            </a:r>
            <a:r>
              <a:rPr b="1" lang="cs-CZ" sz="2400" spc="-1" strike="noStrike">
                <a:solidFill>
                  <a:srgbClr val="ffffcc"/>
                </a:solidFill>
                <a:latin typeface="Times New Roman"/>
              </a:rPr>
              <a:t>Konvenční usuzování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 – zahrnuje jedince, kteří internalizovali určité standardy, ale jde o standardy druhých (rodičů, sociálních norem atd.)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V rámci třetí úrovně morálního vývoje – má </a:t>
            </a:r>
            <a:r>
              <a:rPr b="1" lang="cs-CZ" sz="2400" spc="-1" strike="noStrike">
                <a:solidFill>
                  <a:srgbClr val="ffffcc"/>
                </a:solidFill>
                <a:latin typeface="Times New Roman"/>
              </a:rPr>
              <a:t>Postkonvenční usuzování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 jednotlivců komplexně internalizovaný morální standardy, a již žádný důvod založený na standardech druhých (Kohlberg, 1978). Např. člověk, který je na šestém stádiu konfrontován s konfliktem mezi zákonem a etickou vědomou vůlí, bude respektovat etické vědomí, i když tím riskuje svou osobní pohodu (Santrock, 1997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EB5B-6497-42B8-9E85-450825AD9BF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4640" y="888840"/>
            <a:ext cx="8885160" cy="81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Komentář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5000" y="1844280"/>
            <a:ext cx="8896320" cy="440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cc"/>
                </a:solidFill>
                <a:latin typeface="Times New Roman"/>
              </a:rPr>
              <a:t>Kohlbergův model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 stojí na třech hierarchických úrovních, z nichž každá má dvě stádia. Na každém stádiu se důvody, které jedinec uvádí na obhajobu jednotlivých odpovědí na morální dilemata, stávají složitějšími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Kohlberg ujišťuje, že morální myšlení se může vyvíjet na základě výchovy, díky sociální interakci, kognitivním konfliktům, pozitivní morální atmosféře a demokratické participaci (Kohlberg, 1969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Hájí na spravedlnosti založený komunitní přístup k výchově, která staví na rovnosti účastníků, na „vlastnictví“ rozhodování každého člena skupiny a na učiteli, který hájí zralé morální usuzování, ale nepředkládá mravní principy autoritativním způsobem. (Harding&amp;Snyder, 1991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CDA9-E2A2-4672-B048-02EB19ABB9E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ccccff"/>
                </a:solidFill>
                <a:latin typeface="Times New Roman"/>
              </a:rPr>
              <a:t>Selmanův model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Svým výzkumem R. L. Selman vytvořil stádia přejímání sociálních rolí (social role taking stages), které je možno chápat jako spojení mezi Piagetovými stádii logického usuzování a Kohlbergovými stádii morálního usuzování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Jeho model sestává ze čtyř vzájemně interagujících komponent: logického usuzování, mravního usuzování, přejímání sociálních rolí a informací (Lozzi, 1990) Seman klade důraz na úlohu zkušenosti a učení, takže pokrok v zaujímání sociální perspektivy závisí hlavně na zkušenostech člověka s druhými, včetně vhodné sociální stimulace a výchovy. Postup na vyšší úrovně zaujímání sociální perspektivy závisí hlavně na správných sociálních zkušenostech (Atwood, 1992)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FEA2-03EA-4E70-A10E-E1678306F82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4640" y="888840"/>
            <a:ext cx="8885160" cy="81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Motto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5000" y="1844280"/>
            <a:ext cx="8896320" cy="432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0e020"/>
                </a:solidFill>
                <a:latin typeface="Times New Roman"/>
              </a:rPr>
              <a:t>Rozhodl jsem se, že se přestanu zabývat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0e020"/>
                </a:solidFill>
                <a:latin typeface="Times New Roman"/>
              </a:rPr>
              <a:t>studiem neživé přírody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0e020"/>
                </a:solidFill>
                <a:latin typeface="Times New Roman"/>
              </a:rPr>
              <a:t>a pokusím se pochopit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0e020"/>
                </a:solidFill>
                <a:latin typeface="Times New Roman"/>
              </a:rPr>
              <a:t>jak je to možné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0e020"/>
                </a:solidFill>
                <a:latin typeface="Times New Roman"/>
              </a:rPr>
              <a:t>že člověk sice ví, co je dobré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0e020"/>
                </a:solidFill>
                <a:latin typeface="Times New Roman"/>
              </a:rPr>
              <a:t>ale dělá to, co je zlé</a:t>
            </a:r>
            <a:r>
              <a:rPr b="0" lang="en-US" sz="3200" spc="-1" strike="noStrike">
                <a:solidFill>
                  <a:srgbClr val="e0e02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kraté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D689-4710-4917-A35C-9F7A13D4F9A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4640" y="888840"/>
            <a:ext cx="8885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ccff"/>
                </a:solidFill>
                <a:latin typeface="Times New Roman"/>
              </a:rPr>
              <a:t>Pět stádií morálního vývoje podle Selmana:</a:t>
            </a:r>
            <a:endParaRPr b="0" lang="en-US" sz="3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5000" y="1628280"/>
            <a:ext cx="8896320" cy="462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cc"/>
                </a:solidFill>
                <a:latin typeface="Times New Roman"/>
              </a:rPr>
              <a:t>Stádium 0 (3 – 6 let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cc"/>
                </a:solidFill>
                <a:latin typeface="Times New Roman"/>
              </a:rPr>
              <a:t>Děti nedovedou jasně rozlišovat mezi jejich vlastní interpretací situací a hlediskem druhéh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cc"/>
                </a:solidFill>
                <a:latin typeface="Times New Roman"/>
              </a:rPr>
              <a:t>Stádium 1 (5 – 9</a:t>
            </a:r>
            <a:r>
              <a:rPr b="0" lang="cs-CZ" sz="2000" spc="-1" strike="noStrike">
                <a:solidFill>
                  <a:srgbClr val="ffffcc"/>
                </a:solidFill>
                <a:latin typeface="Times New Roman"/>
              </a:rPr>
              <a:t> let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cc"/>
                </a:solidFill>
                <a:latin typeface="Times New Roman"/>
              </a:rPr>
              <a:t>Ačkoliv si děti uvědomují, že druzí mohou mít odlišné názory (hlediska) než oni, nejsou s to chápat tyto názory (hlediska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cc"/>
                </a:solidFill>
                <a:latin typeface="Times New Roman"/>
              </a:rPr>
              <a:t>Stádium 2 ((7 – 12 let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cc"/>
                </a:solidFill>
                <a:latin typeface="Times New Roman"/>
              </a:rPr>
              <a:t>Starší děti a preadolescenti jsou s to nahlížet na své myšlenky a city z hlediska druhých, ale nejsou s to podržet obě perspektivy současně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cc"/>
                </a:solidFill>
                <a:latin typeface="Times New Roman"/>
              </a:rPr>
              <a:t>Stádium 3 ((10 – 15 let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cc"/>
                </a:solidFill>
                <a:latin typeface="Times New Roman"/>
              </a:rPr>
              <a:t>Adolescenti se dokáží vymanit ze svých způsobů nahlížení i z hledisek druhých, a dokáží zaujmout neutrální perspektivu třetí osoby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cc"/>
                </a:solidFill>
                <a:latin typeface="Times New Roman"/>
              </a:rPr>
              <a:t>Stádium 4 (adolescence – dospělost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cc"/>
                </a:solidFill>
                <a:latin typeface="Times New Roman"/>
              </a:rPr>
              <a:t>Lidé na této úrovni zralosti jsou s to chápat své myšlenky a jednání na více abstraktní úrovni, která zahrnuje generalizovanou societální perspektivu (Seman, 1980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A19B-3BCA-413D-AAAB-05B0695F8AE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4640" y="888840"/>
            <a:ext cx="8885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ccff"/>
                </a:solidFill>
                <a:latin typeface="Times New Roman"/>
              </a:rPr>
              <a:t>Restův mode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5000" y="1700280"/>
            <a:ext cx="889632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Na rozdíl od Piageta a Kohlberga, kteří pojednávají o logickém a morálním usuzování, James Rest poskytuje rámec pro porozumění morálnímu chování. Jeho čtyřkomponentový model obsahuje morální citlivost, morální úsudek, morální rozhodování a morální či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Rest uzavírá, že jeho návrh by měl být využit jako východisko pro formulování cílů programu etické výchov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Efektivní výchova charakteru by měla respektovat vývojové úrovně dětí a vytvářet program podle nich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80E9-3BCF-4A55-BE61-3283992FE78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Fáze morálního rozhodování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Morální citlivost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je poznání, že existuje situace, v níž morální jednání může být žádoucí a že takové činy mohou mít následky pro druhé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Morální úsudek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je úsudek o tom, co je žádoucí udělat, zatímc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Morální rozhodování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zahrnuje posuzování alternativ a zvažování pro a proti ve světle jejich pravděpodobných následků pro aktéra a pro druhé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Morální čin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se týká vůle a dovedností uskutečnit rozhodnutí (Rest, 1983)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0BD4-2EB2-4498-9B8E-21A63AF2984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Situační podmínk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íst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Č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Kontex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vádě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avádě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říležito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4D2F-236C-4BD0-A31B-B7F984C264F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Dispoziční podmínky činu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Vztah k oblasti, která vyžaduje jednání či reagování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Přijetí určitého etického kodexu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3B1B-81C9-4924-8460-0DDDD5B21D5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Momentální stav osobnosti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Zdraví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Nálad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Předcházející události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25AE-0C72-4485-B168-89822E11FEE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4640" y="888840"/>
            <a:ext cx="8885160" cy="40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ccff"/>
                </a:solidFill>
                <a:latin typeface="Times New Roman"/>
              </a:rPr>
              <a:t>5.</a:t>
            </a:r>
            <a:br>
              <a:rPr sz="5400"/>
            </a:br>
            <a:r>
              <a:rPr b="0" lang="en-US" sz="5400" spc="-1" strike="noStrike">
                <a:solidFill>
                  <a:srgbClr val="ccccff"/>
                </a:solidFill>
                <a:latin typeface="Times New Roman"/>
              </a:rPr>
              <a:t>Jak realizovat etickou výchovu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876B-D010-4584-B733-416C37E6322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676520" y="914400"/>
            <a:ext cx="5632200" cy="5394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Postave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8%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          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                                                       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50%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                    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harisma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Times New Roman"/>
              </a:rPr>
              <a:t>,                                                                      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yzařování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                 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                         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42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195280" y="2133720"/>
            <a:ext cx="2305080" cy="158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4500720" y="981000"/>
            <a:ext cx="1440" cy="963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79640" y="3573360"/>
            <a:ext cx="2376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Kompeten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1450-4D53-420A-AACE-57DFCA61138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4640" y="871560"/>
            <a:ext cx="8885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5000" y="1773000"/>
            <a:ext cx="889632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tickou výchovu lze realizovat jen  interaktivně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yužívat metody dramatické výchovy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plikovat metodu přirozených následků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yužít situace – umět improvizova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Zkušenost s vlivem eticky laděných pohádek na etickou kulturu osobnost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ilosofie pro děti /s dětmi - Sokrates pro šestileté školák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oužívat induktivní metodu – vést žáky k vyvozování pravidel a pak je zakotvovat v kodexe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B67A-29AD-4C3F-AA81-17E6B3CACA8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73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ozdělit tříd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čitel musí pracovat na sobě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a úrovni institucionální a státní zaměstnanecké politiky: Podporovat prestiž a status učitelského povolá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a úrovní osobní a sociální kultury – Dbát o svou pověst, nekazit si ji důvody k fámám o neuspořádaném osobním životě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0E5A-FE7A-4CA5-B00F-E565BF58636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Times New Roman"/>
              </a:rPr>
              <a:t>Osnov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07280" cy="367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cc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o je etická kultura osobnosti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cc"/>
              </a:buClr>
              <a:buSzPct val="7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Sociální podmínky etické kultur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850"/>
              </a:spcBef>
              <a:buClr>
                <a:srgbClr val="ffffcc"/>
              </a:buClr>
              <a:buSzPct val="7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cc"/>
                </a:solidFill>
                <a:latin typeface="Times New Roman"/>
              </a:rPr>
              <a:t>Osobnostní podmínky etické kultury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850"/>
              </a:spcBef>
              <a:buClr>
                <a:srgbClr val="ffffcc"/>
              </a:buClr>
              <a:buSzPct val="7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cc"/>
                </a:solidFill>
                <a:latin typeface="Times New Roman"/>
              </a:rPr>
              <a:t>Aktuální geneze mravního činu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850"/>
              </a:spcBef>
              <a:buClr>
                <a:srgbClr val="ffffcc"/>
              </a:buClr>
              <a:buSzPct val="75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cc"/>
                </a:solidFill>
                <a:latin typeface="Times New Roman"/>
              </a:rPr>
              <a:t>Jak realizovat etickou výchovu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A972-2409-40ED-A841-8AE924D41E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Osobní rovnice vychovávajícího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0720" indent="-45072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ředsudky – odpor – přenos, protipřen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0720" indent="-45072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ympati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0720" indent="-45072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íra tolerance k odlišnost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0720" indent="-45072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ympati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0720" indent="-45072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mpati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0720" indent="-45072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cipati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61BF-12C7-4BC3-86D4-C4861517B1C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Osobní rovnice vychovávaného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8200" indent="-53820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Oblasti citlivosti (psychické „alergie“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538200" indent="-53820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Oblasti necitlivosti (psychosociální filtry, „slepé skvrny“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538200" indent="-53820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Předsudk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456C-208F-4925-98C6-7B0B4E88166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60" y="980640"/>
            <a:ext cx="8885160" cy="79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Znát žáka a okolnosti, které jej formovaly či deformova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Znát své tendence k projekci a k haló efektu v hodnoce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Znát své sklony k atribucím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Znát své filtry zkreslující poznávání lid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E2AA-A227-44EC-9327-496F37D6F07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4640" y="2204640"/>
            <a:ext cx="8885160" cy="28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ccff"/>
                </a:solidFill>
                <a:latin typeface="Times New Roman"/>
              </a:rPr>
              <a:t>Závěr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9DF9-707D-4B52-8047-BCF2EC0A070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95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O změně osobnosti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5000" y="1915920"/>
            <a:ext cx="8896320" cy="41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2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Nejsnáze lze změnit řeč člověka,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92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obtížněji se dá změnit chování,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92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ještě méně snadná je změna smýšlení.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9216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Times New Roman"/>
              </a:rPr>
              <a:t>Ale vůbec nejobtížnější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92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Times New Roman"/>
              </a:rPr>
              <a:t>je změna lidského srdc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64F6-2618-4612-98B2-ECCE788BB9A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4640" y="888840"/>
            <a:ext cx="9009000" cy="7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O síle víry v člověk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35000" y="1773000"/>
            <a:ext cx="889632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i="1" lang="cs-CZ" sz="4400" spc="-1" strike="noStrike">
                <a:solidFill>
                  <a:srgbClr val="ffff00"/>
                </a:solidFill>
                <a:latin typeface="Times New Roman"/>
              </a:rPr>
              <a:t>Jednáme-li s lidmi podle toho,       jací jsou, činíme je horšími.   Jednáme-li s nimi, jako by už byli tím,             čím mohou být,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i="1" lang="cs-CZ" sz="4400" spc="-1" strike="noStrike">
                <a:solidFill>
                  <a:srgbClr val="ffff00"/>
                </a:solidFill>
                <a:latin typeface="Times New Roman"/>
              </a:rPr>
              <a:t>zavedeme je tam, kam je chceme zavést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J. W. Goeth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D494-8B39-4C64-AB57-6BE504624ED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8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Times New Roman"/>
              </a:rPr>
              <a:t>Poselství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5000" y="1989000"/>
            <a:ext cx="8896320" cy="426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Žij tak, jako bys žil po druhé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a snaž se ve svém jednání vyvarovat chyb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které bys v něm udělal poprvé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Svět je ve špatném stavu a všechno bude ještě horší, pokud každý z nás neudělá to nejlepší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Od Osvětimi víme, čeho je člověk schopen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od Hirošimy víme, co vše je v sázc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ccff"/>
                </a:solidFill>
                <a:latin typeface="Times New Roman"/>
              </a:rPr>
              <a:t>V. E. Frank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AE7E-84A4-48D6-A270-D1EF86F7E6E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1. Co je etická kultura osobnosti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920" y="2115720"/>
            <a:ext cx="864216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imes New Roman"/>
              </a:rPr>
              <a:t>Zlaté pravidlo mravnosti jako směrnice prožívání a jednání 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imes New Roman"/>
              </a:rPr>
              <a:t>Uplatňování empatie ve vztazích k druhým lidem 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imes New Roman"/>
              </a:rPr>
              <a:t>Prosociální orientace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imes New Roman"/>
              </a:rPr>
              <a:t>Zaujímání sociální perspektivy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imes New Roman"/>
              </a:rPr>
              <a:t>Respekt k oprávněným zájmům druhých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0829-1237-4F83-80A7-7F16C00DA30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4640" y="981000"/>
            <a:ext cx="8829720" cy="46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2.</a:t>
            </a:r>
            <a:br>
              <a:rPr sz="4800"/>
            </a:b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Sociokulturní podmínky </a:t>
            </a:r>
            <a:br>
              <a:rPr sz="4800"/>
            </a:b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etické kultury osobnosti</a:t>
            </a:r>
            <a:br>
              <a:rPr sz="48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širší podmínky života („duch doby“)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rodinná situace 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ozice dítěte v rodině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96DA-C320-465F-8CA0-C6034B82CA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920" y="836640"/>
            <a:ext cx="86421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Jeden z největších světových historiků </a:t>
            </a:r>
            <a:br>
              <a:rPr sz="2800"/>
            </a:b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Edward Gibbon (1737-1794)</a:t>
            </a:r>
            <a:r>
              <a:rPr b="1" lang="en-US" sz="3600" spc="-1" strike="noStrike">
                <a:solidFill>
                  <a:srgbClr val="ccccff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uvádí následujících</a:t>
            </a: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  </a:t>
            </a: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pět hlavních příčin rozkladu a pádu římské civilizace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2997000"/>
            <a:ext cx="8496000" cy="31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Zhroucení rodinné struktury, 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Oslabení smyslu pro osobní zodpovědnost, 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Nadměrné daně, striktní řízení a vládní intervence, 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Vyhledávání takových zábav, které se stávaly stále více  hedonistickými, násilnými a nemorálními, 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Úpadek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 náboženství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8565-7652-41D3-91D0-BE5B0AE39A9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836280"/>
            <a:ext cx="8218440" cy="129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ff"/>
                </a:solidFill>
                <a:latin typeface="Times New Roman"/>
              </a:rPr>
              <a:t>M. Gándhí pranýřoval</a:t>
            </a:r>
            <a:r>
              <a:rPr b="0" lang="en-US" sz="3600" spc="-1" strike="noStrike">
                <a:solidFill>
                  <a:srgbClr val="ccccff"/>
                </a:solidFill>
                <a:latin typeface="Times New Roman"/>
              </a:rPr>
              <a:t> </a:t>
            </a:r>
            <a:br>
              <a:rPr sz="3600"/>
            </a:br>
            <a:r>
              <a:rPr b="0" i="1" lang="en-US" sz="3600" spc="-1" strike="noStrike">
                <a:solidFill>
                  <a:srgbClr val="ccccff"/>
                </a:solidFill>
                <a:latin typeface="Times New Roman"/>
              </a:rPr>
              <a:t>sedm moderních sociálních hříchů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3640" y="2133720"/>
            <a:ext cx="8569080" cy="40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ku bez principů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dnikání bez morálky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hatství bez práce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ýchovu bez charakteru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ědu bez lidskosti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žitek bez svědomí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áboženství bez sebekáznění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5F8F-E5FE-4BD5-83A8-1ACB09DCF23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4640" y="888840"/>
            <a:ext cx="8885160" cy="81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Sdružené prostředí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5000" y="1844280"/>
            <a:ext cx="8896320" cy="440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Už Antifonés konstatoval, že </a:t>
            </a:r>
            <a:r>
              <a:rPr b="0" i="1" lang="cs-CZ" sz="2800" spc="-1" strike="noStrike">
                <a:solidFill>
                  <a:srgbClr val="ffffcc"/>
                </a:solidFill>
                <a:latin typeface="Times New Roman"/>
              </a:rPr>
              <a:t>„Prostředí, kde se člověk zdržuje většinu dne, určuje jeho charakter.“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Ve školní výchově se málo bere v úvahu úloha citové vazby (attachement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Pozice dítěte v rodině, workoholismus rodičů, partnerské kriz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Chudoba, sociální zanedbanost vedou k morálním dilematům -  zakomplexovanosti,  sklonu krást, závidět, šikanovat, ale i k apatii a sociální necitlivost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AC80-5130-4A2B-BD7E-45AD8C02428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280" y="764640"/>
            <a:ext cx="864072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rovnání nejčastějších přestupků dětí a dospívajících </a:t>
            </a: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ve veřejných školách USA </a:t>
            </a: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na konci třicátých a na konci osmdesátých let 20. stol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4032360" cy="404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194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Mluvení bez přihlášen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Žvýkání žvýkačk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Hlučen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Pobíhání po chodbác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Předbíhán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Nedodržování  předepsaného oblečen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Znečišťování prostor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5240" y="2205000"/>
            <a:ext cx="4010040" cy="388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1990 - 2009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Používání mobilu k hraní h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Užívání drog, pití alkoholu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Těhotenství nezletilých díve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Sebevražd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Znásilněn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Krádež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Těžké ublížení na zdrav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Terorismus, agrese a násil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CBAF-76B1-40D2-8F88-8F65358D5CC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6T16:55:10Z</dcterms:created>
  <dc:creator>Prof. PhDr. Vladimír Smékal</dc:creator>
  <dc:description/>
  <dc:language>en-US</dc:language>
  <cp:lastModifiedBy>rauchova</cp:lastModifiedBy>
  <dcterms:modified xsi:type="dcterms:W3CDTF">2009-06-12T10:15:54Z</dcterms:modified>
  <cp:revision>35</cp:revision>
  <dc:subject/>
  <dc:title>Psychologie osobnosti  ve  výchově a vedení lidí</dc:title>
</cp:coreProperties>
</file>