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1DA2-B2F7-42AA-BED7-0E96C0B00C4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3B1F-92D2-4673-A1BB-E580AF4290B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ulka č. 5: Vztah životních orientací a úrovně zralosti osobno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ide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N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VITEL, MUD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li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JAGO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ZÁVAZN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ÁD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vě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D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SBĚRATEL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NÁLEZ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F033-1E8B-4A7D-9604-4F5C072AFCD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6BC0-B548-4056-A174-0221CCB3207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9868-17FC-4CE6-9928-22CC525F76B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5B02-952F-4642-B89E-CC195DDB780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5F49-3988-4C26-B6E6-FAB7ABB5DAB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DEB5-C415-46A8-9E44-65069F82E05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3737-596B-4E82-8E1C-8EFF4F2E31F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3392-DE46-485A-AF68-E0855E8D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9791-B210-403C-B4D6-2B23C9CD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5688-1854-48DE-BDB4-D36D7AB7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EC4A-4E60-49F6-90DA-0BB3962C3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4B3F-2E81-4849-A0B7-0C709C08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D370-A3D7-4EC7-A68C-7A9998DE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E5A7-BB90-453A-A14E-B37E8CBF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5250-EC02-45A7-84EF-C09E7AA5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4C47-B11B-4EDB-83E1-265359CE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BD10-7953-470F-AC29-B4836A99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7CCB-6839-4F8C-BF0C-AC245C7F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110D-0D27-4759-BE8F-906F00D1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C038-AEA1-4359-89B5-77E99A7E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C5E2-B440-46B5-BB9C-C3CEC63B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1BD5-62B0-4197-89FA-57904065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8BA4-0729-4705-A5BC-F68F14C3C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0CA9-9368-4C43-8D16-206B00825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C636-FED0-4487-B446-05B8F7D9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E5C4-2BB5-4D19-89EB-D1271718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EC90-BCF2-44CF-A376-7737C8FB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7E73-58E2-4B72-A078-9CF186CD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612E-35B7-4C16-879B-965CD7AA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704F-5794-4169-9A84-D2B2A57C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0A72-C095-4036-B624-8C390A78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656B-5929-4503-A101-F6C11279EF2E}" type="slidenum"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E9EF-5213-401F-B398-8FB2B4DBED71}" type="slidenum"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308720" y="4869000"/>
            <a:ext cx="1656000" cy="15667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395280" y="4869000"/>
            <a:ext cx="83534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Prof. PhDr. Vladimír Smékal, CSc.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Institut pro výzkum dětí, mládeže a rodin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SS MU, Br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856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OSOBNOSTNÍ A SOCIÁLNÍ PŘEDPOKLADY </a:t>
            </a:r>
            <a:br>
              <a:rPr sz="4400"/>
            </a:b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ETICKÉ KULTURY OSOBNOSTI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Jak je využívat v etické výchově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08000" y="4941720"/>
            <a:ext cx="1727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856908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3.</a:t>
            </a:r>
            <a:br>
              <a:rPr sz="4800"/>
            </a:b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Osobnostní podmínky </a:t>
            </a:r>
            <a:br>
              <a:rPr sz="4800"/>
            </a:b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etické kultury osobnosti</a:t>
            </a:r>
            <a:br>
              <a:rPr sz="4800"/>
            </a:br>
            <a:r>
              <a:rPr b="0" lang="en-US" sz="3500" spc="-1" strike="noStrike">
                <a:solidFill>
                  <a:srgbClr val="ffffcc"/>
                </a:solidFill>
                <a:latin typeface="Times New Roman"/>
              </a:rPr>
              <a:t>Funkce konstituce a temperamentu</a:t>
            </a:r>
            <a:br>
              <a:rPr sz="3500"/>
            </a:br>
            <a:r>
              <a:rPr b="0" lang="en-US" sz="3500" spc="-1" strike="noStrike">
                <a:solidFill>
                  <a:srgbClr val="ffffcc"/>
                </a:solidFill>
                <a:latin typeface="Times New Roman"/>
              </a:rPr>
              <a:t>Funkce zaměřenosti</a:t>
            </a:r>
            <a:br>
              <a:rPr sz="3500"/>
            </a:br>
            <a:r>
              <a:rPr b="0" lang="en-US" sz="3500" spc="-1" strike="noStrike">
                <a:solidFill>
                  <a:srgbClr val="ffffcc"/>
                </a:solidFill>
                <a:latin typeface="Times New Roman"/>
              </a:rPr>
              <a:t>Funkce stylů zvládání</a:t>
            </a:r>
            <a:br>
              <a:rPr sz="3500"/>
            </a:br>
            <a:r>
              <a:rPr b="0" lang="en-US" sz="3500" spc="-1" strike="noStrike">
                <a:solidFill>
                  <a:srgbClr val="ffffcc"/>
                </a:solidFill>
                <a:latin typeface="Times New Roman"/>
              </a:rPr>
              <a:t>Funkce intelektu</a:t>
            </a:r>
            <a:br>
              <a:rPr sz="3500"/>
            </a:br>
            <a:r>
              <a:rPr b="0" lang="en-US" sz="3500" spc="-1" strike="noStrike">
                <a:solidFill>
                  <a:srgbClr val="ffffcc"/>
                </a:solidFill>
                <a:latin typeface="Times New Roman"/>
              </a:rPr>
              <a:t>Funkce sebepojetí</a:t>
            </a:r>
            <a:endParaRPr b="0" lang="en-US" sz="3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F894-6E52-4ACC-860A-B2DE413373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4640" y="1052640"/>
            <a:ext cx="88851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ccff"/>
                </a:solidFill>
                <a:latin typeface="Times New Roman"/>
              </a:rPr>
              <a:t>Styly morálky podle D. Wright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95280" y="2060640"/>
          <a:ext cx="8424720" cy="4105080"/>
        </p:xfrm>
        <a:graphic>
          <a:graphicData uri="http://schemas.openxmlformats.org/drawingml/2006/table">
            <a:tbl>
              <a:tblPr/>
              <a:tblGrid>
                <a:gridCol w="1758960"/>
                <a:gridCol w="2454120"/>
                <a:gridCol w="2498760"/>
                <a:gridCol w="1712880"/>
              </a:tblGrid>
              <a:tr h="541440">
                <a:tc gridSpan="4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maximum odpovědnosti a ohleduplnosti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 rowSpan="5">
                  <a:txBody>
                    <a:bodyPr lIns="92160" rIns="92160" tIns="46080" bIns="4608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Převaha vlivu dospělých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RAVNĚ ZRALÝ  STYL PROSOCIÁLNÍ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Převaha vlivu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vrstevníků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UVĚDOMĚLÝ ODPOVĚDNÝ STY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ŽIVELNĚ PROSOCIÁLNÍ STY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KALKULATIVNÍ TYP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KONFORMNÍ STY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VLIVNITELNÝ STY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TYL OVLÁDANÝ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IMPULZY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MORÁLNÍ EGOCENTRICKÝ STY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5640">
                <a:tc gridSpan="4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minimum odpovědnosti a ohleduplnosti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227F-C409-440A-B676-D66633F500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102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ccff"/>
                </a:solidFill>
                <a:latin typeface="Times New Roman"/>
              </a:rPr>
              <a:t>Morální instance jako překlápění </a:t>
            </a:r>
            <a:br>
              <a:rPr sz="3600"/>
            </a:br>
            <a:r>
              <a:rPr b="0" lang="cs-CZ" sz="3600" spc="-1" strike="noStrike">
                <a:solidFill>
                  <a:srgbClr val="ccccff"/>
                </a:solidFill>
                <a:latin typeface="Times New Roman"/>
              </a:rPr>
              <a:t>vývojového v inteindividuální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ffcc"/>
                </a:solidFill>
                <a:latin typeface="Times New Roman"/>
              </a:rPr>
              <a:t>Vývojová typologie J. Loevingerové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cc"/>
                </a:solidFill>
                <a:latin typeface="Times New Roman"/>
              </a:rPr>
              <a:t>Jiný přístup k určení vývojových stupňů vypracovala J. Loevingerová (1969). Zabývá se otázkou, jak se během vývoje utváří v osobnosti kontrolní instance, rostoucí způsobilost kontrolovat své impulsy a podřizovat nižší vyššímu. Tento růst seberegulace se dá také charakterizovat jako vývoj jáství, svědomí, morálky, resp. jako vývoj k odpovědnosti za své činy a k ohleduplnosti (uvážlivosti) ve vztahu k druhým a ke světu vůbec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cc"/>
                </a:solidFill>
                <a:latin typeface="Times New Roman"/>
              </a:rPr>
              <a:t>V uvažování o osobnosti jako celku budeme na tyto vývojové typy pohlížet jako na struktury, které se mohou v kterémkoliv vývojovém období zafixovat a přetrvávat; znamená to, že osobnostní vývoj se zastavil, přestože fyzicky se osobnost vyvíjí dále. Toto překlápění vývojového v interindividuální je stále častějším důsledkem nerovnoměrnosti v utváření osobnosti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A71F-3CDF-44BC-9FB4-B3D4FDA1E8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4640" y="691920"/>
            <a:ext cx="8885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5000" y="1341000"/>
            <a:ext cx="889632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Times New Roman"/>
              </a:rPr>
              <a:t>Prvnímu roku života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odpovídá stadium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autistické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předsociální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Times New Roman"/>
              </a:rPr>
              <a:t>Pro druhý a třetí rok života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je normální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být ovládán impulsy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(stadium impulsivní)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Times New Roman"/>
              </a:rPr>
              <a:t>Pro čtvrtý až osmý či desátý rok života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je přirozené být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oportunistický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Times New Roman"/>
              </a:rPr>
              <a:t>Osmý či desátý až čtrnáctý či šestnáctý rok věku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je období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konformní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Times New Roman"/>
              </a:rPr>
              <a:t>Po šestnáctém roce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se někteří dospívající dostávají na úroveň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uvědomělou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, jednají v souladu s normou, protože ji schvalují jako svou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povinnost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Times New Roman"/>
              </a:rPr>
              <a:t>Šesté stadium předpokládá dospělost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a je označováno jako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seberealizující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.  Jednání podle morálních norem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776E-7861-4B65-8FAD-ABD7D9ED58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65000"/>
            <a:ext cx="792324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Vztah životních orientací a úrovně zralosti osob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85800" y="1773360"/>
          <a:ext cx="7772400" cy="3887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ESTRU-KTIVNÍ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KONZU-MEN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VŮRC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96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a idej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ynik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nob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yslitel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96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a lidi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Jago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ezávazný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ádc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96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a věci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andal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běratel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ynálezc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ADE4-9F18-4BBA-BE67-133BECDF36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900900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Zdroje rozdílů mezi lidm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5000" y="1828440"/>
            <a:ext cx="889632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Psychologie individuálních rozdílů mezi lidmi konstatuje, že rozhodující zdroj povahových odlišností tkví v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ocializaci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(v tradici a zvycích, které jsou přenášeny       a udržovány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emy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nikoliv však geny), ve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výchově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a  v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ndividuaci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Genetické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vysvětlování psychických rozdílů mezi lidmi končí dříve nebo později v resignaci na možnost změny osobnosti. Osobnost se tvoří spíše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em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56F3-C4C6-4B1E-8FFD-BE39A2E3D1E3}" type="slidenum">
              <a:t>15</a:t>
            </a:fld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3640" y="1125000"/>
            <a:ext cx="855180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ccccff"/>
                </a:solidFill>
                <a:latin typeface="Times New Roman"/>
              </a:rPr>
              <a:t>4.</a:t>
            </a:r>
            <a:br>
              <a:rPr sz="4700"/>
            </a:br>
            <a:r>
              <a:rPr b="1" lang="en-US" sz="4700" spc="-1" strike="noStrike">
                <a:solidFill>
                  <a:srgbClr val="ccccff"/>
                </a:solidFill>
                <a:latin typeface="Times New Roman"/>
              </a:rPr>
              <a:t>Aktuální geneze mravního činu</a:t>
            </a:r>
            <a:br>
              <a:rPr sz="4700"/>
            </a:br>
            <a:br>
              <a:rPr sz="3200"/>
            </a:b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Procesuální přístup k analýze </a:t>
            </a:r>
            <a:br>
              <a:rPr sz="3200"/>
            </a:b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psychologických podmínek </a:t>
            </a:r>
            <a:br>
              <a:rPr sz="3200"/>
            </a:b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etické kultury osob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9CFD-054B-4C60-9F7F-E0EFC69931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73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ccff"/>
                </a:solidFill>
                <a:latin typeface="Times New Roman"/>
              </a:rPr>
              <a:t>Kohlbergův model morálního vývoj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5000" y="1773000"/>
            <a:ext cx="8896320" cy="44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První úroveň – </a:t>
            </a: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Prekonvenční usuzování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– je nejnižší úroveň morálního vývoje. Aktivity dětí na této úrovni nevykazují žádnou internalizaci morálních hodnot; morální usuzování je určováno vnějšími odměnami a trest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Druhá úroveň – </a:t>
            </a: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Konvenční usuzování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– zahrnuje jedince, kteří internalizovali určité standardy, ale jde o standardy druhých (rodičů, sociálních norem atd.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V rámci třetí úrovně morálního vývoje – má </a:t>
            </a: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Postkonvenční usuzování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jednotlivců komplexně internalizovaný morální standardy, a již žádný důvod založený na standardech druhých (Kohlberg, 1978). Např. člověk, který je na šestém stádiu konfrontován s konfliktem mezi zákonem a etickou vědomou vůlí, bude respektovat etické vědomí, i když tím riskuje svou osobní pohodu (Santrock, 1997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57A8-AFB9-4E54-8A44-12C3615BE4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8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Komentář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5000" y="1844280"/>
            <a:ext cx="8896320" cy="440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Kohlbergův model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stojí na třech hierarchických úrovních, z nichž každá má dvě stádia. Na každém stádiu se důvody, které jedinec uvádí na obhajobu jednotlivých odpovědí na morální dilemata, stávají složitějšími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Kohlberg ujišťuje, že morální myšlení se může vyvíjet na základě výchovy, díky sociální interakci, kognitivním konfliktům, pozitivní morální atmosféře a demokratické participaci (Kohlberg, 1969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ájí na spravedlnosti založený komunitní přístup k výchově, která staví na rovnosti účastníků, na „vlastnictví“ rozhodování každého člena skupiny a na učiteli, který hájí zralé morální usuzování, ale nepředkládá mravní principy autoritativním způsobem. (Harding&amp;Snyder, 1991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B5F8-4C02-4861-AAB7-7BF765E88B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ccccff"/>
                </a:solidFill>
                <a:latin typeface="Times New Roman"/>
              </a:rPr>
              <a:t>Selmanův model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vým výzkumem R. L. Selman vytvořil stádia přejímání sociálních rolí (social role taking stages), které je možno chápat jako spojení mezi Piagetovými stádii logického usuzování a Kohlbergovými stádii morálního usuzování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Jeho model sestává ze čtyř vzájemně interagujících komponent: logického usuzování, mravního usuzování, přejímání sociálních rolí a informací (Lozzi, 1990) Seman klade důraz na úlohu zkušenosti a učení, takže pokrok v zaujímání sociální perspektivy závisí hlavně na zkušenostech člověka s druhými, včetně vhodné sociální stimulace a výchovy. Postup na vyšší úrovně zaujímání sociální perspektivy závisí hlavně na správných sociálních zkušenostech (Atwood, 1992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3DD4-876C-43BB-8639-61377BC2E9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8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Motto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5000" y="1844280"/>
            <a:ext cx="889632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e020"/>
                </a:solidFill>
                <a:latin typeface="Times New Roman"/>
              </a:rPr>
              <a:t>Rozhodl jsem se, že se přestanu zabývat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e020"/>
                </a:solidFill>
                <a:latin typeface="Times New Roman"/>
              </a:rPr>
              <a:t>studiem neživé přírody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e020"/>
                </a:solidFill>
                <a:latin typeface="Times New Roman"/>
              </a:rPr>
              <a:t>a pokusím se pochopit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e020"/>
                </a:solidFill>
                <a:latin typeface="Times New Roman"/>
              </a:rPr>
              <a:t>jak je to možné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e020"/>
                </a:solidFill>
                <a:latin typeface="Times New Roman"/>
              </a:rPr>
              <a:t>že člověk sice ví, co je dobré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e020"/>
                </a:solidFill>
                <a:latin typeface="Times New Roman"/>
              </a:rPr>
              <a:t>ale dělá to, co je zlé</a:t>
            </a:r>
            <a:r>
              <a:rPr b="0" lang="en-US" sz="3200" spc="-1" strike="noStrike">
                <a:solidFill>
                  <a:srgbClr val="e0e02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kraté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D8E8-A6DD-4093-8EEA-9DCA6CF593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ccff"/>
                </a:solidFill>
                <a:latin typeface="Times New Roman"/>
              </a:rPr>
              <a:t>Pět stádií morálního vývoje podle Selmana: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5000" y="1628280"/>
            <a:ext cx="8896320" cy="462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cc"/>
                </a:solidFill>
                <a:latin typeface="Times New Roman"/>
              </a:rPr>
              <a:t>Stádium 0 (3 – 6 let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Děti nedovedou jasně rozlišovat mezi jejich vlastní interpretací situací a hlediskem druhéh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cc"/>
                </a:solidFill>
                <a:latin typeface="Times New Roman"/>
              </a:rPr>
              <a:t>Stádium 1 (5 – 9</a:t>
            </a: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 let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Ačkoliv si děti uvědomují, že druzí mohou mít odlišné názory (hlediska) než oni, nejsou s to chápat tyto názory (hlediska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cc"/>
                </a:solidFill>
                <a:latin typeface="Times New Roman"/>
              </a:rPr>
              <a:t>Stádium 2 ((7 – 12 let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Starší děti a preadolescenti jsou s to nahlížet na své myšlenky a city z hlediska druhých, ale nejsou s to podržet obě perspektivy současně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cc"/>
                </a:solidFill>
                <a:latin typeface="Times New Roman"/>
              </a:rPr>
              <a:t>Stádium 3 ((10 – 15 let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Adolescenti se dokáží vymanit ze svých způsobů nahlížení i z hledisek druhých, a dokáží zaujmout neutrální perspektivu třetí osoby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cc"/>
                </a:solidFill>
                <a:latin typeface="Times New Roman"/>
              </a:rPr>
              <a:t>Stádium 4 (adolescence – dospělost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Lidé na této úrovni zralosti jsou s to chápat své myšlenky a jednání na více abstraktní úrovni, která zahrnuje generalizovanou societální perspektivu (Seman, 1980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D945-B64F-4DAF-8829-5573B066D8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ccff"/>
                </a:solidFill>
                <a:latin typeface="Times New Roman"/>
              </a:rPr>
              <a:t>Restův mode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5000" y="1700280"/>
            <a:ext cx="889632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Na rozdíl od Piageta a Kohlberga, kteří pojednávají o logickém a morálním usuzování, James Rest poskytuje rámec pro porozumění morálnímu chování. Jeho čtyřkomponentový model obsahuje morální citlivost, morální úsudek, morální rozhodování a morální či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Rest uzavírá, že jeho návrh by měl být využit jako východisko pro formulování cílů programu etické výchov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Efektivní výchova charakteru by měla respektovat vývojové úrovně dětí a vytvářet program podle nic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D583-495A-48AC-ACD5-97004E2E2B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Fáze morálního rozhodován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orální citlivost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je poznání, že existuje situace, v níž morální jednání může být žádoucí a že takové činy mohou mít následky pro druhé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orální úsudek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je úsudek o tom, co je žádoucí udělat, zatímc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orální rozhodování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zahrnuje posuzování alternativ a zvažování pro a proti ve světle jejich pravděpodobných následků pro aktéra a pro druhé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orální čin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se týká vůle a dovedností uskutečnit rozhodnutí (Rest, 1983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2E01-F7D3-4649-AB19-401FB5D565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Situační podmínk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ís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Č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ontex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vádě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avádě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říležito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C655-3E3C-4E48-AEA0-0AE328E0B5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Dispoziční podmínky čin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Vztah k oblasti, která vyžaduje jednání či reagování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řijetí určitého etického kodexu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4F05-098F-4BA2-94A9-FC49534F4E8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Momentální stav osobnost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Zdraví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Nálad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ředcházející událost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6176-80B1-40A4-8BF5-4DC8D4540A9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40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ccff"/>
                </a:solidFill>
                <a:latin typeface="Times New Roman"/>
              </a:rPr>
              <a:t>5.</a:t>
            </a:r>
            <a:br>
              <a:rPr sz="5400"/>
            </a:br>
            <a:r>
              <a:rPr b="0" lang="en-US" sz="5400" spc="-1" strike="noStrike">
                <a:solidFill>
                  <a:srgbClr val="ccccff"/>
                </a:solidFill>
                <a:latin typeface="Times New Roman"/>
              </a:rPr>
              <a:t>Jak realizovat etickou výchovu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8F66-3E66-4089-8FF2-DA79C7B4965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676520" y="914400"/>
            <a:ext cx="5632200" cy="5394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ostave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8%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50%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              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harisma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Times New Roman"/>
              </a:rPr>
              <a:t>,                                                                    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yzařování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        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              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42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195280" y="2133720"/>
            <a:ext cx="2305080" cy="15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4500720" y="981000"/>
            <a:ext cx="1440" cy="963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79640" y="3573360"/>
            <a:ext cx="2376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Kompet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6EF6-A684-455C-83F0-49627DC3A69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4640" y="871560"/>
            <a:ext cx="8885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5000" y="1773000"/>
            <a:ext cx="889632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tickou výchovu lze realizovat jen  interaktivně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yužívat metody dramatické výchov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plikovat metodu přirozených následků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yužít situace – umět improvizov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Zkušenost s vlivem eticky laděných pohádek na etickou kulturu osob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losofie pro děti /s dětmi - Sokrates pro šestileté školá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užívat induktivní metodu – vést žáky k vyvozování pravidel a pak je zakotvovat v kodex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2F9E-AA1C-4AAC-8081-893151502F7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73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zdělit tříd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čitel musí pracovat na sob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 úrovni institucionální a státní zaměstnanecké politiky: Podporovat prestiž a status učitelského povol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 úrovní osobní a sociální kultury – Dbát o svou pověst, nekazit si ji důvody k fámám o neuspořádaném osobním život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B57E-DCE4-48DF-8B84-95B1FAF1FF8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Osnov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0728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o je etická kultura osobnost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ociální podmínky etické kultur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850"/>
              </a:spcBef>
              <a:buClr>
                <a:srgbClr val="ffffcc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Times New Roman"/>
              </a:rPr>
              <a:t>Osobnostní podmínky etické kultury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850"/>
              </a:spcBef>
              <a:buClr>
                <a:srgbClr val="ffffcc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Times New Roman"/>
              </a:rPr>
              <a:t>Aktuální geneze mravního činu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850"/>
              </a:spcBef>
              <a:buClr>
                <a:srgbClr val="ffffcc"/>
              </a:buClr>
              <a:buSzPct val="7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Times New Roman"/>
              </a:rPr>
              <a:t>Jak realizovat etickou výchovu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A0AB-6043-47B8-B633-20572846BB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Osobní rovnice vychovávajícíh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ředsudky – odpor – přenos, protipřen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ympati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íra tolerance k odliš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ympati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mpati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cipati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28F7-252E-4D98-ACBD-AB1CD52BBD0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Osobní rovnice vychovávanéh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8200" indent="-53820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Oblasti citlivosti (psychické „alergie“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538200" indent="-53820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Oblasti necitlivosti (psychosociální filtry, „slepé skvrny“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538200" indent="-53820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ředsudk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FE09-37A7-4A51-9F40-A5A9FDAEDCF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980640"/>
            <a:ext cx="8885160" cy="79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nát žáka a okolnosti, které jej formovaly či deformova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nát své tendence k projekci a k haló efektu v hodnoce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nát své sklony k atribucím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nát své filtry zkreslující poznávání lid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2E22-4CBE-4815-AD8F-EACF671177E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4640" y="2204640"/>
            <a:ext cx="8885160" cy="28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ccff"/>
                </a:solidFill>
                <a:latin typeface="Times New Roman"/>
              </a:rPr>
              <a:t>Závěr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6650-541B-43F0-AEE4-E2C69117F0B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95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O změně osobnost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5000" y="1915920"/>
            <a:ext cx="889632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2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Nejsnáze lze změnit řeč člověka,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92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btížněji se dá změnit chování,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92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ještě méně snadná je změna smýšlení.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921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Ale vůbec nejobtížnější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92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je změna lidského srdc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ED8C-2CE8-4070-8EE0-F9320157301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900900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O síle víry v člově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5000" y="1773000"/>
            <a:ext cx="889632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i="1" lang="cs-CZ" sz="4400" spc="-1" strike="noStrike">
                <a:solidFill>
                  <a:srgbClr val="ffff00"/>
                </a:solidFill>
                <a:latin typeface="Times New Roman"/>
              </a:rPr>
              <a:t>Jednáme-li s lidmi podle toho,       jací jsou, činíme je horšími.   Jednáme-li s nimi, jako by už byli tím,             čím mohou být,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cs-CZ" sz="4400" spc="-1" strike="noStrike">
                <a:solidFill>
                  <a:srgbClr val="ffff00"/>
                </a:solidFill>
                <a:latin typeface="Times New Roman"/>
              </a:rPr>
              <a:t>zavedeme je tam, kam je chceme zavés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J. W. Goeth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4DCC-92C4-46F7-9F35-EFB537459FC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8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Poselstv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5000" y="1989000"/>
            <a:ext cx="8896320" cy="426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Žij tak, jako bys žil po druhé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 snaž se ve svém jednání vyvarovat chyb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které bys v něm udělal poprvé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vět je ve špatném stavu a všechno bude ještě horší, pokud každý z nás neudělá to nejlepší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Od Osvětimi víme, čeho je člověk schopen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od Hirošimy víme, co vše je v sázc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ccff"/>
                </a:solidFill>
                <a:latin typeface="Times New Roman"/>
              </a:rPr>
              <a:t>V. E. Frank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C8F6-34EC-4CD3-8F52-1700064E345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1. Co je etická kultura osobnost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2115720"/>
            <a:ext cx="864216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Zlaté pravidlo mravnosti jako směrnice prožívání a jednání 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Uplatňování empatie ve vztazích k druhým lidem 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Prosociální orientace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Zaujímání sociální perspektivy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Respekt k oprávněným zájmům druhých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E131-9682-4FE1-AB9C-91E31E9CC9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4640" y="981000"/>
            <a:ext cx="882972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2.</a:t>
            </a:r>
            <a:br>
              <a:rPr sz="4800"/>
            </a:b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Sociokulturní podmínky </a:t>
            </a:r>
            <a:br>
              <a:rPr sz="4800"/>
            </a:b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etické kultury osobnosti</a:t>
            </a:r>
            <a:br>
              <a:rPr sz="48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širší podmínky života („duch doby“)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odinná situace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ozice dítěte v rodině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A653-9C31-4430-A763-F534E1EFBC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86421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Jeden z největších světových historiků </a:t>
            </a:r>
            <a:br>
              <a:rPr sz="2800"/>
            </a:b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Edward Gibbon (1737-1794)</a:t>
            </a:r>
            <a:r>
              <a:rPr b="1" lang="en-US" sz="3600" spc="-1" strike="noStrike">
                <a:solidFill>
                  <a:srgbClr val="cccc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uvádí následujících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pět hlavních příčin rozkladu a pádu římské civilizace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2997000"/>
            <a:ext cx="8496000" cy="31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Zhroucení rodinné struktury,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Oslabení smyslu pro osobní zodpovědnost,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Nadměrné daně, striktní řízení a vládní intervence,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Vyhledávání takových zábav, které se stávaly stále více  hedonistickými, násilnými a nemorálními,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Úpadek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náboženství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D924-8867-457B-8B02-7E69C1701A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836280"/>
            <a:ext cx="821844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Times New Roman"/>
              </a:rPr>
              <a:t>M. Gándhí pranýřoval</a:t>
            </a: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ccccff"/>
                </a:solidFill>
                <a:latin typeface="Times New Roman"/>
              </a:rPr>
              <a:t>sedm moderních sociálních hříchů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569080" cy="40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ku bez principů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dnikání bez morálky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hatství bez práce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ýchovu bez charakteru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ědu bez lidskosti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žitek bez svědomí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áboženství bez sebekáznění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021D-AD73-4E8F-9D68-246F622D84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8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Sdružené prostřed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5000" y="1844280"/>
            <a:ext cx="8896320" cy="440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Už Antifonés konstatoval, že </a:t>
            </a: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„Prostředí, kde se člověk zdržuje většinu dne, určuje jeho charakter.“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Ve školní výchově se málo bere v úvahu úloha citové vazby (attachemen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Pozice dítěte v rodině, workoholismus rodičů, partnerské kriz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Chudoba, sociální zanedbanost vedou k morálním dilematům -  zakomplexovanosti,  sklonu krást, závidět, šikanovat, ale i k apatii a sociální necitliv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2B4C-0E1C-4A37-9FCD-05BD614CAC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64072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rovnání nejčastějších přestupků dětí a dospívajících </a:t>
            </a: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ve veřejných školách USA </a:t>
            </a: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na konci třicátých a na konci osmdesátých let 20. sto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4032360" cy="404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194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luvení bez přihlášen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Žvýkání žvýkačk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Hlučen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Pobíhání po chodbá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Předbíhán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Nedodržování  předepsaného oblečen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Znečišťování prostor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240" y="2205000"/>
            <a:ext cx="4010040" cy="38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1990 - 200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Používání mobilu k hraní h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Užívání drog, pití alkohol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ěhotenství nezletilých díve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Sebevražd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Znásilněn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Krádež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ěžké ublížení na zdrav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erorismus, agrese a násil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F89B-F7C1-4F9D-A86A-B5DA099E16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16:55:10Z</dcterms:created>
  <dc:creator>Prof. PhDr. Vladimír Smékal</dc:creator>
  <dc:description/>
  <dc:language>en-US</dc:language>
  <cp:lastModifiedBy>rauchova</cp:lastModifiedBy>
  <dcterms:modified xsi:type="dcterms:W3CDTF">2009-06-12T10:15:54Z</dcterms:modified>
  <cp:revision>35</cp:revision>
  <dc:subject/>
  <dc:title>Psychologie osobnosti  ve  výchově a vedení lidí</dc:title>
</cp:coreProperties>
</file>